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gif" ContentType="image/gif"/>
  <Override PartName="/ppt/media/image4.jpeg" ContentType="image/jpeg"/>
  <Override PartName="/ppt/media/image5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274400" y="1091880"/>
            <a:ext cx="4786200" cy="39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1136520" y="5408280"/>
            <a:ext cx="5065920" cy="435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body"/>
          </p:nvPr>
        </p:nvSpPr>
        <p:spPr>
          <a:xfrm>
            <a:off x="1136520" y="5408280"/>
            <a:ext cx="5073840" cy="43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1136520" y="5408280"/>
            <a:ext cx="5073840" cy="43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body"/>
          </p:nvPr>
        </p:nvSpPr>
        <p:spPr>
          <a:xfrm>
            <a:off x="1136520" y="5408280"/>
            <a:ext cx="5073840" cy="43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body"/>
          </p:nvPr>
        </p:nvSpPr>
        <p:spPr>
          <a:xfrm>
            <a:off x="1136520" y="5408280"/>
            <a:ext cx="5073840" cy="43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309680" y="1027080"/>
            <a:ext cx="49356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1136520" y="5408280"/>
            <a:ext cx="5073840" cy="43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309680" y="1027080"/>
            <a:ext cx="49356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body"/>
          </p:nvPr>
        </p:nvSpPr>
        <p:spPr>
          <a:xfrm>
            <a:off x="1136520" y="5408280"/>
            <a:ext cx="5073840" cy="43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309680" y="1027080"/>
            <a:ext cx="49356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1136520" y="5408280"/>
            <a:ext cx="5073840" cy="43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309680" y="1027080"/>
            <a:ext cx="49356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body"/>
          </p:nvPr>
        </p:nvSpPr>
        <p:spPr>
          <a:xfrm>
            <a:off x="1136520" y="5408280"/>
            <a:ext cx="5073840" cy="43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309680" y="1027080"/>
            <a:ext cx="49356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body"/>
          </p:nvPr>
        </p:nvSpPr>
        <p:spPr>
          <a:xfrm>
            <a:off x="1136520" y="5408280"/>
            <a:ext cx="5073840" cy="43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309680" y="1027080"/>
            <a:ext cx="49356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body"/>
          </p:nvPr>
        </p:nvSpPr>
        <p:spPr>
          <a:xfrm>
            <a:off x="1136520" y="5408280"/>
            <a:ext cx="5073840" cy="43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309680" y="1027080"/>
            <a:ext cx="49356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body"/>
          </p:nvPr>
        </p:nvSpPr>
        <p:spPr>
          <a:xfrm>
            <a:off x="1136520" y="5408280"/>
            <a:ext cx="5073840" cy="43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1136520" y="5408280"/>
            <a:ext cx="5073840" cy="43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309680" y="1027080"/>
            <a:ext cx="49356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body"/>
          </p:nvPr>
        </p:nvSpPr>
        <p:spPr>
          <a:xfrm>
            <a:off x="1136520" y="5408280"/>
            <a:ext cx="5073840" cy="43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309680" y="1027080"/>
            <a:ext cx="49356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body"/>
          </p:nvPr>
        </p:nvSpPr>
        <p:spPr>
          <a:xfrm>
            <a:off x="1136520" y="5408280"/>
            <a:ext cx="5073840" cy="43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309680" y="1027080"/>
            <a:ext cx="49356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body"/>
          </p:nvPr>
        </p:nvSpPr>
        <p:spPr>
          <a:xfrm>
            <a:off x="1136520" y="5408280"/>
            <a:ext cx="5073840" cy="43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309680" y="1027080"/>
            <a:ext cx="49356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body"/>
          </p:nvPr>
        </p:nvSpPr>
        <p:spPr>
          <a:xfrm>
            <a:off x="1136520" y="5408280"/>
            <a:ext cx="5073840" cy="43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274760" y="1092240"/>
            <a:ext cx="4800600" cy="393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body"/>
          </p:nvPr>
        </p:nvSpPr>
        <p:spPr>
          <a:xfrm>
            <a:off x="1136520" y="5408280"/>
            <a:ext cx="5073840" cy="43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body"/>
          </p:nvPr>
        </p:nvSpPr>
        <p:spPr>
          <a:xfrm>
            <a:off x="1136520" y="5408280"/>
            <a:ext cx="5073840" cy="43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1136520" y="5408280"/>
            <a:ext cx="5073840" cy="43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1136520" y="5408280"/>
            <a:ext cx="5073840" cy="43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body"/>
          </p:nvPr>
        </p:nvSpPr>
        <p:spPr>
          <a:xfrm>
            <a:off x="1136520" y="5408280"/>
            <a:ext cx="5073840" cy="43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body"/>
          </p:nvPr>
        </p:nvSpPr>
        <p:spPr>
          <a:xfrm>
            <a:off x="1136520" y="5408280"/>
            <a:ext cx="5073840" cy="43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body"/>
          </p:nvPr>
        </p:nvSpPr>
        <p:spPr>
          <a:xfrm>
            <a:off x="1136520" y="5408280"/>
            <a:ext cx="5073840" cy="43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body"/>
          </p:nvPr>
        </p:nvSpPr>
        <p:spPr>
          <a:xfrm>
            <a:off x="1136520" y="5408280"/>
            <a:ext cx="5073840" cy="43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41240" y="580680"/>
            <a:ext cx="8593200" cy="13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593200" cy="226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741240" y="4582080"/>
            <a:ext cx="8593200" cy="226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41240" y="580680"/>
            <a:ext cx="8593200" cy="13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4193280" cy="226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44400" y="2101680"/>
            <a:ext cx="4193280" cy="226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41240" y="4582080"/>
            <a:ext cx="4193280" cy="226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44400" y="4582080"/>
            <a:ext cx="4193280" cy="226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41240" y="580680"/>
            <a:ext cx="8593200" cy="13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2766600" cy="226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46440" y="2101680"/>
            <a:ext cx="2766600" cy="226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52000" y="2101680"/>
            <a:ext cx="2766600" cy="226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741240" y="4582080"/>
            <a:ext cx="2766600" cy="226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646440" y="4582080"/>
            <a:ext cx="2766600" cy="226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552000" y="4582080"/>
            <a:ext cx="2766600" cy="226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41240" y="580680"/>
            <a:ext cx="8593200" cy="13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741240" y="2101680"/>
            <a:ext cx="8593200" cy="474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1240" y="580680"/>
            <a:ext cx="8593200" cy="13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593200" cy="474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1240" y="580680"/>
            <a:ext cx="8593200" cy="13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4193280" cy="474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44400" y="2101680"/>
            <a:ext cx="4193280" cy="474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41240" y="580680"/>
            <a:ext cx="8593200" cy="13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41240" y="580680"/>
            <a:ext cx="8593200" cy="627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1240" y="580680"/>
            <a:ext cx="8593200" cy="13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4193280" cy="226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44400" y="2101680"/>
            <a:ext cx="4193280" cy="474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741240" y="4582080"/>
            <a:ext cx="4193280" cy="226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1240" y="580680"/>
            <a:ext cx="8593200" cy="13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4193280" cy="474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44400" y="2101680"/>
            <a:ext cx="4193280" cy="226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44400" y="4582080"/>
            <a:ext cx="4193280" cy="226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41240" y="580680"/>
            <a:ext cx="8593200" cy="13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4193280" cy="226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44400" y="2101680"/>
            <a:ext cx="4193280" cy="226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41240" y="4582080"/>
            <a:ext cx="8593200" cy="226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a64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1240" y="580680"/>
            <a:ext cx="8593200" cy="13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1240" y="2101680"/>
            <a:ext cx="8593200" cy="474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462800" y="4829040"/>
            <a:ext cx="2616120" cy="2548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mailto:Tie@fligel.org" TargetMode="External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a64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539280"/>
            <a:ext cx="9070920" cy="66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355e00"/>
                </a:solidFill>
                <a:latin typeface="Tahoma"/>
              </a:rPr>
              <a:t>Проектная работа педагога</a:t>
            </a:r>
            <a:br>
              <a:rPr sz="4800"/>
            </a:br>
            <a:r>
              <a:rPr b="1" lang="ru-RU" sz="4800" spc="-1" strike="noStrike">
                <a:solidFill>
                  <a:srgbClr val="355e00"/>
                </a:solidFill>
                <a:latin typeface="Tahoma"/>
              </a:rPr>
              <a:t>или педагогический проект</a:t>
            </a:r>
            <a:br>
              <a:rPr sz="4800"/>
            </a:b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(далее ПП)</a:t>
            </a:r>
            <a:br>
              <a:rPr sz="4800"/>
            </a:br>
            <a:br>
              <a:rPr sz="48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втор-составитель Ермолаева Т.И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39640" y="360360"/>
            <a:ext cx="2880000" cy="19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a64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2920" y="-829080"/>
            <a:ext cx="9577440" cy="86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7. Сроки промежуточного анализа и  корректировки проекта на всех этапах  создания проекта;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8. Предполагаемые перспективы развития и распространения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2920" y="360000"/>
            <a:ext cx="9070920" cy="639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790640" y="539640"/>
            <a:ext cx="6554880" cy="12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3deb3d"/>
                </a:solidFill>
                <a:latin typeface="Tahoma"/>
              </a:rPr>
              <a:t>Этапы проектировани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a64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2920" y="-829080"/>
            <a:ext cx="9577440" cy="86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1. Исследовательская работа предусматривает гипотезу и ее доказательство в работе. Проектная работа может только выдвинуть гипотезу, но доказательство будет уже в иной отчетной работе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2. Экспериментальная или пилотная работа предусматривает описание эксперимента и  научный отчет по его осуществлению: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3. Реферат – это выражение собственной оценки, позиции по отношению к какому-либо  исследованному источнику (работе)</a:t>
            </a:r>
            <a:br>
              <a:rPr sz="2800"/>
            </a:br>
            <a:br>
              <a:rPr sz="28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2920" y="360000"/>
            <a:ext cx="9070920" cy="639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60360" y="539640"/>
            <a:ext cx="9505800" cy="12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3deb3d"/>
                </a:solidFill>
                <a:latin typeface="Tahoma"/>
              </a:rPr>
              <a:t>Отличие проекта от исследовательской, пилотной, экспериментальной, реферативной и др. форм педагогических работ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a64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2200" y="-271440"/>
            <a:ext cx="9577440" cy="738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3deb3d"/>
                </a:solidFill>
                <a:latin typeface="Tahoma"/>
              </a:rPr>
              <a:t>Приоритетное  направление   -   педагогика фасилитации (сотрудничества, эффективности человека при взаимодействии):</a:t>
            </a:r>
            <a:br>
              <a:rPr sz="4000"/>
            </a:br>
            <a:r>
              <a:rPr b="1" lang="ru-RU" sz="2400" spc="-1" strike="noStrike">
                <a:solidFill>
                  <a:srgbClr val="004a4a"/>
                </a:solidFill>
                <a:latin typeface="Tahoma"/>
              </a:rPr>
              <a:t>1. ·Основной акцент делается на организацию </a:t>
            </a:r>
            <a:r>
              <a:rPr b="1" lang="ru-RU" sz="2400" spc="-1" strike="noStrike" u="sng">
                <a:solidFill>
                  <a:srgbClr val="004a4a"/>
                </a:solidFill>
                <a:uFillTx/>
                <a:latin typeface="Tahoma"/>
              </a:rPr>
              <a:t>активных видов деятельности;</a:t>
            </a:r>
            <a:br>
              <a:rPr sz="2400"/>
            </a:br>
            <a:r>
              <a:rPr b="1" lang="ru-RU" sz="2400" spc="-1" strike="noStrike">
                <a:solidFill>
                  <a:srgbClr val="004a4a"/>
                </a:solidFill>
                <a:latin typeface="Tahoma"/>
              </a:rPr>
              <a:t>2.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реподаватель не просто передает учебную информацию, а выступает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ahoma"/>
              </a:rPr>
              <a:t>в роли педагога-менеджера и режиссера обучения,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готового предложить минимально необходимый комплект средств обучения;</a:t>
            </a:r>
            <a:br>
              <a:rPr sz="2400"/>
            </a:br>
            <a:r>
              <a:rPr b="1" lang="ru-RU" sz="2400" spc="-1" strike="noStrike">
                <a:solidFill>
                  <a:srgbClr val="004a4a"/>
                </a:solidFill>
                <a:latin typeface="Tahoma"/>
              </a:rPr>
              <a:t>3. Приоритетное внимание уделяется организации </a:t>
            </a:r>
            <a:r>
              <a:rPr b="1" lang="ru-RU" sz="2400" spc="-1" strike="noStrike" u="sng">
                <a:solidFill>
                  <a:srgbClr val="004a4a"/>
                </a:solidFill>
                <a:uFillTx/>
                <a:latin typeface="Tahoma"/>
              </a:rPr>
              <a:t>самостоятельности обучающихся;</a:t>
            </a:r>
            <a:br>
              <a:rPr sz="2400"/>
            </a:br>
            <a:r>
              <a:rPr b="1" lang="ru-RU" sz="2400" spc="-1" strike="noStrike">
                <a:solidFill>
                  <a:srgbClr val="004a4a"/>
                </a:solidFill>
                <a:latin typeface="Tahoma"/>
              </a:rPr>
              <a:t>4.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ahoma"/>
              </a:rPr>
              <a:t>Обучаемый выступает в качестве субъекта деятельности</a:t>
            </a:r>
            <a:br>
              <a:rPr sz="2400"/>
            </a:br>
            <a:r>
              <a:rPr b="1" lang="ru-RU" sz="2400" spc="-1" strike="noStrike" u="sng">
                <a:solidFill>
                  <a:srgbClr val="000000"/>
                </a:solidFill>
                <a:uFillTx/>
                <a:latin typeface="Tahoma"/>
              </a:rPr>
              <a:t>5.  Ассертивное поведение</a:t>
            </a:r>
            <a:r>
              <a:rPr b="1" lang="ru-RU" sz="2400" spc="-1" strike="noStrike">
                <a:solidFill>
                  <a:srgbClr val="004a4a"/>
                </a:solidFill>
                <a:latin typeface="Tahoma"/>
              </a:rPr>
              <a:t>  - принятие на себя ответственности за собственное поведение,  демонстрирует самоуважение  и уважение к другим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78920" y="441360"/>
            <a:ext cx="9070920" cy="585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a64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20360" y="-224280"/>
            <a:ext cx="9069480" cy="130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ff00"/>
                </a:solidFill>
                <a:latin typeface="Tahoma"/>
              </a:rPr>
              <a:t>Структура проект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720720"/>
            <a:ext cx="9180720" cy="66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004a4a"/>
                </a:solidFill>
                <a:latin typeface="Times New Roman"/>
              </a:rPr>
              <a:t>Вводная часть или пояснительная записка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актуальность, краткое описание проблемы, необходимость вводимого новшества, анализ существующих  в наличие средств и ресурсов для осуществления проекта, история вопроса, нормативно-правовая база,  и др.);</a:t>
            </a:r>
            <a:endParaRPr b="0" lang="en-US" sz="24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ru-RU" sz="2800" spc="-1" strike="noStrike">
                <a:solidFill>
                  <a:srgbClr val="004a4a"/>
                </a:solidFill>
                <a:latin typeface="Times New Roman"/>
              </a:rPr>
              <a:t>Основная часть: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основные понятия,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цели, задачи, направления деятельности, описание  инновационной модели  (через функции, содержание и др. составляющие), механизмы осуществления проекта, ресурсное обеспечение  создания и реализации проекта, план реализации, сроки и  этапность;</a:t>
            </a:r>
            <a:endParaRPr b="0" lang="en-US" sz="24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4a4a"/>
                </a:solidFill>
                <a:latin typeface="Times New Roman"/>
              </a:rPr>
              <a:t>Итоговая  часть: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едполагаемые результаты, формы и методы отслеживания  результатов, используемая  литература, прилагаемые документы и положения для иллюстрации каких-либо  проектных материалов,  (отзывы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a64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280" y="-224280"/>
            <a:ext cx="9069480" cy="130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4a4a"/>
                </a:solidFill>
                <a:latin typeface="Tahoma"/>
              </a:rPr>
              <a:t>Примерные темы проектов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52400" y="720720"/>
            <a:ext cx="8607600" cy="66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.  Охрана и укрепление здоровья обучающихся и педагогов в ….</a:t>
            </a:r>
            <a:endParaRPr b="0" lang="en-US" sz="28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. Психолого-педагогическое диагностирование личностных качеств обучающихся (класса, группы и т.п.)..</a:t>
            </a:r>
            <a:endParaRPr b="0" lang="en-US" sz="28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. Индивидуальный образовательный маршрут обучающегося...</a:t>
            </a:r>
            <a:endParaRPr b="0" lang="en-US" sz="28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4. Компьютеризация педагогического мониторинга...</a:t>
            </a:r>
            <a:endParaRPr b="0" lang="en-US" sz="28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5. Развитие самостоятельности обучающихся через...</a:t>
            </a:r>
            <a:endParaRPr b="0" lang="en-US" sz="28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6. Развитие универсальных способностей обучающихся в рамках....</a:t>
            </a:r>
            <a:endParaRPr b="0" lang="en-US" sz="28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a64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9280" y="-224280"/>
            <a:ext cx="9069480" cy="130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4a4a"/>
                </a:solidFill>
                <a:latin typeface="Tahoma"/>
              </a:rPr>
              <a:t>Примерные темы проектов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52400" y="720720"/>
            <a:ext cx="8607600" cy="723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7.  Формирование комфортной образовательной (воспитательной) среды  в классе, детском объединении  (на уроке, занятии)....</a:t>
            </a:r>
            <a:endParaRPr b="0" lang="en-US" sz="28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8. Развитие творческих способностей обучающихся  в процессе преподавания предмета​, курса...</a:t>
            </a:r>
            <a:endParaRPr b="0" lang="en-US" sz="28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9. Дистанционное обучение....</a:t>
            </a:r>
            <a:endParaRPr b="0" lang="en-US" sz="28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0. Интегративные уроки (занятия): механизмы, особенности, проблемы ...</a:t>
            </a:r>
            <a:endParaRPr b="0" lang="en-US" sz="28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1. Работа с одаренными детьми  на уроке (в рамках предмета, курса)... поддержка детей с особыми образовательными потребностями</a:t>
            </a:r>
            <a:endParaRPr b="0" lang="en-US" sz="28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a64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9280" y="-224280"/>
            <a:ext cx="9069480" cy="130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4a4a"/>
                </a:solidFill>
                <a:latin typeface="Tahoma"/>
              </a:rPr>
              <a:t>Примерные темы проектов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52040" y="720720"/>
            <a:ext cx="9147240" cy="766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2. Внедрение  технологии (развивающего обучения, компетентностного образования, проектных и исследовательских умений,  здоровьесберегающей образовательной среды, «кластери»,  метода кейсов, профильного обучения, поликультурного образования  и др.) в образовательный процесс ….предмета  .... возраста обучающихся для …</a:t>
            </a:r>
            <a:endParaRPr b="0" lang="en-US" sz="28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3. Создание системы:</a:t>
            </a:r>
            <a:endParaRPr b="0" lang="en-US" sz="28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  предшкольного (дошкольного) образования;</a:t>
            </a:r>
            <a:endParaRPr b="0" lang="en-US" sz="28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  гражданско-патриотического воспитания;</a:t>
            </a:r>
            <a:endParaRPr b="0" lang="en-US" sz="28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 экологического образования и др. </a:t>
            </a:r>
            <a:endParaRPr b="0" lang="en-US" sz="28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4. Использование накопительной системы оценки (достижений) обучающихся (портфолио)</a:t>
            </a:r>
            <a:endParaRPr b="0" lang="en-US" sz="28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a64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02920" y="279360"/>
            <a:ext cx="9069480" cy="13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Оформление работ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40880" y="1260000"/>
            <a:ext cx="8618760" cy="718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Титульный лист: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(верхняя часть листа: название учреждения, (организации), где работает обучающийся и название учреждения на базе которого разрабатывается проект)</a:t>
            </a:r>
            <a:endParaRPr b="0" lang="en-US" sz="26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2. 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Середина листа: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Итоговая проектная работа по теме: «Методическое сопровождение  дистанционного обучения по программе детского объединения «Кройка и шитье»</a:t>
            </a:r>
            <a:endParaRPr b="0" lang="en-US" sz="26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3. 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Ниже темы, правая часть: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автор проекта: Иванова Светлана Ивановна, консультант -  Петрова Т.П.; </a:t>
            </a:r>
            <a:endParaRPr b="0" lang="en-US" sz="26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4. 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Нижняя часть листа: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год и место создание проекта</a:t>
            </a:r>
            <a:endParaRPr b="0" lang="en-US" sz="26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a64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2920" y="178920"/>
            <a:ext cx="9069480" cy="13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Основные критерии  оценки ПП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20720" y="1401840"/>
            <a:ext cx="8818560" cy="56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1. Реальность  и актуальность  проекта;</a:t>
            </a:r>
            <a:endParaRPr b="0" lang="en-US" sz="36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. Оптимальность содержания проекта, логика, алгоритм его осуществления;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. Выбор наиболее эффективных и рациональных форм,</a:t>
            </a: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пособов, средств по  его созданию и реализации;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a64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2920" y="178920"/>
            <a:ext cx="9069480" cy="13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Основные критерии оценки ПП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20720" y="1401840"/>
            <a:ext cx="8818560" cy="56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4. Инновационность используемых форм, методов, идей, содержательных компонентов;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5. Доступность и грамотный стиль изложения;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6.  Практико</a:t>
            </a: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риентированность (возможность внедрения);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7. Умение защитить данный проект 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619360" y="5940360"/>
            <a:ext cx="2779560" cy="90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a64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2920" y="539280"/>
            <a:ext cx="9577440" cy="66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77fb2d"/>
                </a:solidFill>
                <a:latin typeface="Tahoma"/>
              </a:rPr>
              <a:t>Педагогическое проектирование</a:t>
            </a:r>
            <a:r>
              <a:rPr b="1" lang="ru-RU" sz="4800" spc="-1" strike="noStrike">
                <a:solidFill>
                  <a:srgbClr val="355e00"/>
                </a:solidFill>
                <a:latin typeface="Tahoma"/>
              </a:rPr>
              <a:t> - </a:t>
            </a:r>
            <a:br>
              <a:rPr sz="4800"/>
            </a:br>
            <a:r>
              <a:rPr b="1" lang="ru-RU" sz="4800" spc="-1" strike="noStrike">
                <a:solidFill>
                  <a:srgbClr val="355e00"/>
                </a:solidFill>
                <a:latin typeface="Tahoma"/>
              </a:rPr>
              <a:t>это высший уровень профессиональной деятельности в педагогике, проявляющийся в творчестве учителя</a:t>
            </a:r>
            <a:r>
              <a:rPr b="1" lang="en-US" sz="4800" spc="-1" strike="noStrike">
                <a:solidFill>
                  <a:srgbClr val="355e00"/>
                </a:solidFill>
                <a:latin typeface="Tahoma"/>
              </a:rPr>
              <a:t> (</a:t>
            </a:r>
            <a:r>
              <a:rPr b="1" lang="ru-RU" sz="4800" spc="-1" strike="noStrike">
                <a:solidFill>
                  <a:srgbClr val="355e00"/>
                </a:solidFill>
                <a:latin typeface="Tahoma"/>
              </a:rPr>
              <a:t>педагога</a:t>
            </a:r>
            <a:r>
              <a:rPr b="1" lang="en-US" sz="4800" spc="-1" strike="noStrike">
                <a:solidFill>
                  <a:srgbClr val="355e00"/>
                </a:solidFill>
                <a:latin typeface="Tahoma"/>
              </a:rPr>
              <a:t>)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a64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2920" y="178920"/>
            <a:ext cx="9069480" cy="13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Основные ошибки при создании  программ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9280" y="499680"/>
            <a:ext cx="9069480" cy="66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. Нет сносок на  источники;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.  Используются уже выполненные работы и преподносятся как проектные. Необходимо учесть, что проект — будущая модель чего-то, предстоящее дело (продукт),  это не отчет о проделанной работе  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995400" y="4859280"/>
            <a:ext cx="3505320" cy="221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a64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2920" y="178920"/>
            <a:ext cx="9069480" cy="13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Использование  глагольных существительных в теме проекта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9280" y="1403280"/>
            <a:ext cx="9069480" cy="57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зработка (создание), </a:t>
            </a:r>
            <a:endParaRPr b="0" lang="en-US" sz="20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апробация (реализация), </a:t>
            </a:r>
            <a:endParaRPr b="0" lang="en-US" sz="20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внедрение, </a:t>
            </a:r>
            <a:endParaRPr b="0" lang="en-US" sz="20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формирование,</a:t>
            </a:r>
            <a:endParaRPr b="0" lang="en-US" sz="20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развитие;</a:t>
            </a:r>
            <a:endParaRPr b="0" lang="en-US" sz="20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осуществление;</a:t>
            </a:r>
            <a:endParaRPr b="0" lang="en-US" sz="20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профилактика;</a:t>
            </a:r>
            <a:endParaRPr b="0" lang="en-US" sz="20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создание условий;</a:t>
            </a:r>
            <a:endParaRPr b="0" lang="en-US" sz="20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-33372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-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сследовательский проект как… и др. </a:t>
            </a:r>
            <a:endParaRPr b="0" lang="en-US" sz="20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a64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02920" y="178920"/>
            <a:ext cx="9069480" cy="13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ЦЕЛЬ – ее разработка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9280" y="499680"/>
            <a:ext cx="9069480" cy="66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Цель ориентирована на следующие требования и критерии:</a:t>
            </a:r>
            <a:endParaRPr b="0" lang="en-US" sz="28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предполагает формирование или развитие качеств (характеристик) человека;</a:t>
            </a:r>
            <a:endParaRPr b="0" lang="en-US" sz="24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легко диагностируется;</a:t>
            </a:r>
            <a:endParaRPr b="0" lang="en-US" sz="24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предусматривает объект преобразований;</a:t>
            </a:r>
            <a:endParaRPr b="0" lang="en-US" sz="24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предусматривает этап преобразования (т.е. разработка, апробация, внедрение, этап социально-значимого тиражирования опыта и др.);</a:t>
            </a:r>
            <a:endParaRPr b="0" lang="en-US" sz="24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конкретика формулировок ( цель в определенном времени, месте, реальных условиях и др.)</a:t>
            </a:r>
            <a:endParaRPr b="0" lang="en-US" sz="24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a64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2920" y="178920"/>
            <a:ext cx="9069480" cy="13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ОЖИДАЕМЫЕ РЕЗУЛЬТАТ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280" y="1258560"/>
            <a:ext cx="906948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пользуемые слова:</a:t>
            </a:r>
            <a:endParaRPr b="0" lang="en-US" sz="24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-33372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-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едполагается рост….;</a:t>
            </a:r>
            <a:endParaRPr b="0" lang="en-US" sz="24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-33372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-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ложительная динамика….;</a:t>
            </a:r>
            <a:endParaRPr b="0" lang="en-US" sz="24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-33372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-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спешность обучающихся…;</a:t>
            </a:r>
            <a:endParaRPr b="0" lang="en-US" sz="24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-33372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-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обретение опыта…..;</a:t>
            </a:r>
            <a:endParaRPr b="0" lang="en-US" sz="24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обучающиеся освоят приемы (методы)…;</a:t>
            </a:r>
            <a:endParaRPr b="0" lang="en-US" sz="24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обучающиеся выполнят ….;</a:t>
            </a:r>
            <a:endParaRPr b="0" lang="en-US" sz="24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повысится уровень…;</a:t>
            </a:r>
            <a:endParaRPr b="0" lang="en-US" sz="24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умение  систематизировать, анализировать….</a:t>
            </a:r>
            <a:endParaRPr b="0" lang="en-US" sz="24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a64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41240" y="580680"/>
            <a:ext cx="8607600" cy="13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ahoma"/>
              </a:rPr>
              <a:t>Желаем успешной работы над проектом 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6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Руководитель и эксперт проектов — Ермолаева Татьяна Ивановна, ст. преподаватель кафедры  педагогики и психологи СИПКРО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Tie@fligel.org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198a8a"/>
                </a:solidFill>
                <a:latin typeface="Times New Roman"/>
              </a:rPr>
              <a:t>(846) 242 - 64 - 84 — среда, четверг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198a8a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198a8a"/>
                </a:solidFill>
                <a:latin typeface="Times New Roman"/>
              </a:rPr>
              <a:t>332-37-80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3600360" y="4916520"/>
            <a:ext cx="2879640" cy="210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a64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539280"/>
            <a:ext cx="9577440" cy="66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23ff23"/>
                </a:solidFill>
                <a:latin typeface="Tahoma"/>
              </a:rPr>
              <a:t>Проект </a:t>
            </a:r>
            <a:br>
              <a:rPr sz="4800"/>
            </a:br>
            <a:r>
              <a:rPr b="1" lang="ru-RU" sz="4800" spc="-1" strike="noStrike">
                <a:solidFill>
                  <a:srgbClr val="004a4a"/>
                </a:solidFill>
                <a:latin typeface="Tahoma"/>
              </a:rPr>
              <a:t> -  (от лат. projectus — брошенный вперед) это мысль  брошенная вперед</a:t>
            </a: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000" y="900000"/>
            <a:ext cx="9070920" cy="585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a64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9280" y="539280"/>
            <a:ext cx="9577440" cy="66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23ff23"/>
                </a:solidFill>
                <a:latin typeface="Tahoma"/>
              </a:rPr>
              <a:t>Проект </a:t>
            </a:r>
            <a:r>
              <a:rPr b="1" lang="ru-RU" sz="4800" spc="-1" strike="noStrike">
                <a:solidFill>
                  <a:srgbClr val="004a4a"/>
                </a:solidFill>
                <a:latin typeface="Tahoma"/>
              </a:rPr>
              <a:t> - это предварительный (предположительный) текст какого-либо документа, план, замысел</a:t>
            </a:r>
            <a:br>
              <a:rPr sz="4800"/>
            </a:br>
            <a:r>
              <a:rPr b="1" lang="ru-RU" sz="2600" spc="-1" strike="noStrike">
                <a:solidFill>
                  <a:srgbClr val="004a4a"/>
                </a:solidFill>
                <a:latin typeface="Tahoma"/>
              </a:rPr>
              <a:t>(Толковый словарь обществоведческих  терминов)</a:t>
            </a:r>
            <a:r>
              <a:rPr b="1" lang="ru-RU" sz="4800" spc="-1" strike="noStrike">
                <a:solidFill>
                  <a:srgbClr val="004a4a"/>
                </a:solidFill>
                <a:latin typeface="Tahoma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000" y="900000"/>
            <a:ext cx="9070920" cy="585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a64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539280"/>
            <a:ext cx="9577440" cy="66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23ff23"/>
                </a:solidFill>
                <a:latin typeface="Tahoma"/>
              </a:rPr>
              <a:t>Проект </a:t>
            </a:r>
            <a:r>
              <a:rPr b="1" lang="ru-RU" sz="4800" spc="-1" strike="noStrike">
                <a:solidFill>
                  <a:srgbClr val="004a4a"/>
                </a:solidFill>
                <a:latin typeface="Tahoma"/>
              </a:rPr>
              <a:t> </a:t>
            </a:r>
            <a:br>
              <a:rPr sz="4800"/>
            </a:br>
            <a:r>
              <a:rPr b="1" lang="ru-RU" sz="4800" spc="-1" strike="noStrike">
                <a:solidFill>
                  <a:srgbClr val="004a4a"/>
                </a:solidFill>
                <a:latin typeface="Tahoma"/>
              </a:rPr>
              <a:t>- это деятельность по созданию (выработке, планированию, конструированию) какой-либо системы, объекта или модели</a:t>
            </a: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000" y="900000"/>
            <a:ext cx="9070920" cy="585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a64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280" y="-437040"/>
            <a:ext cx="9577440" cy="861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800"/>
            </a:br>
            <a:r>
              <a:rPr b="1" lang="ru-RU" sz="4800" spc="-1" strike="noStrike">
                <a:solidFill>
                  <a:srgbClr val="23ff23"/>
                </a:solidFill>
                <a:latin typeface="Tahoma"/>
              </a:rPr>
              <a:t>Какие </a:t>
            </a:r>
            <a:r>
              <a:rPr b="1" lang="ru-RU" sz="4800" spc="-1" strike="noStrike" u="sng">
                <a:solidFill>
                  <a:srgbClr val="23ff23"/>
                </a:solidFill>
                <a:uFillTx/>
                <a:latin typeface="Tahoma"/>
              </a:rPr>
              <a:t>направления деятельности </a:t>
            </a:r>
            <a:r>
              <a:rPr b="1" lang="ru-RU" sz="4800" spc="-1" strike="noStrike" u="sng">
                <a:solidFill>
                  <a:srgbClr val="008080"/>
                </a:solidFill>
                <a:uFillTx/>
                <a:latin typeface="Tahoma"/>
              </a:rPr>
              <a:t>(образовательные технологии)</a:t>
            </a:r>
            <a:r>
              <a:rPr b="1" lang="ru-RU" sz="4800" spc="-1" strike="noStrike" u="sng">
                <a:solidFill>
                  <a:srgbClr val="23ff23"/>
                </a:solidFill>
                <a:uFillTx/>
                <a:latin typeface="Tahoma"/>
              </a:rPr>
              <a:t> </a:t>
            </a:r>
            <a:r>
              <a:rPr b="1" lang="ru-RU" sz="4800" spc="-1" strike="noStrike">
                <a:solidFill>
                  <a:srgbClr val="23ff23"/>
                </a:solidFill>
                <a:latin typeface="Tahoma"/>
              </a:rPr>
              <a:t>на уровне развития образования региона, государства Вы могли бы выделить?</a:t>
            </a:r>
            <a:br>
              <a:rPr sz="48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(5  наиболее важных составляющих  обозначьте для себя, представьте)</a:t>
            </a:r>
            <a:r>
              <a:rPr b="1" lang="ru-RU" sz="4800" spc="-1" strike="noStrike">
                <a:solidFill>
                  <a:srgbClr val="004a4a"/>
                </a:solidFill>
                <a:latin typeface="Tahoma"/>
              </a:rPr>
              <a:t> </a:t>
            </a:r>
            <a:r>
              <a:rPr b="1" lang="ru-RU" sz="4800" spc="-1" strike="noStrike">
                <a:solidFill>
                  <a:srgbClr val="004a4a"/>
                </a:solidFill>
                <a:latin typeface="Tahoma"/>
              </a:rPr>
              <a:t> </a:t>
            </a: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000" y="900000"/>
            <a:ext cx="9070920" cy="585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a64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22200" y="34560"/>
            <a:ext cx="957744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3deb3d"/>
                </a:solidFill>
                <a:latin typeface="Tahoma"/>
              </a:rPr>
              <a:t>Этапы проектирования:</a:t>
            </a:r>
            <a:br>
              <a:rPr sz="4000"/>
            </a:br>
            <a:br>
              <a:rPr sz="4000"/>
            </a:br>
            <a:r>
              <a:rPr b="1" lang="ru-RU" sz="2800" spc="-1" strike="noStrike">
                <a:solidFill>
                  <a:srgbClr val="004a4a"/>
                </a:solidFill>
                <a:latin typeface="Tahoma"/>
              </a:rPr>
              <a:t>1. Анализ объекта и его ресурсов, выделение проблемы (чем мы недовольны, что нам мешает, что хотелось бы улучшить);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2. Замысел проекта (область, предмет преобразования, тема, цель, задачи, смысл проекта);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2920" y="900000"/>
            <a:ext cx="9070920" cy="585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a64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2200" y="34560"/>
            <a:ext cx="957744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3deb3d"/>
                </a:solidFill>
                <a:latin typeface="Tahoma"/>
              </a:rPr>
              <a:t>Этапы проектирования:</a:t>
            </a:r>
            <a:br>
              <a:rPr sz="4000"/>
            </a:br>
            <a:br>
              <a:rPr sz="4000"/>
            </a:br>
            <a:r>
              <a:rPr b="1" lang="ru-RU" sz="2800" spc="-1" strike="noStrike">
                <a:solidFill>
                  <a:srgbClr val="004a4a"/>
                </a:solidFill>
                <a:latin typeface="Tahoma"/>
              </a:rPr>
              <a:t>3.  Ядро проекта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(модель, понятийный аппарат,  ресурсы: аналитические, интеллектуальные, информационно-коммуникативные, рекламные, кадровые, научно-методические, материально-технические, финансово-экономические и др.); 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4a4a"/>
                </a:solidFill>
                <a:latin typeface="Tahoma"/>
              </a:rPr>
              <a:t>4. Сопутствующие средства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(участники; помощники, сроки, этапность, управление, критерии оценки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02920" y="900000"/>
            <a:ext cx="9070920" cy="585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a64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22200" y="-795240"/>
            <a:ext cx="9577440" cy="86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4a4a"/>
                </a:solidFill>
                <a:latin typeface="Tahoma"/>
              </a:rPr>
              <a:t>5. Процесс реализации: выбор методов </a:t>
            </a:r>
            <a:r>
              <a:rPr b="1" lang="ru-RU" sz="2200" spc="-1" strike="noStrike">
                <a:solidFill>
                  <a:srgbClr val="000000"/>
                </a:solidFill>
                <a:latin typeface="Tahoma"/>
              </a:rPr>
              <a:t>(теоретический анализ источников, изучение и обобщение педагогического опыта, наблюдение, беседа, анкетирование, тестирование,  сравнительно-исторический метод, метод теоретического моделирование, «мозговой штурм», «синектика», педагогический эксперимент и др.), </a:t>
            </a:r>
            <a:r>
              <a:rPr b="1" lang="ru-RU" sz="2800" spc="-1" strike="noStrike">
                <a:solidFill>
                  <a:srgbClr val="004a4a"/>
                </a:solidFill>
                <a:latin typeface="Tahoma"/>
              </a:rPr>
              <a:t>средств, содержаний, план реализации проекта);</a:t>
            </a:r>
            <a:br>
              <a:rPr sz="2200"/>
            </a:br>
            <a:br>
              <a:rPr sz="2800"/>
            </a:br>
            <a:r>
              <a:rPr b="1" lang="ru-RU" sz="2800" spc="-1" strike="noStrike">
                <a:solidFill>
                  <a:srgbClr val="004a4a"/>
                </a:solidFill>
                <a:latin typeface="Tahoma"/>
              </a:rPr>
              <a:t>6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1" lang="ru-RU" sz="2800" spc="-1" strike="noStrike">
                <a:solidFill>
                  <a:srgbClr val="004a4a"/>
                </a:solidFill>
                <a:latin typeface="Tahoma"/>
              </a:rPr>
              <a:t> Ожидаемые результаты: способы представления результатов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ahoma"/>
              </a:rPr>
              <a:t>(конкретный продукт, приобретенные качества,  выставка, видеофильм и т.п.)</a:t>
            </a:r>
            <a:r>
              <a:rPr b="1" lang="ru-RU" sz="2200" spc="-1" strike="noStrike">
                <a:solidFill>
                  <a:srgbClr val="004a4a"/>
                </a:solidFill>
                <a:latin typeface="Tahoma"/>
              </a:rPr>
              <a:t>,</a:t>
            </a:r>
            <a:r>
              <a:rPr b="1" lang="ru-RU" sz="2400" spc="-1" strike="noStrike">
                <a:solidFill>
                  <a:srgbClr val="004a4a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4a4a"/>
                </a:solidFill>
                <a:latin typeface="Tahoma"/>
              </a:rPr>
              <a:t>р</a:t>
            </a:r>
            <a:r>
              <a:rPr b="1" lang="ru-RU" sz="2800" spc="-1" strike="noStrike">
                <a:solidFill>
                  <a:srgbClr val="004a4a"/>
                </a:solidFill>
                <a:latin typeface="Tahoma"/>
              </a:rPr>
              <a:t>ефлексия, критерии оценки проекта;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360000"/>
            <a:ext cx="9070920" cy="639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725480" y="179280"/>
            <a:ext cx="6554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3deb3d"/>
                </a:solidFill>
                <a:latin typeface="Tahoma"/>
              </a:rPr>
              <a:t>Этапы проектировани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</cp:lastModifiedBy>
  <dcterms:modified xsi:type="dcterms:W3CDTF">2011-10-16T11:12:54Z</dcterms:modified>
  <cp:revision>17</cp:revision>
  <dc:subject/>
  <dc:title>Проектная работа педагога или педагогический проект (далее ПП)  Автор-составитель Ермолаева Т.И.‏</dc:title>
</cp:coreProperties>
</file>