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5639-1DBD-4362-A844-FF9146FC03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C116-3A84-4D81-9E2D-24EDDB332D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4AF5-FFA0-4D35-BE1E-F584CA6E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EAD3-781B-4D96-B605-75CBA7B5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BE74-7DE3-4AC3-9832-83E70157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8190-A212-4997-A234-98F1B1709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222C-8B0F-489D-BF5F-53C0A4DA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FDE9-86AF-4151-B7EB-07393C37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827F-9555-4C26-99FD-49768B23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E6C0-3ADA-4EA8-A780-719DBFD7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7A3A-9C25-4628-AEFC-CD109028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5AF7-6DFF-464F-9EF3-7EE455B8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ACD2-D28D-498C-B88D-EDC77423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B877-7333-4777-A4D8-607C8B34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39E4-8BE1-49C9-92D8-F19EC0AB87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137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9017280" cy="74916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145" descr=""/>
          <p:cNvPicPr/>
          <p:nvPr/>
        </p:nvPicPr>
        <p:blipFill>
          <a:blip r:embed="rId2"/>
          <a:stretch/>
        </p:blipFill>
        <p:spPr>
          <a:xfrm>
            <a:off x="1494000" y="2419200"/>
            <a:ext cx="6418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4360" y="1916280"/>
            <a:ext cx="763272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4360" y="2708280"/>
            <a:ext cx="7632720" cy="5047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84360" y="3357720"/>
            <a:ext cx="7632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5640" y="47401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зывают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рицательные эмо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рможение в восприяти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84360" y="4076640"/>
            <a:ext cx="763272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5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лияние фона на восприятие презентацио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8E9B-0BBE-4686-B653-21FD09006D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28760" y="1643040"/>
            <a:ext cx="850104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воды или 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ибли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ОСТ 7.05-2008 по    оформлению библиографических ссылок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6360" y="33336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57120" y="5000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E178-598B-4970-8FCC-B7CB0F51D2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1FCF-BCA1-47C1-AB70-A4CF7F5180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правильной работы презентации все вложенные файлы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документы, видео, звук и пр.)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размещайте в ту же папку, что и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вание папка соответствует  Ф.И.О.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исунки необходимо сжи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42392" t="8858" r="0" b="60162"/>
          <a:stretch/>
        </p:blipFill>
        <p:spPr>
          <a:xfrm>
            <a:off x="714240" y="5357880"/>
            <a:ext cx="4822920" cy="105228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3571920" y="5429160"/>
            <a:ext cx="720720" cy="71928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92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вание образовательного учреждения где выполнялась работа</a:t>
            </a:r>
            <a:br>
              <a:rPr sz="24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(название учреждения по уставу, размер шрифта – не менее 24 пт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14200" y="4643280"/>
            <a:ext cx="8642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Ф.И.О., занимаемая должность, почетные звания, ученая степ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автор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: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учный руководитель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занимаемая должность, почетные звания, ученая степень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размер шрифта – не менее 24 п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89480" y="2643120"/>
            <a:ext cx="7558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Times New Roman"/>
              </a:rPr>
              <a:t>Назва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е менее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28 пт, полужирный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точек, без кавыч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сопроводительного текста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71680" y="642960"/>
            <a:ext cx="79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титульн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F636-95C8-41FC-A160-06BB52F0EA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85880" y="150012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щий объём слайда – не более 15 строк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 слайдах поля, не менее 1 см с кажд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е слайды начиная со второго имеют нуме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63640" y="1916280"/>
            <a:ext cx="5380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Цели и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размер шрифта – не менее 24 п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28760" y="785880"/>
            <a:ext cx="799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втор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4AD8-6B8B-4663-AC40-7B73E09EC8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1916280"/>
            <a:ext cx="7777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мер шриф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Допустимый не менее 2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Рекомендуемый 24 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Желательно 3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14680" y="500040"/>
            <a:ext cx="59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500200" y="5429160"/>
            <a:ext cx="3786480" cy="550800"/>
          </a:xfrm>
          <a:prstGeom prst="rect">
            <a:avLst/>
          </a:prstGeom>
          <a:noFill/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А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C474-8687-4CC9-AF7C-22D5186BA9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тиль оформ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4240" y="4572000"/>
            <a:ext cx="3097440" cy="1944720"/>
          </a:xfrm>
          <a:prstGeom prst="rect">
            <a:avLst/>
          </a:prstGeom>
          <a:solidFill>
            <a:srgbClr val="ffff99">
              <a:alpha val="67000"/>
            </a:srgbClr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72040" y="4572000"/>
            <a:ext cx="3097080" cy="1944720"/>
          </a:xfrm>
          <a:prstGeom prst="rect">
            <a:avLst/>
          </a:prstGeom>
          <a:solidFill>
            <a:srgbClr val="660033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9F50-BB9F-4911-A74C-43CA73B29A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219640" y="4076640"/>
            <a:ext cx="3097440" cy="1944720"/>
          </a:xfrm>
          <a:prstGeom prst="rect">
            <a:avLst/>
          </a:prstGeom>
          <a:solidFill>
            <a:srgbClr val="ccff33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219640" y="1700280"/>
            <a:ext cx="3097440" cy="1944720"/>
          </a:xfrm>
          <a:prstGeom prst="rect">
            <a:avLst/>
          </a:prstGeom>
          <a:solidFill>
            <a:srgbClr val="3399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4005360"/>
            <a:ext cx="3097080" cy="1944720"/>
          </a:xfrm>
          <a:prstGeom prst="rect">
            <a:avLst/>
          </a:prstGeom>
          <a:solidFill>
            <a:srgbClr val="008000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1773360"/>
            <a:ext cx="3097080" cy="1944720"/>
          </a:xfrm>
          <a:prstGeom prst="rect">
            <a:avLst/>
          </a:prstGeom>
          <a:solidFill>
            <a:srgbClr val="333399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000240" y="2714760"/>
            <a:ext cx="3143520" cy="209520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9360">
            <a:solidFill>
              <a:srgbClr val="e1e1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Часто допускаемые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94200" y="314316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5ABA-9076-4522-A4DC-00779DFFAB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642960" y="1857240"/>
            <a:ext cx="792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 более 2 рисунков на одном слай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льзя совмещать статические и динамические рисунки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233855"/>
          <p:cNvPicPr/>
          <p:nvPr/>
        </p:nvPicPr>
        <p:blipFill>
          <a:blip r:embed="rId1"/>
          <a:stretch/>
        </p:blipFill>
        <p:spPr>
          <a:xfrm>
            <a:off x="5715000" y="3643200"/>
            <a:ext cx="2583000" cy="264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227"/>
          <p:cNvPicPr/>
          <p:nvPr/>
        </p:nvPicPr>
        <p:blipFill>
          <a:blip r:embed="rId2"/>
          <a:stretch/>
        </p:blipFill>
        <p:spPr>
          <a:xfrm>
            <a:off x="1857240" y="4500720"/>
            <a:ext cx="2089440" cy="16333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FF0B-D1B8-48D2-B078-0925ED2FB6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9831 C -0.08194 0.0805 -0.20503 0.06292 -0.23837 0.03077 C -0.2717 -0.00139 -0.18437 -0.0879 -0.15885 -0.09438 C -0.13333 -0.10086 -0.11458 -0.02336 -0.08542 -0.00763 C -0.05625 0.0081 -0.00833 0.00069 0.0158 0.00023 C 0.03993 -0.00023 0.04167 -0.00717 0.0592 -0.01087 C 0.07674 -0.01457 0.12014 -0.00648 0.12066 -0.02221 C 0.12118 -0.03794 0.075 -0.06685 0.06285 -0.10571 C 0.0507 -0.14458 0.05035 -0.20472 0.04722 -0.25492 C 0.0441 -0.30511 0.06458 -0.41268 0.04358 -0.40736 C 0.02257 -0.40204 -0.06649 -0.27897 -0.07934 -0.22276 C -0.09219 -0.16655 -0.02743 -0.11173 -0.03351 -0.07032 C -0.03958 -0.02892 -0.0776 -0.00162 -0.11545 0.02591 E">
                                      <p:cBhvr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357120" y="2000160"/>
            <a:ext cx="8286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се рисунки име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квозную нумерацию, название, при необходимости сопроводительный текст не более двух ст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500040" y="500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928800" y="5643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ис.11. Ядерная (планетарная) модель строения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1"/>
          <a:srcRect l="14286" t="0" r="10715" b="0"/>
          <a:stretch/>
        </p:blipFill>
        <p:spPr>
          <a:xfrm>
            <a:off x="4572000" y="3643200"/>
            <a:ext cx="300024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A688-0452-43B6-9262-F73E7AA1C0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1285920"/>
            <a:ext cx="54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 более трех цветов и неограниченное количество оттенков эти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571680" y="3571920"/>
            <a:ext cx="3786120" cy="2857320"/>
            <a:chOff x="571680" y="3571920"/>
            <a:chExt cx="3786120" cy="2857320"/>
          </a:xfrm>
        </p:grpSpPr>
        <p:sp>
          <p:nvSpPr>
            <p:cNvPr id="89" name="Прямоугольник 12"/>
            <p:cNvSpPr/>
            <p:nvPr/>
          </p:nvSpPr>
          <p:spPr>
            <a:xfrm>
              <a:off x="571680" y="3571920"/>
              <a:ext cx="3786120" cy="285732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Группа 13"/>
            <p:cNvGrpSpPr/>
            <p:nvPr/>
          </p:nvGrpSpPr>
          <p:grpSpPr>
            <a:xfrm>
              <a:off x="928800" y="3857400"/>
              <a:ext cx="3214800" cy="2356920"/>
              <a:chOff x="928800" y="3857400"/>
              <a:chExt cx="3214800" cy="2356920"/>
            </a:xfrm>
          </p:grpSpPr>
          <p:sp>
            <p:nvSpPr>
              <p:cNvPr id="91" name="Прямоугольник 10"/>
              <p:cNvSpPr/>
              <p:nvPr/>
            </p:nvSpPr>
            <p:spPr>
              <a:xfrm>
                <a:off x="928800" y="3857400"/>
                <a:ext cx="2071800" cy="150012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оугольник 11"/>
              <p:cNvSpPr/>
              <p:nvPr/>
            </p:nvSpPr>
            <p:spPr>
              <a:xfrm>
                <a:off x="2143080" y="4642920"/>
                <a:ext cx="2000520" cy="157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Группа 21"/>
          <p:cNvGrpSpPr/>
          <p:nvPr/>
        </p:nvGrpSpPr>
        <p:grpSpPr>
          <a:xfrm>
            <a:off x="4714920" y="3500280"/>
            <a:ext cx="3786120" cy="2857680"/>
            <a:chOff x="4714920" y="3500280"/>
            <a:chExt cx="3786120" cy="2857680"/>
          </a:xfrm>
        </p:grpSpPr>
        <p:sp>
          <p:nvSpPr>
            <p:cNvPr id="94" name="Прямоугольник 14"/>
            <p:cNvSpPr/>
            <p:nvPr/>
          </p:nvSpPr>
          <p:spPr>
            <a:xfrm>
              <a:off x="4714920" y="3500280"/>
              <a:ext cx="3786120" cy="2857680"/>
            </a:xfrm>
            <a:prstGeom prst="rect">
              <a:avLst/>
            </a:prstGeom>
            <a:solidFill>
              <a:srgbClr val="006600">
                <a:alpha val="78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Группа 20"/>
            <p:cNvGrpSpPr/>
            <p:nvPr/>
          </p:nvGrpSpPr>
          <p:grpSpPr>
            <a:xfrm>
              <a:off x="5000400" y="3785760"/>
              <a:ext cx="3214800" cy="2286000"/>
              <a:chOff x="5000400" y="3785760"/>
              <a:chExt cx="3214800" cy="2286000"/>
            </a:xfrm>
          </p:grpSpPr>
          <p:sp>
            <p:nvSpPr>
              <p:cNvPr id="96" name="Прямоугольник 18"/>
              <p:cNvSpPr/>
              <p:nvPr/>
            </p:nvSpPr>
            <p:spPr>
              <a:xfrm>
                <a:off x="5000400" y="3785760"/>
                <a:ext cx="2000520" cy="14288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оугольник 19"/>
              <p:cNvSpPr/>
              <p:nvPr/>
            </p:nvSpPr>
            <p:spPr>
              <a:xfrm>
                <a:off x="6214680" y="4642920"/>
                <a:ext cx="2000520" cy="1428840"/>
              </a:xfrm>
              <a:prstGeom prst="rect">
                <a:avLst/>
              </a:prstGeom>
              <a:solidFill>
                <a:srgbClr val="216bf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57920" y="857160"/>
            <a:ext cx="2500200" cy="254160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9B4E-1C7B-42E5-9C3E-24804C4175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5:49:09Z</dcterms:created>
  <dc:creator>RAY</dc:creator>
  <dc:description/>
  <dc:language>en-US</dc:language>
  <cp:lastModifiedBy>Admin</cp:lastModifiedBy>
  <dcterms:modified xsi:type="dcterms:W3CDTF">2011-02-28T19:53:33Z</dcterms:modified>
  <cp:revision>155</cp:revision>
  <dc:subject/>
  <dc:title>Слайд 1</dc:title>
</cp:coreProperties>
</file>