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gif" ContentType="image/gif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E875A-C966-413E-88C5-34213563AA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2A832-7C87-48CF-94AB-A56C0B0CB6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BC4C-99B3-4E84-A1CF-A7628D9BF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295F-302D-4E6C-AB45-8158BC0E6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E983-006D-48E9-9EC2-83F150B8B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1CDB-2DE8-4469-B964-ECF3E98B5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164B-E36B-482D-BE6F-1B43E2405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C84C-5D2E-4C6D-A964-BE6CD9957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456C-885C-436B-BBE6-86E62BAEF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FE5B-035E-4A8E-8D52-55FFD77B7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4702-D16E-4D48-A692-86F630998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C200-5150-4E04-B996-469DE8BC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AA34-F1A2-440D-B4E2-38735B5B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B4D0-4609-4FEE-8676-3B45F09D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fffff"/>
            </a:gs>
            <a:gs pos="100000">
              <a:srgbClr val="d9d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3693B-7F4C-4DF5-B17A-57CE8D15A0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 Box 137" descr=""/>
          <p:cNvPicPr/>
          <p:nvPr/>
        </p:nvPicPr>
        <p:blipFill>
          <a:blip r:embed="rId1"/>
          <a:stretch/>
        </p:blipFill>
        <p:spPr>
          <a:xfrm>
            <a:off x="133200" y="420840"/>
            <a:ext cx="9017280" cy="749160"/>
          </a:xfrm>
          <a:prstGeom prst="rect">
            <a:avLst/>
          </a:prstGeom>
          <a:ln w="0">
            <a:noFill/>
          </a:ln>
        </p:spPr>
      </p:pic>
      <p:pic>
        <p:nvPicPr>
          <p:cNvPr id="49" name="WordArt 145" descr=""/>
          <p:cNvPicPr/>
          <p:nvPr/>
        </p:nvPicPr>
        <p:blipFill>
          <a:blip r:embed="rId2"/>
          <a:stretch/>
        </p:blipFill>
        <p:spPr>
          <a:xfrm>
            <a:off x="1494000" y="2419200"/>
            <a:ext cx="6418080" cy="24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684360" y="1916280"/>
            <a:ext cx="7632720" cy="57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84360" y="2708280"/>
            <a:ext cx="7632720" cy="50472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684360" y="3357720"/>
            <a:ext cx="763272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755640" y="4740120"/>
            <a:ext cx="756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вызывают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трицательные эмо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орможение в восприятии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материа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684360" y="4076640"/>
            <a:ext cx="7632720" cy="576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395280" y="47628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Влияние фона на восприятие презентационного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D78CD-7938-4460-9B08-6F2466C516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428760" y="1643040"/>
            <a:ext cx="8501040" cy="22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Выводы или за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Библиограф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ГОСТ 7.05-2008 по    оформлению библиографических ссылок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6360" y="333360"/>
            <a:ext cx="5040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357120" y="50004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B5A94-2D67-4654-B01D-273781F6EA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8A082-B990-4995-AB9C-74F8BAA782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Times New Roman"/>
              </a:rPr>
              <a:t>Рекоменд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5712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Для правильной работы презентации все вложенные файлы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(документы, видео, звук и пр.)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размещайте в ту же папку, что и презента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Название папка соответствует  Ф.И.О. выступающ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Рисунки необходимо сжим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rcRect l="42392" t="8858" r="0" b="60162"/>
          <a:stretch/>
        </p:blipFill>
        <p:spPr>
          <a:xfrm>
            <a:off x="714240" y="5357880"/>
            <a:ext cx="4822920" cy="1052280"/>
          </a:xfrm>
          <a:prstGeom prst="rect">
            <a:avLst/>
          </a:prstGeom>
          <a:ln w="0">
            <a:noFill/>
          </a:ln>
        </p:spPr>
      </p:pic>
      <p:sp>
        <p:nvSpPr>
          <p:cNvPr id="115" name="Oval 6"/>
          <p:cNvSpPr/>
          <p:nvPr/>
        </p:nvSpPr>
        <p:spPr>
          <a:xfrm>
            <a:off x="3571920" y="5429160"/>
            <a:ext cx="720720" cy="719280"/>
          </a:xfrm>
          <a:prstGeom prst="ellipse">
            <a:avLst/>
          </a:prstGeom>
          <a:noFill/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1428840"/>
            <a:ext cx="79927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звание образовательного учреждения где выполнялась работа</a:t>
            </a:r>
            <a:br>
              <a:rPr sz="2400"/>
            </a:b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(название учреждения по уставу, размер шрифта – не менее 24 пт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14200" y="4643280"/>
            <a:ext cx="86425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Автор: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Ф.И.О., занимаемая должность, почетные звания, ученая степ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Соавтор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: 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Научный руководитель: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занимаемая должность, почетные звания, ученая степень  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(размер шрифта – не менее 24 пт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789480" y="2643120"/>
            <a:ext cx="755856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33"/>
                </a:solidFill>
                <a:latin typeface="Times New Roman"/>
              </a:rPr>
              <a:t>Название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не менее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28 пт, полужирный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без точек, без кавыче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без сопроводительного текста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571680" y="642960"/>
            <a:ext cx="7992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Оформление титульного слай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D1956-94F6-4E33-806A-27304F03A4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785880" y="1500120"/>
            <a:ext cx="777708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Общий объём слайда – не более 15 строк текс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На слайдах поля, не менее 1 см с каждой сто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се слайды начиная со второго имеют нумер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763640" y="1916280"/>
            <a:ext cx="53802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Times New Roman"/>
              </a:rPr>
              <a:t>Цели и задач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размер шрифта – не менее 24 п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428760" y="785880"/>
            <a:ext cx="7993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Оформление второго слай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CCBF4-08D9-4234-864C-48ABE51E86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539640" y="1916280"/>
            <a:ext cx="777744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Размер шриф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Допустимый не менее 20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Рекомендуемый 24 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Желательно 30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1714680" y="500040"/>
            <a:ext cx="594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Единый стиль оформл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2500200" y="5429160"/>
            <a:ext cx="3786480" cy="550800"/>
          </a:xfrm>
          <a:prstGeom prst="rect">
            <a:avLst/>
          </a:prstGeom>
          <a:noFill/>
          <a:ln w="1908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А            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А      </a:t>
            </a: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       </a:t>
            </a:r>
            <a:r>
              <a:rPr b="1" lang="ru-RU" sz="3000" spc="-1" strike="noStrike">
                <a:solidFill>
                  <a:srgbClr val="660033"/>
                </a:solidFill>
                <a:latin typeface="Arial"/>
              </a:rPr>
              <a:t>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1319A-9367-4588-968F-6E47AB265A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Стиль оформ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светлый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екст на 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темном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фоне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и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темный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екст на 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светлом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фон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714240" y="4572000"/>
            <a:ext cx="3097440" cy="1944720"/>
          </a:xfrm>
          <a:prstGeom prst="rect">
            <a:avLst/>
          </a:prstGeom>
          <a:solidFill>
            <a:srgbClr val="ffff99">
              <a:alpha val="67000"/>
            </a:srgbClr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5072040" y="4572000"/>
            <a:ext cx="3097080" cy="1944720"/>
          </a:xfrm>
          <a:prstGeom prst="rect">
            <a:avLst/>
          </a:prstGeom>
          <a:solidFill>
            <a:srgbClr val="660033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Единый стиль оформл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85046-5254-497C-A744-358992462E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5219640" y="4076640"/>
            <a:ext cx="3097440" cy="1944720"/>
          </a:xfrm>
          <a:prstGeom prst="rect">
            <a:avLst/>
          </a:prstGeom>
          <a:solidFill>
            <a:srgbClr val="ccff33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99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5219640" y="1700280"/>
            <a:ext cx="3097440" cy="1944720"/>
          </a:xfrm>
          <a:prstGeom prst="rect">
            <a:avLst/>
          </a:prstGeom>
          <a:solidFill>
            <a:srgbClr val="3399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99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468360" y="4005360"/>
            <a:ext cx="3097080" cy="1944720"/>
          </a:xfrm>
          <a:prstGeom prst="rect">
            <a:avLst/>
          </a:prstGeom>
          <a:solidFill>
            <a:srgbClr val="008000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468360" y="1773360"/>
            <a:ext cx="3097080" cy="1944720"/>
          </a:xfrm>
          <a:prstGeom prst="rect">
            <a:avLst/>
          </a:prstGeom>
          <a:solidFill>
            <a:srgbClr val="333399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3000240" y="2714760"/>
            <a:ext cx="3143520" cy="2095200"/>
          </a:xfrm>
          <a:prstGeom prst="rect">
            <a:avLst/>
          </a:prstGeom>
          <a:ln w="28440">
            <a:solidFill>
              <a:srgbClr val="660033"/>
            </a:solidFill>
            <a:miter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9360">
            <a:solidFill>
              <a:srgbClr val="e1e1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Часто допускаемые ошиб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3994200" y="3143160"/>
            <a:ext cx="14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к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омер слайда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9A1CD-A90C-4B0A-8578-4337B264CB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00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1e1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642960" y="1857240"/>
            <a:ext cx="7921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Не более 2 рисунков на одном слайд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Нельзя совмещать статические и динамические рисунки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642960" y="285840"/>
            <a:ext cx="792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рису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J0233855"/>
          <p:cNvPicPr/>
          <p:nvPr/>
        </p:nvPicPr>
        <p:blipFill>
          <a:blip r:embed="rId1"/>
          <a:stretch/>
        </p:blipFill>
        <p:spPr>
          <a:xfrm>
            <a:off x="5715000" y="3643200"/>
            <a:ext cx="2583000" cy="2644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0227"/>
          <p:cNvPicPr/>
          <p:nvPr/>
        </p:nvPicPr>
        <p:blipFill>
          <a:blip r:embed="rId2"/>
          <a:stretch/>
        </p:blipFill>
        <p:spPr>
          <a:xfrm>
            <a:off x="1857240" y="4500720"/>
            <a:ext cx="2089440" cy="1633320"/>
          </a:xfrm>
          <a:prstGeom prst="rect">
            <a:avLst/>
          </a:prstGeom>
          <a:ln w="0">
            <a:noFill/>
          </a:ln>
        </p:spPr>
      </p:pic>
      <p:sp>
        <p:nvSpPr>
          <p:cNvPr id="8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03F01-D0FA-4981-A1B2-C373F2526E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15 0.09831 C -0.08194 0.0805 -0.20503 0.06292 -0.23837 0.03077 C -0.2717 -0.00139 -0.18437 -0.0879 -0.15885 -0.09438 C -0.13333 -0.10086 -0.11458 -0.02336 -0.08542 -0.00763 C -0.05625 0.0081 -0.00833 0.00069 0.0158 0.00023 C 0.03993 -0.00023 0.04167 -0.00717 0.0592 -0.01087 C 0.07674 -0.01457 0.12014 -0.00648 0.12066 -0.02221 C 0.12118 -0.03794 0.075 -0.06685 0.06285 -0.10571 C 0.0507 -0.14458 0.05035 -0.20472 0.04722 -0.25492 C 0.0441 -0.30511 0.06458 -0.41268 0.04358 -0.40736 C 0.02257 -0.40204 -0.06649 -0.27897 -0.07934 -0.22276 C -0.09219 -0.16655 -0.02743 -0.11173 -0.03351 -0.07032 C -0.03958 -0.02892 -0.0776 -0.00162 -0.11545 0.02591 E">
                                      <p:cBhvr>
                                        <p:cTn id="39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3"/>
          <p:cNvSpPr/>
          <p:nvPr/>
        </p:nvSpPr>
        <p:spPr>
          <a:xfrm>
            <a:off x="357120" y="2000160"/>
            <a:ext cx="82868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Все рисунки имею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сквозную нумерацию, название, при необходимости сопроводительный текст не более двух стр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6"/>
          <p:cNvSpPr/>
          <p:nvPr/>
        </p:nvSpPr>
        <p:spPr>
          <a:xfrm>
            <a:off x="500040" y="50004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рису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928800" y="564372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Рис.11. Ядерная (планетарная) модель строения ато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"/>
          <p:cNvPicPr/>
          <p:nvPr/>
        </p:nvPicPr>
        <p:blipFill>
          <a:blip r:embed="rId1"/>
          <a:srcRect l="14286" t="0" r="10715" b="0"/>
          <a:stretch/>
        </p:blipFill>
        <p:spPr>
          <a:xfrm>
            <a:off x="4572000" y="3643200"/>
            <a:ext cx="3000240" cy="3000600"/>
          </a:xfrm>
          <a:prstGeom prst="rect">
            <a:avLst/>
          </a:prstGeom>
          <a:ln w="0">
            <a:noFill/>
          </a:ln>
        </p:spPr>
      </p:pic>
      <p:sp>
        <p:nvSpPr>
          <p:cNvPr id="85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1BC54-EE9A-40CC-B15A-2CC9E69767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428760" y="1285920"/>
            <a:ext cx="545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Не более трех цветов и неограниченное количество оттенков этих цве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Группа 22"/>
          <p:cNvGrpSpPr/>
          <p:nvPr/>
        </p:nvGrpSpPr>
        <p:grpSpPr>
          <a:xfrm>
            <a:off x="571680" y="3571920"/>
            <a:ext cx="3786120" cy="2857320"/>
            <a:chOff x="571680" y="3571920"/>
            <a:chExt cx="3786120" cy="2857320"/>
          </a:xfrm>
        </p:grpSpPr>
        <p:sp>
          <p:nvSpPr>
            <p:cNvPr id="89" name="Прямоугольник 12"/>
            <p:cNvSpPr/>
            <p:nvPr/>
          </p:nvSpPr>
          <p:spPr>
            <a:xfrm>
              <a:off x="571680" y="3571920"/>
              <a:ext cx="3786120" cy="2857320"/>
            </a:xfrm>
            <a:prstGeom prst="rect">
              <a:avLst/>
            </a:prstGeom>
            <a:solidFill>
              <a:srgbClr val="00b0f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Группа 13"/>
            <p:cNvGrpSpPr/>
            <p:nvPr/>
          </p:nvGrpSpPr>
          <p:grpSpPr>
            <a:xfrm>
              <a:off x="928800" y="3857400"/>
              <a:ext cx="3214800" cy="2356920"/>
              <a:chOff x="928800" y="3857400"/>
              <a:chExt cx="3214800" cy="2356920"/>
            </a:xfrm>
          </p:grpSpPr>
          <p:sp>
            <p:nvSpPr>
              <p:cNvPr id="91" name="Прямоугольник 10"/>
              <p:cNvSpPr/>
              <p:nvPr/>
            </p:nvSpPr>
            <p:spPr>
              <a:xfrm>
                <a:off x="928800" y="3857400"/>
                <a:ext cx="2071800" cy="1500120"/>
              </a:xfrm>
              <a:prstGeom prst="rect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Прямоугольник 11"/>
              <p:cNvSpPr/>
              <p:nvPr/>
            </p:nvSpPr>
            <p:spPr>
              <a:xfrm>
                <a:off x="2143080" y="4642920"/>
                <a:ext cx="2000520" cy="15714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" name="Группа 21"/>
          <p:cNvGrpSpPr/>
          <p:nvPr/>
        </p:nvGrpSpPr>
        <p:grpSpPr>
          <a:xfrm>
            <a:off x="4714920" y="3500280"/>
            <a:ext cx="3786120" cy="2857680"/>
            <a:chOff x="4714920" y="3500280"/>
            <a:chExt cx="3786120" cy="2857680"/>
          </a:xfrm>
        </p:grpSpPr>
        <p:sp>
          <p:nvSpPr>
            <p:cNvPr id="94" name="Прямоугольник 14"/>
            <p:cNvSpPr/>
            <p:nvPr/>
          </p:nvSpPr>
          <p:spPr>
            <a:xfrm>
              <a:off x="4714920" y="3500280"/>
              <a:ext cx="3786120" cy="2857680"/>
            </a:xfrm>
            <a:prstGeom prst="rect">
              <a:avLst/>
            </a:prstGeom>
            <a:solidFill>
              <a:srgbClr val="006600">
                <a:alpha val="78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Группа 20"/>
            <p:cNvGrpSpPr/>
            <p:nvPr/>
          </p:nvGrpSpPr>
          <p:grpSpPr>
            <a:xfrm>
              <a:off x="5000400" y="3785760"/>
              <a:ext cx="3214800" cy="2286000"/>
              <a:chOff x="5000400" y="3785760"/>
              <a:chExt cx="3214800" cy="2286000"/>
            </a:xfrm>
          </p:grpSpPr>
          <p:sp>
            <p:nvSpPr>
              <p:cNvPr id="96" name="Прямоугольник 18"/>
              <p:cNvSpPr/>
              <p:nvPr/>
            </p:nvSpPr>
            <p:spPr>
              <a:xfrm>
                <a:off x="5000400" y="3785760"/>
                <a:ext cx="2000520" cy="142884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оугольник 19"/>
              <p:cNvSpPr/>
              <p:nvPr/>
            </p:nvSpPr>
            <p:spPr>
              <a:xfrm>
                <a:off x="6214680" y="4642920"/>
                <a:ext cx="2000520" cy="1428840"/>
              </a:xfrm>
              <a:prstGeom prst="rect">
                <a:avLst/>
              </a:prstGeom>
              <a:solidFill>
                <a:srgbClr val="216bff"/>
              </a:solidFill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5857920" y="857160"/>
            <a:ext cx="2500200" cy="2541600"/>
          </a:xfrm>
          <a:prstGeom prst="rect">
            <a:avLst/>
          </a:prstGeom>
          <a:ln w="0">
            <a:noFill/>
          </a:ln>
        </p:spPr>
      </p:pic>
      <p:sp>
        <p:nvSpPr>
          <p:cNvPr id="99" name="Номер слайда 2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EA45E-2C27-47B2-92EC-02041BABFC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05:49:09Z</dcterms:created>
  <dc:creator>RAY</dc:creator>
  <dc:description/>
  <dc:language>en-US</dc:language>
  <cp:lastModifiedBy>Admin</cp:lastModifiedBy>
  <dcterms:modified xsi:type="dcterms:W3CDTF">2011-02-28T19:53:33Z</dcterms:modified>
  <cp:revision>155</cp:revision>
  <dc:subject/>
  <dc:title>Слайд 1</dc:title>
</cp:coreProperties>
</file>