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B64-DB75-4D78-8387-A7A05337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9A6-6717-42AE-B8C0-F9122D0A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524-CD8C-4D0F-AE69-921F2232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B79-195F-4F2F-8F5F-64E2099E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6520-3F1B-42CA-ABF9-EB6C1A99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4520-4C96-4B7F-9A9B-E42895E9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1A02-DC54-4953-8C7F-6B82D7B8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9EDC-122C-4E6C-B76C-F86E9CBC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AFAC-016B-47FA-AF84-9A588607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4777-F4F2-4986-A2BB-335A64F5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5746-DF0C-4F87-93FE-3CE3873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707-1DC5-475E-8D67-4984D738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C070-C4C1-4728-B2F6-0ADFE27C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2ABF-D86D-4865-8B20-E4E5E18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109F-9DC8-4D30-A77F-BC227B6D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568D-A431-4DB5-BA4C-A81485E7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7D8E-AC03-4678-9484-E28AAAD5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460B-DA6A-4493-9D4B-976850DD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1A96-D93A-4CB7-9EE1-3A415F62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3A3F1-DCAE-45CB-A648-B509CA1B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237F-A86A-4417-940C-9EF50B40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871B-FB6E-4641-A91B-1F1927AC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703-8220-45E9-9C21-2CEE365C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2C95D-066F-4548-B856-6C194A84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3A07-940C-4B99-8E4A-D6D81928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CCED-40B9-448C-AE34-E679CEEB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64DD-58B7-47A6-8113-A687ABC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32538-84EA-4A2D-BCAA-0E91CF0C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2AE7-8091-448C-A1E3-E4D79C45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3F70-5840-489A-9CC9-E94872C4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661C-C131-4E55-ABE9-595A8B98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C957-69E1-4169-BBEF-26068583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A5C83-B658-46B9-A9F6-E78DC734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062-8F9F-4111-B418-9B600847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42008-8D83-463C-822C-E0F8A5C5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6217E-55E2-4455-B19C-C714CF63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03A9-F326-4ED8-AABD-16C525EA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39280-5C24-4432-BD71-CFEF90F1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C737-4437-48D5-A3B0-5DBBC8AB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A04D-F473-4508-A241-40C5EE94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95DD9-18C2-4BA4-B25E-EC1C6A72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E9E7A-364A-4AD1-BA9F-8DD42E94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669B-14DF-457D-A577-4899F3DD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40545-2F2B-4ACB-A789-C974A107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1EA-98F9-44BF-9A67-2CEF9592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E4D14-27A5-45F5-B277-DAA7C52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5031A-CD67-441C-9CE3-B7C956B1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7A2AA-E367-44A6-92E1-A2D67F74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A48A2-F785-4AE6-A671-327FFA0F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D46AD-7019-4D51-95FA-21ACEA4D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AC982-F60F-4586-8CE8-FB85B641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8492A-DC91-4DF6-85D7-8CA53AC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10FD4-ECCD-4821-A40E-EE4F6FD6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0A0FB-7F43-4C05-B489-DCBF1B87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FDBC5-CB73-4F22-8113-3B5BA240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DBD-9159-494E-A034-6999784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5F1D4-A6A4-4B7C-8B9C-E363C446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F2D9F-C7EF-4EBF-A891-1794D624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D30FB-5EDC-44B4-A9ED-D97B9FEF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070AF-68C6-4452-A5B5-EEB3034E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A50C6-7786-4157-B9E2-D01229C5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32C15-9124-4A44-AD0C-A3AABC8A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05EEC-5438-4050-942C-74A32772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012AF-8A21-463B-AF2C-D48B2E39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73430-4F0A-478C-BE21-33CD0372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FF073-D780-4D3D-8463-C9ECF3ED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EDC-A2BF-49A9-9018-284D6F1B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6249E-1060-41DB-BA3C-D48C229F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6FEC0-5427-46A6-BD51-7580699B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C2852-C2CD-4719-936F-A65BCC71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C08-A08F-412A-880F-44FED1B5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2C1-BF90-4D13-B848-ACDC1EF1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7FC3-6111-4F81-970D-0E35F7035CF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7D10-27DB-4815-A3FD-ABB45494C8F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484-CC47-4E1A-82A5-8D642C4DFF9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9017-BCB2-4406-BE41-7948F05DFD4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3B92-6B8B-480D-BD39-2566FE3866B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ED5A-88C9-4DB4-BDB1-895D093EA5D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4732560" y="4500000"/>
                <a:ext cx="9000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4160" y="403848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2520" y="480492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8640" y="48049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82960" y="480492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7280" y="480492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1960" y="480492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7720" y="480492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2040" y="480492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6720" y="480492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2480" y="480492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8200" y="497520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9280" y="493236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93840" y="484488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98520" y="484488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4280" y="484488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8960" y="484488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3280" y="484488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19040" y="484488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3720" y="484488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8040" y="484488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2720" y="484488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66760" y="471348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84200" y="407700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24800" y="427032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24800" y="427212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24800" y="427392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24800" y="427608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24800" y="427788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4800" y="4280040"/>
                <a:ext cx="16560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4800" y="428184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4800" y="428364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4800" y="428580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1080" y="439560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1080" y="439560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1080" y="439560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1080" y="4395600"/>
                <a:ext cx="57276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1080" y="439560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1080" y="4395600"/>
                <a:ext cx="56844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1080" y="4395600"/>
                <a:ext cx="56700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1080" y="4395600"/>
                <a:ext cx="56412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1080" y="439560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1640" y="446112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86240" y="432360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6240" y="432360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6240" y="432468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86240" y="4325760"/>
                <a:ext cx="17604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86240" y="432648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6240" y="432756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6240" y="432756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440" y="431316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88080" y="501516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34600" y="4309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12440" y="417384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30704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89520" y="497232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1960" y="4730040"/>
                <a:ext cx="3492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3800" y="475416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92400" y="474372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9360" y="477576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76892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42800" y="447480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48320" y="442404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2600" y="425160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18d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80520" y="4426920"/>
                <a:ext cx="15084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"/>
              <p:cNvSpPr/>
              <p:nvPr/>
            </p:nvSpPr>
            <p:spPr>
              <a:xfrm>
                <a:off x="5656680" y="47804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8280" y="431892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6640" y="508536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02760" y="508536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07080" y="508536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1400" y="508536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16080" y="508536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21840" y="508536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160" y="508536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30840" y="508536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6600" y="508536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92320" y="52556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3400" y="521280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8320" y="512532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22640" y="51253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8760" y="512532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33080" y="512532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37400" y="512532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43520" y="512532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47840" y="512532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52160" y="512532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56840" y="512532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90880" y="499392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08680" y="435744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49280" y="455076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49280" y="455256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49280" y="455436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9280" y="455652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49280" y="455832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9280" y="456048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49280" y="456228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49280" y="456408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49280" y="456624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0" y="467604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95200" y="4676040"/>
                <a:ext cx="57780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95200" y="467604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95200" y="467604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95200" y="467604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95200" y="467604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5200" y="467604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5200" y="467604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5200" y="4676040"/>
                <a:ext cx="56304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5760" y="474156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10720" y="46040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10720" y="460404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10720" y="460512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10720" y="460620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10720" y="460692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0720" y="460800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10720" y="460800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44920" y="459360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2200" y="529560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59080" y="4589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6920" y="445428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9360" y="458748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4000" y="525276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6080" y="501048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67920" y="503460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6520" y="502416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83480" y="505620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45400" y="504936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6920" y="475524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72440" y="470448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16720" y="453204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4640" y="470736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9880" y="534132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1480" y="487980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9840" y="564624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5960" y="564624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60280" y="564624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64600" y="564624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68920" y="5646240"/>
                <a:ext cx="14976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75040" y="564624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79360" y="564624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84040" y="564624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89800" y="564624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45520" y="581652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46600" y="5773680"/>
                <a:ext cx="11232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71520" y="568620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75840" y="568620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81960" y="568620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86280" y="568620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90600" y="568620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96720" y="568620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1040" y="568620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568620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9680" y="568620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43720" y="5554800"/>
                <a:ext cx="31860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61880" y="491832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02480" y="511164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511344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2480" y="511524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2480" y="511740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02480" y="511920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2480" y="512136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2480" y="5123160"/>
                <a:ext cx="16272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2480" y="512496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02480" y="512712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48400" y="523692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8400" y="523692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48400" y="523692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8400" y="523692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48400" y="523692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48400" y="523692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48400" y="523692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8400" y="523692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48400" y="523692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530244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63920" y="516492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3920" y="5164920"/>
                <a:ext cx="17748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63920" y="516600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3920" y="516708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3920" y="516780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63920" y="516888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63920" y="516888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98120" y="515448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65400" y="585648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2280" y="5150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0120" y="501516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2560" y="514836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6840" y="5813640"/>
                <a:ext cx="11412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8920" y="557136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1120" y="559548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69720" y="558504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6680" y="561708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98600" y="5610240"/>
                <a:ext cx="1584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0120" y="531612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25640" y="526536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69920" y="509292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57840" y="526824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731600" y="49561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419112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5520" y="503712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04800" y="51055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58120" y="4713480"/>
                <a:ext cx="63288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24280" y="4991040"/>
                <a:ext cx="172440" cy="9864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18880" y="4977000"/>
                <a:ext cx="153720" cy="8388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36880" y="50007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77200" y="4799160"/>
                <a:ext cx="169920" cy="20772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1480" y="4865760"/>
                <a:ext cx="301320" cy="13644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8360" y="4952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29080" y="48466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40480" y="4863960"/>
                <a:ext cx="40320" cy="907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25880" y="485928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55360" y="4610160"/>
                <a:ext cx="23940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1320" y="481032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85880" y="4597560"/>
                <a:ext cx="6156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11080" y="4579920"/>
                <a:ext cx="101880" cy="21924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9400" y="4783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5880" y="4659480"/>
                <a:ext cx="24336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65920" y="4762440"/>
                <a:ext cx="4032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17400" y="47754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45240" y="4711680"/>
                <a:ext cx="142200" cy="7632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2000" y="4753080"/>
                <a:ext cx="84600" cy="284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08760" y="47592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06800" y="467676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69240" y="469584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35200" y="4641840"/>
                <a:ext cx="46440" cy="795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00040" y="4605480"/>
                <a:ext cx="215640" cy="11412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9800" y="469440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2040" y="4467240"/>
                <a:ext cx="24084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7400" y="4238640"/>
                <a:ext cx="158760" cy="39060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0000" y="4256280"/>
                <a:ext cx="82080" cy="35064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16320" y="454356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56120" y="4272120"/>
                <a:ext cx="68040" cy="31104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98680" y="4264200"/>
                <a:ext cx="15984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65120" y="4330800"/>
                <a:ext cx="27720" cy="22680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41320" y="421956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7520" y="438300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31480" y="42688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1099800" y="5000760"/>
                <a:ext cx="330840" cy="507240"/>
              </a:xfrm>
              <a:custGeom>
                <a:avLst/>
                <a:gdLst/>
                <a:ahLst/>
                <a:rect l="l" t="t" r="r" b="b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61720" y="4083840"/>
                <a:ext cx="348120" cy="224280"/>
              </a:xfrm>
              <a:custGeom>
                <a:avLst/>
                <a:gdLst/>
                <a:ahLst/>
                <a:rect l="l" t="t" r="r" b="b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66680" y="4038480"/>
                <a:ext cx="457200" cy="1509840"/>
              </a:xfrm>
              <a:custGeom>
                <a:avLst/>
                <a:gdLst/>
                <a:ahLst/>
                <a:rect l="l" t="t" r="r" b="b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143720" y="5482080"/>
                <a:ext cx="201960" cy="56520"/>
              </a:xfrm>
              <a:custGeom>
                <a:avLst/>
                <a:gdLst/>
                <a:ahLst/>
                <a:rect l="l" t="t" r="r" b="b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8800" y="543924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23360" y="5086080"/>
                <a:ext cx="29520" cy="331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76920" y="50792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10680" y="5031000"/>
                <a:ext cx="48240" cy="53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69920" y="4651920"/>
                <a:ext cx="330840" cy="428760"/>
              </a:xfrm>
              <a:custGeom>
                <a:avLst/>
                <a:gdLst/>
                <a:ahLst/>
                <a:rect l="l" t="t" r="r" b="b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55600" y="499788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30400" y="4967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278360" y="4719240"/>
                <a:ext cx="77760" cy="263520"/>
              </a:xfrm>
              <a:custGeom>
                <a:avLst/>
                <a:gdLst/>
                <a:ahLst/>
                <a:rect l="l" t="t" r="r" b="b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02760" y="477576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216080" y="4624200"/>
                <a:ext cx="63000" cy="118440"/>
              </a:xfrm>
              <a:custGeom>
                <a:avLst/>
                <a:gdLst/>
                <a:ahLst/>
                <a:rect l="l" t="t" r="r" b="b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79800" y="466992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88440" y="464652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1343880" y="4468680"/>
                <a:ext cx="149040" cy="12240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189800" y="4312800"/>
                <a:ext cx="326160" cy="331920"/>
              </a:xfrm>
              <a:custGeom>
                <a:avLst/>
                <a:gdLst/>
                <a:ahLst/>
                <a:rect l="l" t="t" r="r" b="b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98080" y="4349880"/>
                <a:ext cx="64080" cy="116640"/>
              </a:xfrm>
              <a:custGeom>
                <a:avLst/>
                <a:gdLst/>
                <a:ahLst/>
                <a:rect l="l" t="t" r="r" b="b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3000" y="425628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467000" y="4278240"/>
                <a:ext cx="12240" cy="5940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29040" y="4192920"/>
                <a:ext cx="191520" cy="1360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256760" y="4240800"/>
                <a:ext cx="10080" cy="331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2036520" y="52610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81080" y="44956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81160" y="53420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09720" y="5410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63760" y="5018040"/>
                <a:ext cx="63324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28840" y="5295960"/>
                <a:ext cx="17280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4160" y="5281560"/>
                <a:ext cx="15372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41440" y="5305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2840" y="51037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66760" y="51703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4000" y="52578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33640" y="5151600"/>
                <a:ext cx="1872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46120" y="51688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30440" y="516420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60280" y="49150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5880" y="5114880"/>
                <a:ext cx="36216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90440" y="49021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16000" y="488484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3960" y="50878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0440" y="49640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1560" y="50673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22320" y="50799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50880" y="5016600"/>
                <a:ext cx="14148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36560" y="5057640"/>
                <a:ext cx="8604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14400" y="50641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12800" y="4981680"/>
                <a:ext cx="14148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4880" y="50007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039760" y="49467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04960" y="4910040"/>
                <a:ext cx="21600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44720" y="499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8400" y="4772160"/>
                <a:ext cx="23940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3040" y="45435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55640" y="45608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20880" y="48481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62120" y="45766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03240" y="4568760"/>
                <a:ext cx="16056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70040" y="46353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46240" y="452448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73160" y="46879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6760" y="45734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"/>
              <p:cNvSpPr/>
              <p:nvPr/>
            </p:nvSpPr>
            <p:spPr>
              <a:xfrm>
                <a:off x="2417400" y="54896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61960" y="47242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61680" y="55706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90600" y="56386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44280" y="5246640"/>
                <a:ext cx="63360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360" y="5524560"/>
                <a:ext cx="17316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4680" y="551016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22320" y="55339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63360" y="53323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7640" y="53989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74520" y="548640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14160" y="53802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27000" y="53974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10960" y="539280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51436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66760" y="534348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71320" y="51307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96880" y="5113440"/>
                <a:ext cx="10296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34840" y="53164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320" y="51926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52440" y="52959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200" y="5308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31760" y="5245200"/>
                <a:ext cx="14112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17440" y="52862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95280" y="5292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3680" y="521028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55760" y="52293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20640" y="51753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85840" y="5138640"/>
                <a:ext cx="21564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25600" y="5227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18920" y="5000760"/>
                <a:ext cx="23976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47721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6520" y="47894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01760" y="50767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43000" y="48052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84120" y="4797360"/>
                <a:ext cx="16020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50920" y="48639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26760" y="4753080"/>
                <a:ext cx="37476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54040" y="4916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17280" y="480204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228600"/>
            <a:ext cx="757692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1-04-19T22:22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