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  <p:sldId id="267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slide" Target="slides/slide12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88013-6F78-4574-A52F-7AC874C75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7204D-AF55-431B-B365-332184AF9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925901-1C18-497A-B045-1ADB2C82A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2CFA85-1CBC-43FF-A565-8B266DE56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378B3F-2E15-4B7D-ACA9-F328A5E26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34C222-F34F-488F-80C6-A0CEC8E5E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8DC8A3-AE18-44EC-A235-0F6579DD2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09040A-5909-44B0-8FBC-4C4A0A4A4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8DD548-CA9A-41F3-B79D-3D5B49348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A146A6-7B7F-4E92-AC4B-C7093D6CE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8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9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6C3575-AF47-407D-B82B-34B38EC81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6B4D25-BC6B-469E-A262-9523EE828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D7C18-531C-40E8-B378-C5FE3C7A5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A77197-076D-4FC1-9364-0403FFB34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B7D43C-60DD-46F4-8AB7-4322492E4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1C11BC-36F4-4A2D-A871-3C960376D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80607B-6760-44E6-BC14-3C38C6B36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23BC36-F87C-43C6-A1F1-950E1AAA1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A4B257-1757-4411-B024-F6D78D526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64FE13-CFC5-4EC0-80D8-6C9C316DE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23A2B7-45A8-4F1F-8944-E60400C04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B3BC2C-EB02-46DB-A58A-773B151A8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9D5788-06E7-4464-AC42-F989F59C3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38709-34E6-413C-9BCC-17356853F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2C43D3-977F-4B54-BBC7-6C76F1384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A9098D-8203-40C0-8B7C-DF69C03EB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D711E6-BF5D-4E56-93E2-DF32D4E53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D19ED1-E06D-45AE-96ED-EE4E64537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D7477F-F121-43DB-8FBB-6CF613CEE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254DDC-BB5C-49D1-BEF6-00A51AAB4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D6F88C-CD5F-4BF9-9C4C-7CF20D047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AD85F4-BFAA-4BEF-9151-4AA57EC9B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6D4F7A-5A64-4B0D-B1B6-9E99A5E44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641CD6-9E68-44DF-AAFC-B83BD1E04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E440C-7021-4B7A-B96A-34ECC718D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F43522-962E-41D0-8033-9330FC45F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898D4A-C21E-4953-AD4A-672FDB5E1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4F6444-88F4-4205-B579-C54981C5A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156CC3-7BAF-41CD-B71B-DAD8E0A93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FEB32F-0D71-43E7-AD14-C598C2F42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E0AB41-19A8-4FBC-9617-50D412535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291A17-ADAB-48C7-9C0C-BC61B517B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C1C44D-D63D-4782-B849-D930F3BD2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BC54C4-011E-4C35-9633-5B763F9B5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2C7337-8B74-40EB-ABBA-6CA68BF7C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4BA29-4779-429C-BB11-1B2B6B476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D9262A-9069-4A05-A5E0-2BB55481A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ED6CFC-F7E3-4BD3-BB91-C9334524C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868C6F-A81A-46CA-B22C-27230522B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8B0205-16B6-424A-BCED-7EA4735FC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4F674F-FAF4-4D6A-BE11-419C4EC27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64AD655-352F-4310-9A01-1A69B8B33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53793C7-DB4D-430D-9E25-6A1252288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AA87B93-A1C5-466F-B033-80A638644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F788E0A-01ED-4049-A979-9F810B9BC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C9E268D-7576-43D3-B706-90B9D8868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C7D53-62A8-45B7-9697-2685F81BE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E292490-9A28-4AA1-93C6-994BCABBD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2701284-161C-4650-AFC0-0B317D0A6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D605133-4BBE-46A7-A678-2CD290BEE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5A5ACC0-E67E-4C25-968F-524292A62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632990F-FEEA-4752-96FE-B947C153C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1E5F5F1-9EA7-4004-A546-B384EFAF0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B6BE3EE-7967-45BD-8CE6-C09DAB042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93B8F43-08B4-4857-A1B4-CD461F551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9B55621-4B17-4EF7-9A5C-708497B6E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56F2523-E36C-4F0C-BD47-BEE29F8AD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1DEE6-9239-4C2A-A1D1-75F2F44ED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D4A8567-4619-48B0-B8CB-800998146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9A71D88-98D9-4B8E-8A94-D33911159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96843AD-BD4F-471D-9559-BC639A679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C281434-2052-4748-A10B-1FE43B569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99947B6-A577-4EE8-AB59-42658D144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37C2BD8-A9B7-436A-B5CD-9E8674AB9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8B26632-24F6-40FF-9CD8-2BCA4EF63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C9F7789-4C46-493B-BEB3-D3168E5F0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4799A90-9D02-49B5-B58E-80870C8FB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65712F0-7C7E-473B-A51A-3F7176644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6B47C-D0E9-4E92-82B0-2EDADF713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21735B0-4444-43E0-BB3E-E4C1A1818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A0246CF-6862-46C5-93C5-866DB45D3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43D62F8-6A11-49E1-9B2A-D1F634248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2180DC7-D2CF-45D4-A7B8-26BD01FC4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DDD7FC7-158C-48EF-A5B8-23B9BF254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FCB556D-2A31-4F69-AB3C-DFBA46FE8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B1E1CFC-AAB5-4677-99D5-7AD5D30DE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7FD70A8-B4F8-4C8D-9568-4FEB850C1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F2642F8-26DC-4CC9-B9C4-64F23DB8B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D8A1C73-B9D0-4F8A-946A-9252C77B0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02CF5-B961-464A-9E4A-C7E6B6BC6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F2CBB97-997D-412E-9A91-902E14DA7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278E020-3924-4152-88BB-883D93184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813C065-21F4-4C76-A7C9-C841B1FF9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FC80B6C-80BC-4C10-AE68-DD02189C2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5864619-69AD-4E06-84CB-765932862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238E8EA-994E-46CE-8C0E-07BA7E06C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39DA645-E70C-4118-AEE1-15BC70483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58457BA-FEC2-46E2-9F2D-511916BFA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521243E-8E6A-4FBF-B8C0-7FF91520B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2B065D5-7787-40C8-9EEC-E5B9FDE7E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F76EF-8367-44D2-BA32-32A32201F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BE32780-DA35-4F3C-B923-B718D2BA0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4D75FB1-5BAB-4462-BBE7-24D885CFA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614B66E-58D2-4E22-AB76-9B3360859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964666E-4CA3-4BBA-A574-5877EC7C1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55A7B6D-1C39-45EB-BD7F-A87FA78EF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4F3B84D-8794-42F8-99C4-EFAF15A2B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D26C575-F69C-4C54-BB89-E113D424F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B3FDD5A-82C0-4097-AC18-E30E36343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DFDDC46-E49C-46F1-8B31-F31F28D35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E536DCE-1B6D-4931-BBFB-6222FDABF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CEBBF-C114-4153-8FD9-FB744CCD7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B51D2-5F89-43B5-9A41-B7CE3EE73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0636743-C2DA-40FA-91F8-3048F8ECB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9318E32-F197-4F35-A1CD-EB95820F7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8F03103-9B4A-420C-BE74-AFB6C2D52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8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1DABBF1-5A7F-4C50-9EDE-0631BB6C3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3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4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5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2B3DE9D-672B-4190-8373-59F442CFA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6593AF2-95F3-4B23-861D-90B659229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09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F35A499-014D-4AF7-AD7D-5F964EF21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674BF34-0A60-4E1B-84EF-BBFD67DBE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130C0F9-0443-4225-94C2-A6DAE087C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6B5913E-9045-4016-912A-1ACCC2117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B67E3-14F8-46E1-B92C-19D043015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12C9560-645D-4174-AEEA-46503E982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2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5E97BAE-6F83-482B-AB81-41A2C5E11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2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2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24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FF30389-D48C-4723-8BFB-3418687F1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2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2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F707B2C-5E87-484A-8155-ADD947642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1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69484AA-F0D7-4BB4-BEBF-FD787E618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6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47702EE-2150-42DB-AC88-A17DEE00F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9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0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1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2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3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7676107-3C14-499C-97E8-FEC2DEC16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0238B-9D64-40CE-AE3E-DB49A7D38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D9A75-BD0A-4C1D-B954-9DEDEB6D8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4F3E2-1787-442F-B00F-C39E94F62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4C38E0-444B-484A-98E5-3E359E5C0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B36A0C-ECAD-49C4-A495-F67A531CB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7F9646-92C0-4110-8CE3-6A7BC24E4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8FA9DA-6B58-4B80-BFDE-1B3A44655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EE71F0-BE1E-4F9F-9370-47E0CE659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58BD4-878C-430E-8DF3-5C66D2ED4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5F744D-2324-4FC1-BF53-3B64EA75F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7E58E1-D29E-4125-9BA7-E2B037246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A3B42C-41FD-4B3F-BF8C-438B5B052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C20D2D-43DA-466D-8C18-35CDBB8E4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0C446F-BA28-4459-9973-6677C8888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C69D04-4DB0-40D6-A6E7-7334E68F6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91210F-9829-4C4E-9AB7-42B5DFD53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2493ED-9C53-4076-9813-433C20CE7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FE240F-9CD9-4C2D-B96F-81A3EF830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E90A9C-203E-4EAA-8C72-046E29797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BABA7-B5DF-4581-81CC-192473F6B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EBF738-A7F6-4FFE-AE26-632C481AC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1015F9-0436-4C50-9ABB-987A407DA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290A2B-BCAA-4AA5-ADFA-B9931D0D6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E8131B-97E1-4511-B5B8-88242F678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567A62-E57D-4320-99C2-8A503E5A3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3B93AA-2CF0-40F1-80B1-18E0DA466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2BD523-05E5-438D-A16F-9EFCE3A1F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96A840-75E3-4C8C-BF4D-8CF932321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7BEEA2-9116-4F56-8F25-54BA47215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357DB3-973C-4EF7-83B0-4799856AA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F42B7-5114-40B7-8E78-F46645575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DA2C11-0488-4CFC-9E51-DED4A1869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8E0955-B116-4C3F-9C6C-669D85DED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425122-16E5-4CDC-A984-5879291AF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2B6B69-1638-4A0B-937E-51B14A8B5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235D35-FEEF-4ABC-9336-328973DC9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9BD37F-01E9-4280-A4B9-E4351E0FA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B38E31-13AD-4DB7-AAAA-22844C968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00FFB7-8639-4174-A0ED-FC2B30FB0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439947-65D9-443E-8552-72FF70C0E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D8A1DA-B70E-45C7-ADB1-C2E80EFE8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2E407-DB48-4640-ABD0-79B9372E6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FF6D39-F95F-4C07-A390-59B7DECA7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C90338-BB94-4F8B-988A-420EECF80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8A152C-421F-44A0-9850-D2B39C32D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413444-C701-4627-B591-FB4FEB3F4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486BD4-F315-43C6-B7FE-3C80FB82B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C562BC-BC6A-4863-97A4-85D6A3E13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CFBC20-622F-412E-9FAB-FB48EB88B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E2F704-9256-4FE5-9667-0AE46F137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E4A900-69F1-495F-9B21-DC9DC858E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E4284C-EBF8-4B35-B6E5-B9055CD82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60828-8343-49DA-906B-04C5F21EA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BB2CAA-C4EB-4BA2-8E92-DF58CACC3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44E104-C2BA-44D0-B2F8-7FA948104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234A80-8DB8-4071-8ADF-863E0AFD9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D5AD38-1113-4616-A26D-FA0685C02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4AC353-EB9F-4ACD-9554-978CFBB5C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93B8A6-6B97-480C-8186-EDEB5D5B0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2C8367-9144-4214-A6F5-3D9994B82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6ADDEB-4B14-46FC-B905-E196F36DB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4069BF-4726-4B9F-A1FC-A59605774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0F7338-7A65-412A-B056-4D901ECC0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AA5C6-F9B3-4EAF-B383-8C78F9AF9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F7D684-37C3-4742-B547-67968EF26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CF0E74-F2F4-4CC1-96DF-D723523A5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5B6C39-61BA-431F-891A-EFC70C548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E2BF37-8256-4032-97A0-443632EBB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A6C540-B49E-49FB-9228-11BF4B533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953C45-67F5-445A-92C0-7993B1E03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1E9CC9-1847-4198-975A-C0C1DFF81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C2F4E8-301C-4995-B56C-004C5F2FE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16B512-2DF2-47AA-B24A-1AF4B7A91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3F224A-E668-4841-A5CB-1AA351A94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926D6-39BA-48BC-8C4C-B00912487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714BF5-3548-4B35-9B9F-B49C0F905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AD3C25-2C25-4BAF-B34D-BF3A3DC51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F9E220-804C-44A6-B390-979F70763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22129F-DE85-44E7-AB83-21EB710B5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7775D7-6085-458D-86D2-2E19B0314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13D344-8BF3-4520-A69D-1DA303C7D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9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0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47BC9D-CF24-4C4E-9459-8DFC99FD9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69C057-7274-48BD-B8BD-EF2C04898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573370-9B7F-4D67-9A0C-BD943091B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FD6523-1029-4AC9-9316-A4EC0AE07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4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FF363-876B-49F5-811B-7DD35B6CC241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0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21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3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634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6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28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29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30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332FC-0FEA-4E37-B1E1-BBF8F419883D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9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70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 type="dt" idx="31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 type="ftr" idx="32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 type="sldNum" idx="33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95C4F-164E-44F1-9185-A6223F5747ED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75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77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TextBox 34"/>
          <p:cNvSpPr/>
          <p:nvPr/>
        </p:nvSpPr>
        <p:spPr>
          <a:xfrm>
            <a:off x="1808280" y="6476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TextBox 62"/>
          <p:cNvSpPr/>
          <p:nvPr/>
        </p:nvSpPr>
        <p:spPr>
          <a:xfrm>
            <a:off x="8169120" y="2905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 type="dt" idx="34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 type="ftr" idx="35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5"/>
          <p:cNvSpPr>
            <a:spLocks noGrp="1"/>
          </p:cNvSpPr>
          <p:nvPr>
            <p:ph type="sldNum" idx="36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293D7-7A02-42BB-A652-D9FFE7FE45ED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83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84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 type="dt" idx="37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 type="ftr" idx="38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5"/>
          <p:cNvSpPr>
            <a:spLocks noGrp="1"/>
          </p:cNvSpPr>
          <p:nvPr>
            <p:ph type="sldNum" idx="39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A6CB4-07AC-4259-B9A5-9D3467DDCC9E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89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91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TextBox 34"/>
          <p:cNvSpPr/>
          <p:nvPr/>
        </p:nvSpPr>
        <p:spPr>
          <a:xfrm>
            <a:off x="1808280" y="6476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TextBox 62"/>
          <p:cNvSpPr/>
          <p:nvPr/>
        </p:nvSpPr>
        <p:spPr>
          <a:xfrm>
            <a:off x="8169120" y="2905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 type="dt" idx="40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 type="ftr" idx="41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5"/>
          <p:cNvSpPr>
            <a:spLocks noGrp="1"/>
          </p:cNvSpPr>
          <p:nvPr>
            <p:ph type="sldNum" idx="42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484BA-CB73-463D-8FFC-D5957F0726DF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97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98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 type="dt" idx="43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 type="ftr" idx="44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5"/>
          <p:cNvSpPr>
            <a:spLocks noGrp="1"/>
          </p:cNvSpPr>
          <p:nvPr>
            <p:ph type="sldNum" idx="45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5F40A-2FFF-41EE-BF84-7FE6339BF445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03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05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 type="dt" idx="46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 type="ftr" idx="47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 type="sldNum" idx="48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C022C-3AD2-4A8E-987A-3D6EFFE91A38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7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108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0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121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3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 type="dt" idx="49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PlaceHolder 4"/>
          <p:cNvSpPr>
            <a:spLocks noGrp="1"/>
          </p:cNvSpPr>
          <p:nvPr>
            <p:ph type="ftr" idx="50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5"/>
          <p:cNvSpPr>
            <a:spLocks noGrp="1"/>
          </p:cNvSpPr>
          <p:nvPr>
            <p:ph type="sldNum" idx="51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F7839-F9DF-4E20-84F8-256E45D46FA5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6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177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0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9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190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3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4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5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6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7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8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9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0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1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2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 type="dt" idx="52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PlaceHolder 4"/>
          <p:cNvSpPr>
            <a:spLocks noGrp="1"/>
          </p:cNvSpPr>
          <p:nvPr>
            <p:ph type="ftr" idx="53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PlaceHolder 5"/>
          <p:cNvSpPr>
            <a:spLocks noGrp="1"/>
          </p:cNvSpPr>
          <p:nvPr>
            <p:ph type="sldNum" idx="54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B92C0-BB9E-424B-9297-362D8BE00B1B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8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Freeform 8"/>
          <p:cNvSpPr/>
          <p:nvPr/>
        </p:nvSpPr>
        <p:spPr>
          <a:xfrm>
            <a:off x="-31680" y="4321080"/>
            <a:ext cx="1395360" cy="781200"/>
          </a:xfrm>
          <a:custGeom>
            <a:avLst/>
            <a:gdLst/>
            <a:ahLst/>
            <a:rect l="l" t="t" r="r" b="b"/>
            <a:pathLst>
              <a:path w="8042" h="10000">
                <a:moveTo>
                  <a:pt x="5799" y="10000"/>
                </a:moveTo>
                <a:cubicBezTo>
                  <a:pt x="5880" y="10000"/>
                  <a:pt x="5934" y="9940"/>
                  <a:pt x="5961" y="9880"/>
                </a:cubicBezTo>
                <a:cubicBezTo>
                  <a:pt x="5961" y="9820"/>
                  <a:pt x="5988" y="9820"/>
                  <a:pt x="5988" y="9820"/>
                </a:cubicBezTo>
                <a:lnTo>
                  <a:pt x="8042" y="5260"/>
                </a:lnTo>
                <a:cubicBezTo>
                  <a:pt x="8096" y="5140"/>
                  <a:pt x="8096" y="4901"/>
                  <a:pt x="8042" y="4721"/>
                </a:cubicBezTo>
                <a:lnTo>
                  <a:pt x="5988" y="221"/>
                </a:lnTo>
                <a:cubicBezTo>
                  <a:pt x="5988" y="160"/>
                  <a:pt x="5961" y="160"/>
                  <a:pt x="5961" y="160"/>
                </a:cubicBezTo>
                <a:cubicBezTo>
                  <a:pt x="5934" y="101"/>
                  <a:pt x="5880" y="41"/>
                  <a:pt x="5799" y="41"/>
                </a:cubicBezTo>
                <a:lnTo>
                  <a:pt x="18" y="0"/>
                </a:lnTo>
                <a:cubicBezTo>
                  <a:pt x="12" y="3330"/>
                  <a:pt x="6" y="6661"/>
                  <a:pt x="0" y="9991"/>
                </a:cubicBezTo>
                <a:lnTo>
                  <a:pt x="5799" y="10000"/>
                </a:ln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4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5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6"/>
          </p:nvPr>
        </p:nvSpPr>
        <p:spPr>
          <a:xfrm>
            <a:off x="423360" y="4529160"/>
            <a:ext cx="584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DB2AA-A4CB-404B-AAE2-540E0582E684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38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51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7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8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9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45F2F-1901-42E6-B125-1EA92A32E2C9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207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220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dt" idx="10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ftr" idx="11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sldNum" idx="12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FE1D1-872F-498F-B87F-866082C955D3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5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276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8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289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1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13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14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15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144D8-E0D2-4122-9D4B-D0F5B2722CE1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4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345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7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358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0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16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17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18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467D3-2D52-4033-A4C8-026347349C91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3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414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6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427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9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dt" idx="19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ftr" idx="20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sldNum" idx="21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0FEDE-A5F3-4706-B924-841AC5E4D793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2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483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5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496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8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 type="dt" idx="22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 type="ftr" idx="23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 type="sldNum" idx="24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9EF93-BB37-4181-A541-DBB4B1266028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1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552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4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565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7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 type="dt" idx="25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 type="ftr" idx="26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 type="sldNum" idx="27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E2150-5EC9-4305-8571-02E46F1261BB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772400" cy="36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Алгоритм деятельности психолого-медико-педагогического консилиума (ПМПк) в образовательной организации (ОО)</a:t>
            </a: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 type="subTitle"/>
          </p:nvPr>
        </p:nvSpPr>
        <p:spPr>
          <a:xfrm>
            <a:off x="250920" y="3212640"/>
            <a:ext cx="8642160" cy="33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ru-RU" sz="1800" spc="-1" strike="noStrike">
              <a:solidFill>
                <a:srgbClr val="595959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Алгоритм деятельности</a:t>
            </a:r>
            <a:endParaRPr b="0" lang="en-US" sz="2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63" name=""/>
          <p:cNvSpPr txBox="1"/>
          <p:nvPr/>
        </p:nvSpPr>
        <p:spPr>
          <a:xfrm>
            <a:off x="179280" y="692280"/>
            <a:ext cx="878544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Заключения специалистов, коллегиальное заключение ПМПк доводятся до сведения родителей (законных представителей) </a:t>
            </a:r>
            <a:r>
              <a:rPr b="0" lang="ru-RU" sz="28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в доступной для понимания форме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, предложенные рекомендации реализуются </a:t>
            </a:r>
            <a:r>
              <a:rPr b="0" lang="ru-RU" sz="28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только с их согласия.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ри направлении ребенка в ПМПК </a:t>
            </a:r>
            <a:r>
              <a:rPr b="0" lang="ru-RU" sz="28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копия коллегиального заключения ПМПк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выдается родителям (законным представителям) на руки или направляется по почте,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Копии заключений специалистов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направляются только по почте или сопровождаются представителем ПМПк. 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 другие учреждения и организации заключения специалистов или коллегиальное заключение ПМПк могут направляться </a:t>
            </a:r>
            <a:r>
              <a:rPr b="0" lang="ru-RU" sz="28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только по официальному запросу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5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О формах учета деятельности специалистов ПМПк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1. </a:t>
            </a:r>
            <a:r>
              <a:rPr b="1" lang="ru-RU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Журнал записи детей на ПМПк</a:t>
            </a:r>
            <a:endParaRPr b="0" lang="en-US" sz="2800" spc="-1" strike="noStrike">
              <a:solidFill>
                <a:srgbClr val="262626"/>
              </a:solidFill>
              <a:latin typeface="Century Gothic"/>
            </a:endParaRPr>
          </a:p>
        </p:txBody>
      </p:sp>
      <p:graphicFrame>
        <p:nvGraphicFramePr>
          <p:cNvPr id="1265" name=""/>
          <p:cNvGraphicFramePr/>
          <p:nvPr/>
        </p:nvGraphicFramePr>
        <p:xfrm>
          <a:off x="179280" y="1844640"/>
          <a:ext cx="8640720" cy="3637080"/>
        </p:xfrm>
        <a:graphic>
          <a:graphicData uri="http://schemas.openxmlformats.org/drawingml/2006/table">
            <a:tbl>
              <a:tblPr/>
              <a:tblGrid>
                <a:gridCol w="365400"/>
                <a:gridCol w="858600"/>
                <a:gridCol w="1079640"/>
                <a:gridCol w="1297080"/>
                <a:gridCol w="647640"/>
                <a:gridCol w="1536480"/>
                <a:gridCol w="984240"/>
                <a:gridCol w="1871640"/>
              </a:tblGrid>
              <a:tr h="1616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та, 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ем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.И.О.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бенк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та рождения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число, месяц, год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ициатор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ращени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вод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ращени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афик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сультирования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ециалистами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21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86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9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2. Журнал регистрации заключений и рекомендаций специалистов, коллегиального заключения и рекомендаций ПМПк</a:t>
            </a:r>
            <a:endParaRPr b="0" lang="en-US" sz="2900" spc="-1" strike="noStrike">
              <a:solidFill>
                <a:srgbClr val="262626"/>
              </a:solidFill>
              <a:latin typeface="Century Gothic"/>
            </a:endParaRPr>
          </a:p>
        </p:txBody>
      </p:sp>
      <p:graphicFrame>
        <p:nvGraphicFramePr>
          <p:cNvPr id="1267" name=""/>
          <p:cNvGraphicFramePr/>
          <p:nvPr/>
        </p:nvGraphicFramePr>
        <p:xfrm>
          <a:off x="250920" y="2781360"/>
          <a:ext cx="8642160" cy="3095640"/>
        </p:xfrm>
        <a:graphic>
          <a:graphicData uri="http://schemas.openxmlformats.org/drawingml/2006/table">
            <a:tbl>
              <a:tblPr/>
              <a:tblGrid>
                <a:gridCol w="353880"/>
                <a:gridCol w="835200"/>
                <a:gridCol w="1052280"/>
                <a:gridCol w="1258920"/>
                <a:gridCol w="631800"/>
                <a:gridCol w="693720"/>
                <a:gridCol w="1582920"/>
                <a:gridCol w="1014480"/>
                <a:gridCol w="1218960"/>
              </a:tblGrid>
              <a:tr h="223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та, 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ем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.И.О.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бенк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та рождения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число, месяц, год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блем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ключение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ециалиста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ли коллегиальное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ключение ПМПк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комендации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ециалист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ли состав ПМПк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Нормативно-правовая база</a:t>
            </a:r>
            <a:endParaRPr b="0" lang="en-US" sz="22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47" name=""/>
          <p:cNvSpPr txBox="1"/>
          <p:nvPr/>
        </p:nvSpPr>
        <p:spPr>
          <a:xfrm>
            <a:off x="46836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«Об образовании в Российской Федерации»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ФЗ РФ от 29.12.2012.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№273-ФЗ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609480" indent="-6094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«Об образовании»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(Принят ГосСоветом РТ 28.06.13 г.). Закон РТ от 22.07.13 г.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№ 68-ЗРТ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609480" indent="-6094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«Об основных гарантиях прав ребенка в РФ».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ФЗ от 24.07.98 г.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№ 124-ФЗ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609480" indent="-6094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«Об утверждении ФГОС НОО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бучающихся с ОВЗ».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риказ МОиН РФ от 19.12.14.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№ 1598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609480" indent="-6094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«Об утверждении ФГОС образования обучающихся с умственной отсталостью (интеллектуальными нарушениями)»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. Приказ МОиН РФ от 19.12.14.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№ 1599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Нормативно-правовая база</a:t>
            </a:r>
            <a:endParaRPr b="0" lang="en-US" sz="24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49" name=""/>
          <p:cNvSpPr txBox="1"/>
          <p:nvPr/>
        </p:nvSpPr>
        <p:spPr>
          <a:xfrm>
            <a:off x="179280" y="836280"/>
            <a:ext cx="878544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«Об утверждении Положения о психолого-медико-педагогической комиссии»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. Приказ МОиН РФ от 20.09.13.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№ 1082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«О психолого-медико-педагогическом консилиуме (ПМПк) образовательного учреждения»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. Письмо МО РФ от 27.03.2000.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№ 27/901-6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«О создании условий для получения образования детьми с ограниченными возможностями здоровья и детьми-инвалидами»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. Письмо МОиН РФ от 18.04.08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№ АФ-150/06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70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500"/>
            </a:br>
            <a:br>
              <a:rPr sz="2500"/>
            </a:br>
            <a:br>
              <a:rPr sz="2500"/>
            </a:br>
            <a:r>
              <a:rPr b="1" lang="ru-RU" sz="25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О порядке создания и организации работы ПМПк ОО</a:t>
            </a:r>
            <a:endParaRPr b="0" lang="en-US" sz="25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51" name=""/>
          <p:cNvSpPr txBox="1"/>
          <p:nvPr/>
        </p:nvSpPr>
        <p:spPr>
          <a:xfrm>
            <a:off x="468360" y="1052640"/>
            <a:ext cx="8229600" cy="510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Приказ руководителя</a:t>
            </a: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ОО при наличии соответствующих специалистов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Устав ОО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Договор между ОО и родителями</a:t>
            </a: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(законными представителями) обучающегося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Примерный состав ПМПк (комплексный подход):</a:t>
            </a:r>
            <a:endParaRPr b="0" lang="en-US" sz="22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53" name=""/>
          <p:cNvSpPr txBox="1"/>
          <p:nvPr/>
        </p:nvSpPr>
        <p:spPr>
          <a:xfrm>
            <a:off x="250560" y="692280"/>
            <a:ext cx="8713800" cy="59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бщее руководство ПМПк – руководитель ОО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редседатель консилиума - заместитель руководителя ОО по учебно работе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едагог, представляющий ребенка на ПМПк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едагог-психолог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Учитель-дефектолог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Учитель-логопед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рач-педиатр, медицинская сестра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3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5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Цель ПМПк</a:t>
            </a:r>
            <a:endParaRPr b="0" lang="en-US" sz="25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55" name=""/>
          <p:cNvSpPr txBox="1"/>
          <p:nvPr/>
        </p:nvSpPr>
        <p:spPr>
          <a:xfrm>
            <a:off x="250920" y="836280"/>
            <a:ext cx="864216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172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- 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беспечение </a:t>
            </a:r>
            <a:r>
              <a:rPr b="0" lang="ru-RU" sz="28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диагностико-коррекционного ПМПсопровождения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обучающихся с ОВЗ,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172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исходя из реальных возможностей ОО</a:t>
            </a: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i="1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(Статья 3. Закон №273-ФЗ: «в пределах, предоставляемых образовательной организацией». Устав ОО)</a:t>
            </a: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и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172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в соответствии со специальными образовательными потребностями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, возрастными и индивидуальными особенностями, состоянием соматического и нервно-психического здоровья обучающихся, воспитанников </a:t>
            </a:r>
            <a:r>
              <a:rPr b="0" i="1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(</a:t>
            </a:r>
            <a:r>
              <a:rPr b="0" i="1" lang="ru-RU" sz="28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структура дефекта: что первично, что вторично</a:t>
            </a:r>
            <a:r>
              <a:rPr b="0" i="1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Задачи ПМПк </a:t>
            </a:r>
            <a:br>
              <a:rPr sz="2200"/>
            </a:br>
            <a:endParaRPr b="0" lang="en-US" sz="22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57" name=""/>
          <p:cNvSpPr txBox="1"/>
          <p:nvPr/>
        </p:nvSpPr>
        <p:spPr>
          <a:xfrm>
            <a:off x="250560" y="1197000"/>
            <a:ext cx="87138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выявление и ранняя диагностика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отклонений в развитии и/или состояний декомпенсации </a:t>
            </a:r>
            <a:r>
              <a:rPr b="0" i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(в течение года);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профилактика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физических, интеллектуальных и эмоционально-личностных перегрузок и срывов </a:t>
            </a:r>
            <a:r>
              <a:rPr b="0" i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(предупреждение хронификации и появления вторично-вторичных дефектов);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ыявление </a:t>
            </a:r>
            <a:r>
              <a:rPr b="0" lang="ru-RU" sz="24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резервных возможностей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развития </a:t>
            </a:r>
            <a:r>
              <a:rPr b="0" i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(возможность создания новой функциональной системы);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пределение </a:t>
            </a:r>
            <a:r>
              <a:rPr b="0" lang="ru-RU" sz="24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характера, продолжительности, эффективности, необходимости изменения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специальной (коррекционной) помощи в рамках имеющихся в данном ОО возможностей </a:t>
            </a:r>
            <a:r>
              <a:rPr b="0" i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(плановые (1 раз в квартал) и внеплановые консилиумы по запросу родителей, педагогов, других организаций);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одготовка и ведение </a:t>
            </a:r>
            <a:r>
              <a:rPr b="0" lang="ru-RU" sz="24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документации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, отражающей актуальное развитие ребенка, динамику его состояния, уровень успешности (</a:t>
            </a:r>
            <a:r>
              <a:rPr b="0" i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пособы фиксации данных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250560" y="274680"/>
            <a:ext cx="8713800" cy="41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Алгоритм деятельности</a:t>
            </a:r>
            <a:endParaRPr b="0" lang="en-US" sz="22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59" name=""/>
          <p:cNvSpPr txBox="1"/>
          <p:nvPr/>
        </p:nvSpPr>
        <p:spPr>
          <a:xfrm>
            <a:off x="179280" y="765000"/>
            <a:ext cx="878544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Направление на городскую (районную) ПМПК: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Times New Roman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для определения дальнейшего образовательного маршрута; 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Times New Roman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ри отсутствии в данном ОО условий, адекватных индивидуальным особенностям ребенка;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Times New Roman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ри необходимости углубленной диагностики и/или разрешения конфликтных и спорных вопросов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Назначение ведущего специалиста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(олигофренопедагог, или тифлопедагог, или сурдопедагог, или учитель-логопед, или нейропсихолог) </a:t>
            </a:r>
            <a:r>
              <a:rPr b="0" i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(См.: «Об интегрированном воспитании и обучении детей с отклонениями в развитии в дошкольных образовательных учреждениях». Письмо МОиН РФ от 16.01.2002 г. </a:t>
            </a:r>
            <a:r>
              <a:rPr b="0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№ 03-51-5ин /23-03)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435880" cy="41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Алгоритм деятельности</a:t>
            </a:r>
            <a:endParaRPr b="0" lang="en-US" sz="2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61" name=""/>
          <p:cNvSpPr txBox="1"/>
          <p:nvPr/>
        </p:nvSpPr>
        <p:spPr>
          <a:xfrm>
            <a:off x="250560" y="692280"/>
            <a:ext cx="871380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172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пределение </a:t>
            </a:r>
            <a:r>
              <a:rPr b="0" lang="ru-RU" sz="28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формы и степени интеграции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ребенка с ОВЗ</a:t>
            </a:r>
            <a:r>
              <a:rPr b="0" lang="ru-RU" sz="1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i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(См.: «О создании условий для получения образования детьми с ОВЗ и детьми-инвалидами». Письмо МОиН РФ от 18.04.08 </a:t>
            </a:r>
            <a:r>
              <a:rPr b="0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№ АФ-150/06)</a:t>
            </a:r>
            <a:r>
              <a:rPr b="0" i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172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Times New Roman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 обычном классе по индивидуальному учебному плану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172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Times New Roman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 классе </a:t>
            </a:r>
            <a:r>
              <a:rPr b="0" i="1" lang="ru-RU" sz="24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компенсирующей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направленности (по профилю)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172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172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пределение состава </a:t>
            </a:r>
            <a:r>
              <a:rPr b="0" lang="ru-RU" sz="28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междисциплинарной команды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(</a:t>
            </a:r>
            <a:r>
              <a:rPr b="0" i="1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лужбы сопровождения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) под руководством ведущего специалиста 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172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(проводит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коррекционно-развивающее обучение; внеурочную специальную (коррекционную) работу </a:t>
            </a:r>
            <a:r>
              <a:rPr b="0" i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(социализация, общение); </a:t>
            </a: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тслеживание динамики развития ребенка и эффективности оказываемой ему помощи; обучение родителей технологиям сотрудничества с ребенком; оказание психологической поддержки; выходит с инициативой повторных обсуждений на ПМПк)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4-13T12:58:05Z</dcterms:created>
  <dc:creator>Марина</dc:creator>
  <dc:description/>
  <dc:language>en-US</dc:language>
  <cp:lastModifiedBy>Пользователь</cp:lastModifiedBy>
  <dcterms:modified xsi:type="dcterms:W3CDTF">2018-05-16T17:46:14Z</dcterms:modified>
  <cp:revision>31</cp:revision>
  <dc:subject/>
  <dc:title>Алгоритм деятельности психолого-медико-педагогического консилиума (ПМПк) в образовательной организации</dc:title>
</cp:coreProperties>
</file>