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EBC2-BFE3-4380-ABC8-455644D28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73C0-8977-475F-86C7-F40CBF4B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CD729-AC02-4E6B-B55C-946D1382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91232B-1352-43E5-AEF3-F6E6695A7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36593-6947-433E-AC3A-604C867D9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016FB-871F-405D-AFE7-BB1004A5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EF848-669D-49FF-8822-4DD19A00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F5613A-02D8-4348-A757-5963F899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D023E-F418-4055-9EB6-5177962D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81A0C-374F-4267-BF06-9A17476F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C4F09-9B3E-4E14-95EB-130827092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972F29-8CF8-41DF-96CA-F0418A9C6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5E9F-EA13-4C34-AF4C-8E6E14C94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53A4C1-65EB-41D9-98EC-6DBADB017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7A80CC-4EFF-429F-83CC-4C2306553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32F70-DD2C-493C-BB4B-756BB677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E9EC65-6DF5-4348-AF29-174EE104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FA6925-7A1D-4EE4-9AC6-B289CDC7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362158-4C97-4F46-89CC-25FDDF1A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9BD76-C51D-4CEE-A253-38F8DE4B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0A5790-5974-47AD-8D10-55734242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66BBDF-899C-4215-A038-1E32E0AE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CDACE9-8C94-4E09-8BA7-A0E7B1F7C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DD92-182A-44E4-A541-D078E63CC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81132-9A03-45CB-8B14-1FBF5CFE3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EB86B-388A-4CD9-8523-92F362493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8A7EEA-8162-4C0F-8308-F6A583E7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A68EB5-B29E-4870-B6A8-2C58FB2B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B48D8-CECD-4DA4-84C5-39C8454B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D01A2-A302-4D94-8829-CD322A0F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7B882-85D2-4C68-90AB-66455CD8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ED4E9-DCEF-4F73-BEA9-F94E23F4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A0844-927A-4DA1-910E-28DCEDBF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DC75A-6B77-4C9C-B34F-ACE3D6C6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C0CD-CC92-4268-ADB4-55CCAC6F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98D69F-289F-431E-B09C-9490B4CC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F4A7F3-95D7-4059-AA8E-E64D8D74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308ACF-0308-4EA2-991E-7DF9EFF03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B5338-A574-49D8-ADF9-53FD8BD5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EE9648-098B-4F94-8FD9-0CF24BDF5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B974E7-A0AA-455F-8D85-B84B01EF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926B1-74EF-4E6C-AE3E-8936007D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7AD389-4D35-45AC-B3BB-969945BC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62DE86-5DB7-4537-A383-164E0AFC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58CAC5-36EB-44EE-A243-6FEC8B1F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5604-55D8-40A3-A425-4A3849CF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575DB-5334-454D-9CFC-7B7849BE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0F6507-BFE6-421D-8B41-35D5F8B52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FF7AAB-AEBA-4ECF-8962-7D461928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C47FD4-BF90-4411-846A-3849DE6FA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2FD48B-B805-4F38-8A90-DC67065C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451BCC-C161-4E73-B8E4-4E21EEEFE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683A9A-D04D-4874-9942-1423931C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6A8417-4A15-49CE-848E-35A64FD6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9FF097-7A20-44EA-BF49-1A2F7466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CCA82C-B01C-4639-8CD6-7AFB9F395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C7C2-A08C-4CBC-A088-7FA715779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A53D96-E9F9-403D-9684-46F48CE4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DE3B97-C9F8-435B-8BF4-5283EA52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17E2AD-C6B1-46F3-A699-FEAC34C4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D887CB-5E05-4A15-B5A7-FF403A69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EAD953-FA47-4E82-B35C-2D5D1975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7BC9B7-D74F-480D-B128-3E44A4463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CDBC75-4D3C-4FF7-8ACE-015B318F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F8A7DA-4C39-40B3-B42D-B054C35E5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665673-9B2B-47C1-ABB1-0BB70356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917288-97DB-4F55-AB2F-6D32FE66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0592-7079-4EE1-B055-162397B5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62CA77-BACF-4731-9ECB-D848DD7B3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D6291E-B40E-4D8F-9FBF-D1CDF29A0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6257AA-88DF-4CE2-AC04-DB325262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CAF5FE-8913-4162-9CC9-1D553DC7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5ABDD1-EDFA-41F6-AEEC-F939EFEE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3685EE-588A-47BE-B511-5BCCD736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384704-EC57-4DEC-8F5B-1A475B7D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D5983F-BBF4-4357-BDCF-5AE65A811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D753CA-824F-46C2-9E4E-6F44A8B3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5DF850-B34D-472B-ADDF-C9EB0DA2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59C7-BF45-4DC1-8EEB-9FFDB07D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D27256-5C59-4579-A86B-CEA0DCAC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ADBF3B-1D72-43D1-BE69-CE9093FC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E045D5-2812-45B8-A8B4-49C6B20E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BCD479-1ED5-4FED-8A0A-1F56BE0B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604749-2DB8-4680-A335-3356E24D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592072-8A81-4AAB-87F4-CBCDCA19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8BCEEC-8740-465F-8A49-517722C4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F22D09-8EFF-4996-96F5-457AAE62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389D10-CCFA-4975-AF50-F3EB0191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993241-0975-4A81-AC24-05EA66BB2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8F22-AE3A-4BAE-B618-F0268369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71ECF8-3874-4CD0-984F-24EED050B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4AEABB-952A-4346-A7A2-FB18D2A03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ABEB34-E3DF-4E55-997E-5A5CFF01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B920C6-5939-4C9D-8EEF-7FBC58FD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5AF144-18CC-4140-8320-518C41CF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6F4A11-6AE7-40B8-B7B5-CE90228F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0C5160-8A12-4B4E-9F90-6BF150258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F0957E-3488-4888-8D85-12E9AA86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CE73FC-2177-4E9F-86A3-41FA4C7D2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337356-CD85-42F8-9C0C-98B1E518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DBBE7-D4CB-45E2-AAB4-6FE8AAE0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D5CE6E-4A6F-479B-B244-3DAC01C6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F99A4F-B3C3-4826-9197-F5C015EA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C55464-8E7A-4877-A526-FD8E311C0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E05201-5732-4541-BD8B-C3DDDD9E6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55FF5C-693D-45E0-B8F0-E4707E62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D0DC9F-9483-4F18-82F4-9229F81A9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9DEE58-9B9B-442C-8535-7487E620F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BB5D91-627F-4E78-A8DD-E60DF525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C67729-D721-47E9-B5FB-8AEAD21A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130B92-5100-41DD-A3EC-58539B94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FE15-AE0C-43E1-85CE-4F062C43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A213-42E9-4A43-A0EE-6695D39F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4884EF-BCA6-406F-88D7-B82256D9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121F2D-43BD-4859-936D-D2731A68F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0FB21F-E6E4-499D-B36E-BCFDD796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CB4BF4-DF68-4C36-8980-9BD188DF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57DAA9-8F69-47FF-AD4F-D10330E0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C730C8-C94C-468D-9614-EB0499E06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75A540-1A89-44E0-B3CD-4806691D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E6AC4B-A583-4624-A26B-4A28DDC7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3EF4A5-8B84-43A8-9612-FF40609D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0DFA08-A778-4BC6-822A-8BC03281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0494-5218-470C-8A48-8EF731F6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9F9A1B-A4F0-418A-9A8F-64E9AB65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62AC90-87EC-4CBF-A07E-08C586C1B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3DD662-5AF8-4913-AF8C-4D079E154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27388C-BACD-47B2-ADBC-697E1B562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722427-8B6B-4889-A8D5-209E09E8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637865-4405-479F-A324-86262C53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3EEF82-0D44-484B-ADD9-2B910765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AE63-BD2A-47CE-BF71-39886624A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F4A51-6E48-4C52-90CB-00E033F8B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029D-4F93-4751-A405-9330E5DC1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2E6C7-2CE7-4788-9831-329822E35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B3BE1-5936-4FA9-85F3-98D7E172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5A787-86A9-4D18-8E77-5F4395D7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ED15F-A316-4F2C-8618-41C8DC2F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45547-4AF5-41DD-B1F4-5F41F9D8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2AC7-C530-4F45-B70B-453696EB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BCAC2-A7FD-4270-9F71-78B719E62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0E94D-69C6-4D80-82AE-BF943D95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9ACD2-67BB-45A2-9D6F-76BF3F79A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894DD-ADEC-4E38-8B6D-5D130161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86D47-5417-414F-AA12-961AD2BD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D5061-C625-466A-A765-8B48CE08E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80CEE-71A6-49D3-A1B4-5F7A4B2D7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BC596-86FD-48E3-83F3-5678FD915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451CF-9FD7-4BCB-B70C-FF1C5A647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7446A-AECF-4C16-B121-CF0502E4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48D7-3B33-487C-817C-49A204DB8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DBFC0-B607-414D-BC61-24BF4CE9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3C6C37-E9DB-4381-8C23-D8F3AC87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6C71C-6A59-46F7-B501-3D5F4DD5A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833CD-1D3D-4317-9F63-B21260EB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BE478-E31C-4CAB-AFC1-9542A359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B4122-87C0-4536-A25B-4C95895D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99EAE-EA3A-4BA5-8008-BF5B451B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91992-0773-41DB-ADD9-0E29530C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74756-330A-4985-813A-7E6439A2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1140D-0A72-4CF5-A8BE-4A8BE33EE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AAA1-9B71-4F76-ABB5-01F4FE3C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E893C-5E7A-4746-A0F5-FC0B171CE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E9859-5011-45B8-95EC-1A047110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267358-1395-4612-97C2-CB52A795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E44172-5C29-4F3E-BD9A-C57C8FE2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3FF1F-647D-43AF-91BE-F025B966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AE92E-DDE9-4ACF-9AD3-114D4D21B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4CE2D-248F-4717-A5A4-4F1A6A4C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E8CD52-4EC6-4DE3-A1CA-63B3480D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ABC23-ADD0-4B48-9A1A-01B4F5F2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5D9183-4C0C-4BFE-B65B-C2DA2EF1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3FC6-750D-4BAF-A710-D9EFC42E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55350-6371-4FD2-B690-DA9560DED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706E8-6F8A-4A75-AA6E-AA49C5991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363630-727C-4644-8402-47CCFB8E2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92763-A703-4B7B-96D6-F174E479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36D34-92D1-48F2-9713-8DB72043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9D00DF-26B6-472C-ADF1-66104CB1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A96E8-C29F-4D14-873B-928CF9B53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54F32-A287-400F-8ACA-BACEF768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CC9FF-D25F-4682-80C7-4931A9493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DB6A6-B75E-4D62-84A4-672A2F06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4995-4C5B-4E29-8F6F-EC9298FA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CB227-3C61-4992-A29E-16091372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CEED8-D640-4544-9932-464F3631D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B8BC5-07FE-4D89-A685-440383969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422EA-05C2-4507-AFA2-17ECC319F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956021-F5E0-41B3-9096-8F6F31BB4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9D561-0BA9-40E1-8BEF-815D0ED9D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713D4-3125-4615-92E4-99613AD2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9BF86-1130-43D8-BA7B-86F76CBEB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2C568-E6D6-4B17-AE6E-504C0EE8F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B0987-64D7-40A2-A75F-A7A7F8C9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6100-1C6D-4115-82C4-8A6F4530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7F5F9-B93B-473C-B9BB-8D806E8D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18726-CF15-4933-92A8-C0AB24B3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8300B-D3CA-4C2D-9C06-DC951B7C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B359F-69EC-4B36-B25C-707E3C82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742D22-7ED9-4010-B715-073CCFE22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D9230-9CFF-4D5F-B3E6-AFD8C2258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E78669-9568-4F8D-8F68-3D33DD8DC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4BBE7-3DFB-492E-B45E-151E7CCD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9B865-D471-44F3-A395-E9E31EC1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398191-BB18-4DE0-A0B0-89D6067E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5635-7D2A-46FD-8D83-EC170A90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62049-29AF-47F2-8903-419E4CE1E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EC15D5-F2E4-4426-8543-15A81F76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A454C-64BA-4948-995A-12E3705B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74368-FBA4-4820-A861-55394709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8DF35-A800-47AE-B13E-EA301CEE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97286-D1E9-4A21-A41C-787FB6D67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EF111-7A6E-4970-B742-3480B494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AC7BFB-9071-4344-95CB-93E255B4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5EDB5-66F6-4A82-9CD6-CBCD3B8C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9E247-B334-42F9-9CE2-805ACE5D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D17A-5431-481E-8D05-E8CD107BFBC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6892-2D36-4308-93A8-16013D88CFE8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0CEC-EBF9-42B4-ADFE-DDFF255BD5A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EE6D-04EB-443E-A77A-A00AA1622B37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A6A57-7BB8-4A0E-9CB7-AF28310DC0DB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a53010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351E-A3B1-4572-90BE-627D63719CF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0C6D7-CE29-48B0-BFA6-306B140ACA8E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3ED6-861F-496C-ABBA-969798B7E87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B60F-AA65-439B-A49C-A3106B6C3C6C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7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9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 type="dt" idx="5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 type="ftr" idx="5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 type="sldNum" idx="5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F3F0-4E2F-456B-B113-426BDEE338DF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8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116B-E09F-4326-912D-75855DFF046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D20F-AA12-45A4-8560-A5B0A42E0EB6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E3195-A9EF-4A75-94B6-19115654D6AD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320C-2841-4342-8B41-525D5ACDA2E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BCBE1-968C-4418-AD04-5B5E01ED9419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82C05-86CB-4583-A26C-F9E8F6676F85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6C83-4563-4057-8A15-4D3491F49191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766f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766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766f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a53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1F3E-9D4F-47DA-86AB-1D48FA0F3AA4}" type="slidenum">
              <a:rPr b="0" lang="ru-RU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36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 психолого-медико-педагогического консилиума (ПМПк) в образовательной организации (ОО)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 type="subTitle"/>
          </p:nvPr>
        </p:nvSpPr>
        <p:spPr>
          <a:xfrm>
            <a:off x="250920" y="3212640"/>
            <a:ext cx="8642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595959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3" name=""/>
          <p:cNvSpPr txBox="1"/>
          <p:nvPr/>
        </p:nvSpPr>
        <p:spPr>
          <a:xfrm>
            <a:off x="179280" y="692280"/>
            <a:ext cx="8785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ключения специалистов, коллегиальное заключение ПМПк доводятся до сведения родителей (законных представителей)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 доступной для понимания форме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предложенные рекомендации реализуются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только с их согласия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направлении ребенка в ПМПК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пия коллегиального заключения ПМПк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выдается родителям (законным представителям) на руки или направляется по почте,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пии заключений специалистов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направляются только по почте или сопровождаются представителем ПМПк.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другие учреждения и организации заключения специалистов или коллегиальное заключение ПМПк могут направляться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только по официальному запросу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 формах учета деятельности специалистов ПМПк</a:t>
            </a: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1. </a:t>
            </a:r>
            <a:r>
              <a:rPr b="1" lang="ru-RU" sz="28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Журнал записи детей на ПМПк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65" name=""/>
          <p:cNvGraphicFramePr/>
          <p:nvPr/>
        </p:nvGraphicFramePr>
        <p:xfrm>
          <a:off x="179280" y="1844640"/>
          <a:ext cx="8640720" cy="3637080"/>
        </p:xfrm>
        <a:graphic>
          <a:graphicData uri="http://schemas.openxmlformats.org/drawingml/2006/table">
            <a:tbl>
              <a:tblPr/>
              <a:tblGrid>
                <a:gridCol w="365400"/>
                <a:gridCol w="858600"/>
                <a:gridCol w="1079640"/>
                <a:gridCol w="1297080"/>
                <a:gridCol w="647640"/>
                <a:gridCol w="1536480"/>
                <a:gridCol w="984240"/>
                <a:gridCol w="1871640"/>
              </a:tblGrid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исло, месяц, год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ициатор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од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щ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фик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ультирова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ам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1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8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2. Журнал регистрации заключений и рекомендаций специалистов, коллегиального заключения и рекомендаций ПМПк</a:t>
            </a:r>
            <a:endParaRPr b="0" lang="en-US" sz="29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1267" name=""/>
          <p:cNvGraphicFramePr/>
          <p:nvPr/>
        </p:nvGraphicFramePr>
        <p:xfrm>
          <a:off x="250920" y="2781360"/>
          <a:ext cx="8642160" cy="3095640"/>
        </p:xfrm>
        <a:graphic>
          <a:graphicData uri="http://schemas.openxmlformats.org/drawingml/2006/table">
            <a:tbl>
              <a:tblPr/>
              <a:tblGrid>
                <a:gridCol w="353880"/>
                <a:gridCol w="835200"/>
                <a:gridCol w="1052280"/>
                <a:gridCol w="1258920"/>
                <a:gridCol w="631800"/>
                <a:gridCol w="693720"/>
                <a:gridCol w="1582920"/>
                <a:gridCol w="1014480"/>
                <a:gridCol w="1218960"/>
              </a:tblGrid>
              <a:tr h="22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, 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бен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рождения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исло, месяц, год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бле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а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коллегиальное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ение ПМПк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комендац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ли состав ПМПк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рмативно-правовая база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7" name=""/>
          <p:cNvSpPr txBox="1"/>
          <p:nvPr/>
        </p:nvSpPr>
        <p:spPr>
          <a:xfrm>
            <a:off x="46836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бразовании в Российской Федерации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З РФ от 29.12.2012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273-ФЗ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бразовании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Принят ГосСоветом РТ 28.06.13 г.). Закон РТ от 22.07.13 г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68-ЗРТ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основных гарантиях прав ребенка в РФ».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З от 24.07.98 г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124-ФЗ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ФГОС НОО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учающихся с ОВЗ».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каз МОиН РФ от 19.12.14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 1598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ФГОС образования обучающихся с умственной отсталостью (интеллектуальными нарушениями)»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риказ МОиН РФ от 19.12.14.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 1599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Нормативно-правовая база</a:t>
            </a:r>
            <a:endParaRPr b="0" lang="en-US" sz="2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9" name=""/>
          <p:cNvSpPr txBox="1"/>
          <p:nvPr/>
        </p:nvSpPr>
        <p:spPr>
          <a:xfrm>
            <a:off x="179280" y="836280"/>
            <a:ext cx="8785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б утверждении Положения о психолого-медико-педагогической комиссии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риказ МОиН РФ от 20.09.13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1082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 психолого-медико-педагогическом консилиуме (ПМПк) образовательного учреждения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исьмо МО РФ от 27.03.2000.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27/901-6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О создании условий для получения образования детьми с ограниченными возможностями здоровья и детьми-инвалидами»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. Письмо МОиН РФ от 18.04.08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АФ-150/06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О порядке создания и организации работы ПМПк ОО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1" name=""/>
          <p:cNvSpPr txBox="1"/>
          <p:nvPr/>
        </p:nvSpPr>
        <p:spPr>
          <a:xfrm>
            <a:off x="468360" y="1052640"/>
            <a:ext cx="8229600" cy="51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иказ руководителя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О при наличии соответствующих специалистов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Устав ОО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оговор между ОО и родителями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законными представителями) обучающегося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Примерный состав ПМПк (комплексный подход):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3" name=""/>
          <p:cNvSpPr txBox="1"/>
          <p:nvPr/>
        </p:nvSpPr>
        <p:spPr>
          <a:xfrm>
            <a:off x="250560" y="692280"/>
            <a:ext cx="87138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щее руководство ПМПк – руководитель ОО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дседатель консилиума - заместитель руководителя ОО по учебно работе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дагог, представляющий ребенка на ПМПк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дагог-психолог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ель-дефектолог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читель-логопед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рач-педиатр, медицинская сестра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Цель ПМПк</a:t>
            </a:r>
            <a:endParaRPr b="0" lang="en-US" sz="25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250920" y="836280"/>
            <a:ext cx="864216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2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еспечение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иагностико-коррекционного ПМПсопровождения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бучающихся с ОВЗ,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исходя из реальных возможностей ОО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татья 3. Закон №273-ФЗ: «в пределах, предоставляемых образовательной организацией». Устав ОО)</a:t>
            </a:r>
            <a:r>
              <a:rPr b="1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 соответствии со специальными образовательными потребностями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возрастными и индивидуальными особенностями, состоянием соматического и нервно-психического здоровья обучающихся, воспитанников 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</a:t>
            </a:r>
            <a:r>
              <a:rPr b="0" i="1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структура дефекта: что первично, что вторично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Задачи ПМПк </a:t>
            </a:r>
            <a:br>
              <a:rPr sz="2200"/>
            </a:b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7" name=""/>
          <p:cNvSpPr txBox="1"/>
          <p:nvPr/>
        </p:nvSpPr>
        <p:spPr>
          <a:xfrm>
            <a:off x="25056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выявление и ранняя диагностика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отклонений в развитии и/или состояний декомпенсации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в течение года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профилактика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физических, интеллектуальных и эмоционально-личностных перегрузок и срывов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едупреждение хронификации и появления вторично-вторичных дефектов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явл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резервных возможностей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развития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возможность создания новой функциональной системы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характера, продолжительности, эффективности, необходимости изменения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специальной (коррекционной) помощи в рамках имеющихся в данном ОО возможностей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лановые (1 раз в квартал) и внеплановые консилиумы по запросу родителей, педагогов, других организаций)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дготовка и ведение </a:t>
            </a:r>
            <a:r>
              <a:rPr b="0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окументации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, отражающей актуальное развитие ребенка, динамику его состояния, уровень успешности (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пособы фиксации данных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179280" y="76500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Направление на городскую (районную) ПМПК: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для определения дальнейшего образовательного маршрута;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отсутствии в данном ОО условий, адекватных индивидуальным особенностям ребенка;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и необходимости углубленной диагностики и/или разрешения конфликтных и спорных вопросов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Назначение ведущего специалиста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олигофренопедагог, или тифлопедагог, или сурдопедагог, или учитель-логопед, или нейропсихолог)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м.: «Об интегрированном воспитании и обучении детей с отклонениями в развитии в дошкольных образовательных учреждениях». Письмо МОиН РФ от 16.01.2002 г.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03-51-5ин /23-03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435880" cy="41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262626"/>
                </a:solidFill>
                <a:latin typeface="Times New Roman"/>
                <a:ea typeface="Times New Roman"/>
              </a:rPr>
              <a:t>Алгоритм деятельности</a:t>
            </a:r>
            <a:endParaRPr b="0" lang="en-US" sz="2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250560" y="692280"/>
            <a:ext cx="87138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формы и степени интеграции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ребенка с ОВЗ</a:t>
            </a:r>
            <a:r>
              <a:rPr b="0" lang="ru-RU" sz="1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м.: «О создании условий для получения образования детьми с ОВЗ и детьми-инвалидами». Письмо МОиН РФ от 18.04.08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 АФ-150/06)</a:t>
            </a:r>
            <a:r>
              <a:rPr b="0" i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обычном классе по индивидуальному учебному плану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классе </a:t>
            </a:r>
            <a:r>
              <a:rPr b="0" i="1" lang="ru-RU" sz="24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компенсирующей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направленности (по профилю)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buClr>
                <a:srgbClr val="a5301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ение состава </a:t>
            </a:r>
            <a:r>
              <a:rPr b="0" lang="ru-RU" sz="28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междисциплинарной команды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лужбы сопровождения</a:t>
            </a:r>
            <a:r>
              <a:rPr b="0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) под руководством ведущего специалиста 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172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проводит</a:t>
            </a: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коррекционно-развивающее обучение; внеурочную специальную (коррекционную) работу </a:t>
            </a:r>
            <a:r>
              <a:rPr b="0" i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социализация, общение); </a:t>
            </a:r>
            <a:r>
              <a:rPr b="0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слеживание динамики развития ребенка и эффективности оказываемой ему помощи; обучение родителей технологиям сотрудничества с ребенком; оказание психологической поддержки; выходит с инициативой повторных обсуждений на ПМПк)</a:t>
            </a:r>
            <a:endParaRPr b="0" lang="en-US" sz="20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3T12:58:05Z</dcterms:created>
  <dc:creator>Марина</dc:creator>
  <dc:description/>
  <dc:language>en-US</dc:language>
  <cp:lastModifiedBy>Пользователь</cp:lastModifiedBy>
  <dcterms:modified xsi:type="dcterms:W3CDTF">2018-05-16T17:46:14Z</dcterms:modified>
  <cp:revision>31</cp:revision>
  <dc:subject/>
  <dc:title>Алгоритм деятельности психолого-медико-педагогического консилиума (ПМПк) в образовательной организации</dc:title>
</cp:coreProperties>
</file>