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64D-0762-4BC7-AE11-C66D092E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2851-44A2-4E24-B3ED-43E3ACBA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09D80-7989-4F3C-BAA5-A23CE781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54EA5-0C93-4ECE-8AAA-036D831A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C3936-BDA2-45E5-A30F-A811F282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747A0-1DD5-493D-93DA-2C724505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FABD6-14FF-455E-88C9-7CBC20EA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89F74-13E9-4133-BC5C-CBF33AE6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C0430-0DEE-4E04-A3FC-4FF93B29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D76E7-479A-44BD-B241-23D18F12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CD31D-39FB-4810-92E0-CA6DB5DC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34B0E-170F-44BC-8D85-A63F62D5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677D-7034-4E30-8910-CF6C100F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71ECB-492E-4C6A-9814-884609C8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E447A-73E2-4471-B826-7FAD7664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94BD8-CD22-4051-A6C9-4817ED8B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13C9D-7EF6-4CFE-8F88-68278277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8DC4D-89B4-413E-BCC9-1B0ACFDB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9CF3F-B77E-4D02-8EBB-7282352B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75CA2-E135-4324-B063-21B92C5F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35543-E570-4D55-B725-2874C02C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3975F-BC8D-4F8B-9AC8-35EE4B17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10529-5810-4A3C-AE33-0A000ECC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623-B14E-4C2D-902A-B334D489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09201-AC05-4A68-8B77-BD473F05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59E55-89D5-4FC7-91EB-CF3F48E4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8CA2C-F6ED-49EC-9DE0-28F4B34C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2B928-C87E-43B6-9F4B-DA0034C5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FCD3D-7ECD-49C1-8C13-29934CEA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B7927-A10D-4AF9-92D1-288F31A2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EE7E9-508E-44D7-99FE-1D17ACFE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F4627-2045-468E-A622-932138AF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69B42-E2E7-43AF-80F0-FD657CC8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CB9F3-17AC-4868-BA9F-9DE1ADF0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D132-FF51-4FC9-9D59-7425408D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A4026-33E6-4D1C-BFDF-9349C7E0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BFF38-32BA-41DF-B524-617FEBED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7F2A9-7A82-47AC-BB8B-47EC391E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F4DC8-C345-462E-ACF4-678A8A3C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9989C-A5F3-4735-A828-687FBCB8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444C6-B2EE-40C0-A0DF-BAC4F6AD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D1EFE-9147-4483-B51D-96D0DEC1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5D5CF-5771-400D-A473-C50A0162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B6EE3-7E56-49F7-ABCC-3C9C8F30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822CD-C4E3-4F0F-9581-DD862E73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C835-31E7-4D67-86C5-BECDBA1C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4F85A-E3BF-42AE-84E9-26061DE1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5D8F8-545E-4458-B873-66AC475F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2C9BD-F88E-4B67-8A60-E7190C0E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1A6B2-9C50-4981-AFA7-71FB25D7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B9DAE-2F57-47AA-B43D-AD01554E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C71895-E626-4119-9AC5-CDD7FB7D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B23592-2564-4F55-BDC0-B4A42D0A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AB22D-646A-4AC1-8BD5-DDC18FAB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09AF48-1E17-430E-A73D-45E5E8CE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B410F-AAD5-47F9-991E-C7B70ECD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7CCF-749E-4B32-981B-F549AA18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2C0B19-421F-4B67-9028-9E36DFBF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F785D-EE74-4484-984D-DE650F50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C0EC4-094E-4542-86C1-DE72B5DA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79FB5A-DD65-4322-9BBA-9728DD0D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E1FBB7-9CBF-4634-BE32-71608414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26482-B6F9-4732-8283-4EA7E64C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56F861-F858-408C-8A4A-0FEBD791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6265B-B42F-4E80-83D8-D4D511D8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336193-B9E8-4970-82D1-C1C0C1CF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517731-52B1-451E-8D27-A908C43A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164B-7EB5-429B-AB77-42B2DA66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B6089C-B993-43FD-B384-59160F2A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914F85-81F6-40FB-AB79-96A47389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138F7-7554-4A3A-AA9E-CBCAB120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36772F-86F9-4335-91A4-46374A15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6FEEB8-5EAD-49AF-B569-07645CC8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06C974-A7B6-448D-898D-9FF4AA11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9B5B37-F5CC-46BC-BB0A-F7699FE1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FEFC28-0546-4E0B-B67D-9F6CC648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E491AC-F5C3-48FE-BA1C-DFF52F50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0970D4-D73D-4FE1-9BB2-99E78AA7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DE45-E6F6-4AFE-AAE9-35CA9867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D125C7-BB7F-4126-9318-B51D2A64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A96FB-57F6-4C6F-A8C8-C1FD4592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E6460E-1B5C-47FF-9C04-6530F1A5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3CF447-BC4D-4F95-BB1C-7AD72C65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750DC9-9C83-4A5F-81D4-582471C2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75844B-017C-49B9-9290-5F921057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E2AB44-0BAC-4DA9-BD95-CAD5AE95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8CB068-FE87-44AA-BE8A-652614B6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7A9605-11D3-4505-9A67-79E94D76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255F7F-DD59-4E38-8BBD-02B8FF68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4394-4D4F-4FB5-A311-406A2E38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925181-4549-4AF4-B4DF-21042003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4673C3-E636-47C5-8B47-6158BAB0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7356B9-879C-45A5-AFBD-E277B93C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50974D-5AFB-473B-9A6F-9784DA4C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CBAFED-2840-4226-9501-FA427E3F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4EA607-F833-4EAB-A1E3-615B116C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2115DD-6154-40ED-A492-4A4C9AD3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595B13-675E-4FB5-B845-B83E16BE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4CA116-9459-4EC6-9AA6-027F0C60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24D19E-5E26-411B-95A1-ED21A9E5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B051-54D3-4677-9822-B7B00099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0C6E7D-F93A-41A1-A9A5-BC251840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4B4E98-9E36-4327-B3E6-21C86812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FA137C-4F6A-4BF7-9C07-BD4FA8AB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B2DA6D-CE88-4163-AF2D-32D877BD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0C21A4-90C7-497A-87C7-930BD293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8ABA15-8FED-44C4-82E3-6ACE710C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C8BE63-A976-4E14-9718-33A342B2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1C65A7-3221-417C-82E3-A5FD7252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FFE5F5-E476-4B8A-A7CA-33BBB155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F3A2FD-DF60-460D-ACDD-5E1D3E04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6DD7-3D4C-4232-A759-8EB22C0B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E07E-F941-4733-91F7-A5F31CC6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E4120D-A32E-4B44-9DA6-233420D0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44C5EC-ADEA-4D7C-8F9C-9F55309B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2FC1BE-5A06-4820-8C0F-069BAE0D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BED3F8-6247-4179-AACF-9E026C59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3A6C00-0A6D-4049-82B6-306583DE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EBD83C-5AB6-459A-A076-CC6182FC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E54526-77F2-47C3-95E0-9144753A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91B85C-D1F0-48E8-8F81-3D5AAEA9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942B01-D39E-4969-8CA9-827D209F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1E8867-4445-406A-9822-9DD06BAD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C9C2-ACF6-44FE-8F7F-920CAF83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39931D-F742-44AA-8404-F4933250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9EC9D3-E9AB-4436-9444-83D79E37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D84768-822F-431F-857A-3D935949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5AE4DA-1032-4DFE-B7EB-967B36C5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A5AC51-42E1-4DD5-8846-25403E72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C6C53E-6B5C-40ED-88AB-2AD854E6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A41732-7A17-478C-98CC-A4FBB2BD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00F1-FA37-4D10-AE63-95AD76A8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C0E6-1840-4C90-87FD-4EB8BF52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9587-1EA9-468A-8C80-18152D7C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1DFE0-0A57-4686-8DE9-D8405B84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6E9B5-18BA-4F18-8A5C-2FE42006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4577F-FD9D-4973-B144-8D281623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19CD8-B44D-4970-B325-7E7CEC68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57058-B604-4C52-856B-FCF714BD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A248-A475-4DD1-81A9-11D38F2D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19ED9-5721-4925-9369-34717621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7D2B6-B31A-481D-9108-B073C685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B81E5-85A1-437C-BC33-FAA91BA7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45A45-4BCD-4DC2-BFEC-3D7AD037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EF432-C478-4EBE-93B9-66B0ACFA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98684-AD55-4571-9F35-9560E8B3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7939F-AAD5-4828-AA14-AE8D9EBA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FE994-B942-4E4C-A7C8-2E6D68B6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28D9F-47BB-45E0-A732-5F0C6A6C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74DE3-D706-442C-B803-7CDA2C7F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9D9-17BD-424B-B593-303AEEF5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07C9F-1565-4F2F-B542-C1A8D75A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B793F-33A1-404A-969A-E7C878FC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AF19B-CB51-4911-9A7F-B3A2D6A7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C724C-0EBF-406A-B329-2EC9FB3D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8174D-E3B1-4ED8-9E68-38CE2EF9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36365-554E-44B1-BAF6-7DD2CEF8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DF008-6180-45DE-A622-9B34042C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21482-6D88-490C-AD1D-897FBE30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FC116-C7D9-47F8-974A-62326270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6F646-2278-49DC-8DC5-F59DF2A7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88FF-B249-4721-A0DD-878D7FA0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AC03C-9FAF-490D-B4C7-B74DE9CE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38A75-10F9-4A74-AF23-55092EA6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F46FE-C837-4F74-B565-DCF2A7B7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464BB-0EBD-40DE-98A2-19FF08A7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3F2A7-8CDF-4919-9AC0-2F16F5FC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59C97-4F91-44E2-9B09-7C97FAC6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D5FE6-6664-444E-A382-680D15EB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0F6F2-B30E-47FA-A597-B609F474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8BBAB-B716-4439-ACCF-2052F39F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95703-8EE7-43EE-9AAC-8BB07349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0F42-8F0B-4FBC-9F6E-7DE27BFB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B1EF2-B066-41E3-B136-AEC717A4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DA6F6-610B-4A63-B12A-574F7BA4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254DE-7DDB-4CA9-8CE3-2BD47DEE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AD6CB-33D3-4A33-8C56-2637277F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196BE-ED9D-4ED6-9C83-06E570A6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7211F-A8A4-4C3E-836D-64465876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38DA0-6C93-4510-B073-B4810458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3AC47-0F06-46E8-9A7F-188AF25E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741B3-BA04-442F-9CFC-B8023B50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52BDE-7CF7-4895-BD92-A9F971AD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F4D-FDD0-4859-9166-E4CBBDF6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E8314-05CB-4405-AA29-CA4ACABA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A1C37-474E-468F-9DD5-5CF50EE4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6E3DA-11C0-4F81-A4A0-400A6920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F0118-0784-400E-9544-0511B409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D247E-5762-4537-8F25-8F4E21EA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9F92D-6FBD-4699-93A8-E9D15CAD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559A6-A076-4695-A11D-D8BEFE1C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BE8F7-5713-4F68-AF17-2CAA873F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1E190-33ED-4A6C-A976-1003E53A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D2050-7809-42B6-888D-AC4F2C09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C4E3-6AA7-4454-98F2-C67C3F60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16A46-F853-4D42-A169-9EE0D39F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2BB89-8BF9-4957-A991-977800F2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3C7EE-3169-4E2C-8169-3F9A01E1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C1A04-1793-469A-86BE-432B1365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C4703-79DD-456B-8E9F-2F8E82F5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E953E-815D-42B3-9976-5522390A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01093-18B5-43E1-9774-408AA108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46A83-75DA-4264-9E63-6E61C2FB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305E7-4A2F-4C6B-B733-4F562F93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6BF15-B8FE-4210-AE68-E1494776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5189-822D-45B9-B9F5-858E4C3B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8811E-B040-47F0-88B4-D590ADC7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F97DD-4EBC-4376-AA24-B1935727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3B35C-4C1C-4C55-BD1E-D5B225F6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00E3E-2E0C-4ECC-92EA-10C40C0F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9BC06-F183-492E-85A1-31815D11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0D9D0-0F86-4569-BD90-CC649427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4A2CF-3B46-488F-9932-1B73C52C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69A0B-B2F1-4348-A914-69720BC9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719AE-5D84-411B-8104-E9982E9C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F5F3E-144D-42FE-B32D-2F79E28C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E975-343D-4A25-B834-33247931C08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EF30-CF37-4C80-BC23-3A7A6B31554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5F22-72CF-42FC-A55C-B09C5BCC857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1335-6993-4188-9AAA-F6B5BD7EFF2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EB7E-E8B1-44AB-A947-00CD01CA0C7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1D3D-6DF5-4038-B019-9D6AD4FD592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B066-EEB6-443A-82CA-2FFC18E663A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AC8E-CA18-4249-ADDC-3BCF0C277C7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DD1E-A2FF-4F2D-B331-BC746664F01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9DAA-5FCB-4FA5-96C4-92D1E09DF77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AE4E-AA9C-4BB0-B264-1DA217D27AB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8435-5A10-4701-9FFE-369770E8BD5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4BE1-CAA2-42D3-9FA2-C7BD67228FA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263C-34FF-44A9-AB36-B5C8D93FBC8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DC06-A118-454E-B423-AC9F905C345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B0B8-0E5F-4C5B-B0ED-A5502436CF6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4A49-FF86-4468-A0B2-581522D7237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A73D-C00F-4B84-9B7F-3D09BF7F6BD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 психолого-медико-педагогического консилиума (ПМПк) в образовательной организации (ОО)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250920" y="3212640"/>
            <a:ext cx="8642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59595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лючения специалистов, коллегиальное заключение ПМПк доводятся до сведения родителей (законных представителей)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доступной для понимания форме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предложенные рекомендации реализуют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с их согласия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аправлении ребенка в ПМПК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я коллегиального заключения ПМПк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ыдается родителям (законным представителям) на руки или направляется по почте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и заключений специалистов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яются только по почте или сопровождаются представителем ПМПк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другие учреждения и организации заключения специалистов или коллегиальное заключение ПМПк могут направлять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по официальному запросу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формах учета деятельности специалистов ПМПк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Журнал записи детей на ПМПк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179280" y="1844640"/>
          <a:ext cx="8640720" cy="3637080"/>
        </p:xfrm>
        <a:graphic>
          <a:graphicData uri="http://schemas.openxmlformats.org/drawingml/2006/table">
            <a:tbl>
              <a:tblPr/>
              <a:tblGrid>
                <a:gridCol w="365400"/>
                <a:gridCol w="858600"/>
                <a:gridCol w="1079640"/>
                <a:gridCol w="1297080"/>
                <a:gridCol w="647640"/>
                <a:gridCol w="1536480"/>
                <a:gridCol w="984240"/>
                <a:gridCol w="187164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од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ова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 Журнал регистрации заключений и рекомендаций специалистов, коллегиального заключения и рекомендаций ПМПк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250920" y="2781360"/>
          <a:ext cx="8642160" cy="3095640"/>
        </p:xfrm>
        <a:graphic>
          <a:graphicData uri="http://schemas.openxmlformats.org/drawingml/2006/table">
            <a:tbl>
              <a:tblPr/>
              <a:tblGrid>
                <a:gridCol w="353880"/>
                <a:gridCol w="835200"/>
                <a:gridCol w="1052280"/>
                <a:gridCol w="1258920"/>
                <a:gridCol w="631800"/>
                <a:gridCol w="693720"/>
                <a:gridCol w="1582920"/>
                <a:gridCol w="1014480"/>
                <a:gridCol w="1218960"/>
              </a:tblGrid>
              <a:tr h="22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коллегиаль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ПМП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остав ПМП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 в Российской Федерац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РФ от 29.12.2012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273-ФЗ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Принят ГосСоветом РТ 28.06.13 г.). Закон РТ от 22.07.13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68-ЗРТ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сновных гарантиях прав ребенка в РФ»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от 24.07.98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4-ФЗ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НО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ающихся с ОВЗ»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8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образования обучающихся с умственной отсталостью (интеллектуальными нарушениями)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9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Положения о психолого-медико-педагогической комисси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20.09.13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08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психолого-медико-педагогическом консилиуме (ПМПк) образовательного учреждения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 РФ от 27.03.2000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27/901-6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создании условий для получения образования детьми с ограниченными возможностями здоровья и детьми-инвалидам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иН РФ от 18.04.08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порядке создания и организации работы ПМПк ОО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каз руководителя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О при наличии соответствующих специалистов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Устав О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говор между ОО и родителями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законными представителями) обучающего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мерный состав ПМПк (комплексный подход):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щее руководство ПМПк – руководитель О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седатель консилиума - заместитель руководителя ОО по учебно работ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, представляющий ребенка на ПМПк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дефект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рач-педиатр, медицинская сестр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 ПМПк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250920" y="83628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иагностико-коррекционного ПМП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бучающихся с ОВЗ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сходя из реальных возможностей ОО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татья 3. Закон №273-ФЗ: «в пределах, предоставляемых образовательной организацией». Устав ОО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соответствии со специальными образовательными потребностям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возрастными и индивидуальными особенностями, состоянием соматического и нервно-психического здоровья обучающихся, воспитанников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уктура дефекта: что первично, что вторично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дачи ПМПк 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ыявление и ранняя диагнос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тклонений в развитии и/или состояний декомпенсации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 течение года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офилак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изических, интеллектуальных и эмоционально-личностных перегрузок и срывов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едупреждение хронификации и появления вторично-вторичных дефектов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яв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резервных возможност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азвития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озможность создания новой функциональной системы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характера, продолжительности, эффективности, необходимости изменения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пециальной (коррекционной) помощи в рамках имеющихся в данном ОО возможностей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лановые (1 раз в квартал) и внеплановые консилиумы по запросу родителей, педагогов, других организаций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готовка и вед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кументации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отражающей актуальное развитие ребенка, динамику его состояния, уровень успешности (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особы фиксации данных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правление на городскую (районную) ПМПК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определения дальнейшего образовательного маршрута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отсутствии в данном ОО условий, адекватных индивидуальным особенностям ребенка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еобходимости углубленной диагностики и/или разрешения конфликтных и спорных вопрос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значение ведущего специалиста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олигофренопедагог, или тифлопедагог, или сурдопедагог, или учитель-логопед, или нейропсихолог)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б интегрированном воспитании и обучении детей с отклонениями в развитии в дошкольных образовательных учреждениях». Письмо МОиН РФ от 16.01.2002 г.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03-51-5ин /23-03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3588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25056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формы и степени интеграци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ебенка с ОВЗ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 создании условий для получения образования детьми с ОВЗ и детьми-инвалидами». Письмо МОиН РФ от 18.04.08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)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бычном классе по индивидуальному учебному плану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классе </a:t>
            </a:r>
            <a:r>
              <a:rPr b="0" i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мпенсирующ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енности (по профилю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состава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междисциплинарной команды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жбы 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под руководством ведущего специалиста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оводи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ррекционно-развивающее обучение; внеурочную специальную (коррекционную) работу </a:t>
            </a: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оциализация, общение);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слеживание динамики развития ребенка и эффективности оказываемой ему помощи; обучение родителей технологиям сотрудничества с ребенком; оказание психологической поддержки; выходит с инициативой повторных обсуждений на ПМПк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3T12:58:05Z</dcterms:created>
  <dc:creator>Марина</dc:creator>
  <dc:description/>
  <dc:language>en-US</dc:language>
  <cp:lastModifiedBy>Пользователь</cp:lastModifiedBy>
  <dcterms:modified xsi:type="dcterms:W3CDTF">2018-05-16T17:46:14Z</dcterms:modified>
  <cp:revision>31</cp:revision>
  <dc:subject/>
  <dc:title>Алгоритм деятельности психолого-медико-педагогического консилиума (ПМПк) в образовательной организации</dc:title>
</cp:coreProperties>
</file>