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0938-0E6C-4E19-8955-3878E258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A2C9-7096-4E2A-B7B9-CF154AE3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212EA-C70D-4BB9-940F-CDDB3FFD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35FE7-AD39-42D6-907E-3F86D320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4A284-F55D-4727-85D5-D5F0C2CA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9AFB8-BC0F-4D41-8C02-4A16EFFC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B02D5-6059-4D53-90D2-EADBA21B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C66DA-32CC-41BB-9014-11F18429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C85B0-B6C0-4DC0-A2A0-712DD1B5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D64F3-47DB-478D-9AC8-00CD964D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85FEE-A881-4943-A012-38D66CAA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7D69C-FA17-4547-85F5-00DC8250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F544-6E51-4A63-8004-AE1F837E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EC1A6-3853-46AF-8497-37A3EA12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6C600-5389-48FC-ABC5-DAD3EDDE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99508-2D3A-4E08-94A9-4C97EA45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0B7E2-237F-478D-9872-60598405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32131-3DB9-4D3A-9641-3BB8A649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45427-BB90-43DC-9BC3-47C965C4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A7339-5B69-4D4D-A3C7-327A9D4B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6A7EA-F9E4-4CCA-9646-A986E902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66BF5-7D0C-4244-B411-1ACB1FEC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D75BA-54E8-4C7D-A088-219CF072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6F9A-63AD-4763-B803-5DA45D87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C9F91-5C4A-4A49-A466-7CD480DF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EEA33-5548-4ACB-AB92-92664FA9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7096B-9D1E-4E77-8214-405428AD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28CD4-ADB1-4194-B6A1-E0F24114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416AA-28DB-43DB-8CB8-19DD7586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D3ACA-CAB1-4DC1-99A6-5E775871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3220B-768F-4A2D-B2E0-2AC60B8A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12953-0A09-4C93-924C-3E797DDD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031CA-105E-4C07-BD78-BCA2E76F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54A99-7B7E-44A5-859E-67DB57FE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C06C-9DCC-4ED5-B0F6-68BEE58F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E55DA-D151-47D8-9EB8-9F4E1BE6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5E668-5B3A-4871-9A9E-5652E5F7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8B29A-6C9E-4D4D-ADEF-E8269FF2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FFDED-F32D-4C34-8E06-4DFA6490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57723-F86D-457C-A043-272953C3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2DB97-E4A7-4A88-A513-D19CE833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DF0BF-A940-4922-8828-777B1C59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7E357-FA9C-46AC-8984-C1277887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58F7D-176C-4921-B96A-3B573932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3869A-8249-4A6D-9400-39AA9D88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55D9-1B4F-4241-B6AE-742AA26A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9FE12-9162-4DD1-9864-2AC65E0A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9AA4D-0327-4995-B8D2-7EAED103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868C2-EDAB-4222-8BF2-05952D0E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C0693-7222-4326-B1D5-F16B8944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3EC66-E95E-46B5-9E4C-6195E181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18769E-BE56-4FF9-9503-ECF9FF92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755220-8968-4156-BEF4-724D0AFD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05CCDE-3BDC-491C-BA42-7D0C89AE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827054-7BF7-4FCD-B718-BD3BC57F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7F459A-FAB7-4DD7-8824-DF8FC881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FC74-2AA8-4495-9212-33ED81B5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31BC26-8DBC-4546-8D80-BEE9017B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01BE6D-4143-4825-BAB1-76241D55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C1FAAE-CB53-4E6C-BD35-E57B8423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5F6AE5-D292-449C-9952-E6759D38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FCDA1C-E2F0-41D7-A9A9-D9EAA464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335F90-16D0-46CC-B89F-E6EC479FB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549956-82D4-4E63-A7ED-F134AFB6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C44113-E9D5-4CAE-B7BC-E69F41B9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ED4DD8-3AE3-4E4A-A5E3-2C76B353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73D016-9EE5-4ADC-9017-3C6F7031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B69B-E88E-46B3-9152-712182B4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48099D-E24F-4311-A65E-4A68D41A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753285-AC9E-4C4B-80E7-661B25D7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9EFF25-676E-4C0A-A73C-5B410ED3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CF92EF-6849-4D2D-95E1-0F32FAE1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2DBD9F-6984-4C87-9C49-057D7576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2FF7CF-9C2B-4EE6-BD89-C37A752C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B135F0-F88A-4866-A612-F7F683B6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0D4241-C98D-4891-A5D0-5804039A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5D10BE-67D1-4D9D-B113-E70A76F9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5E1A00-CE59-4709-9579-B060AF57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9909-509E-4D8C-8FE7-323A86C0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02891D-ABF2-4BCF-AF7D-0D5D91E8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9D9123-3DE7-4601-9D54-F64C3CDF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9C2822-9AA4-46E1-9611-D77F633B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6E8188-E10B-4E93-AFCA-30EA93F5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F81D01-341C-46D8-BC2F-35E11899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B50A30-5187-4F64-A44E-A883EA60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E2EDBD-ACC2-479C-B19F-B6D238EE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4A524A-7FD1-46FC-8F45-FF1AFD99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357172-566F-4D8C-A721-2C10175C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144C6C-ED5E-4B42-818F-A44EC2C0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9D6B-E9DC-4F1A-9CE7-3AD628E7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8AD9A2-84A8-4406-BC3B-D619B5DB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5A22CD-591C-4AEE-B9E7-E703E3E3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108D47-5690-4311-B7C8-43C9E8AD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4F074E-7E9F-4BCD-9BC2-DD0764EC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20487C-5738-49CA-B227-D46C29F1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1EDAB8-860C-408C-91DB-74A38082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632966-0E1D-4540-8236-250A2D93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9C3BBE-6D39-4ECE-B566-19581707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D6CC7B-08C8-4004-A2B6-A7B36274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E0DD9E-FC10-4EA2-BAD0-584E35C9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F34B-E5EA-43D7-A7A9-C48B548E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62D5AA-848A-4B83-AD49-2D723786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E15903-C9C1-4B14-A54F-40C659AE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F0A2EC-7795-438B-AA9E-22A6CDE8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59826B-C787-42F9-9A75-C67A39A9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E38DEC-4C2B-4B66-A283-B8909700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D8A425-2BF3-40E5-AFB3-2753FF0C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5C8969-0B7D-4074-9532-00E3ECF3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8FD132-7A82-41A3-8371-4D456198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B7418B-DC18-4210-BD32-9E844C2D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D48A65-08B9-4F7E-A027-1D2D35A5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5950-6FB4-47DC-8035-41CCCE7E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3098-04F3-471B-B4D9-EB446C06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AFD9BA-B650-4A69-A728-6945993D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475D8E-F724-430F-A89C-00E9244D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B0B776-59FD-4000-84C5-B440BB59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10BB7A-2147-4736-AD40-E9949065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0A880E-2583-42D1-AD20-3927DA5E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6FA00E-D61D-49D0-9E3C-782E64E4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FFAB77-5EA4-4AFC-8298-8034CE9D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1D5274-CF72-467B-97E4-2DF20AA9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CE8635-4500-4943-985D-A99FC064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EC676B-F946-40DF-B3E8-35FC244E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DFE9-ED8D-4B59-99FB-E4E07C35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F1EBAB-451A-4A7C-B8CA-7E68873A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0714E6-D1DB-4F1F-90A5-66FD6FB8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F371C4-462F-438C-9DBB-49297DA2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683DE8-967C-41E6-9777-415E28C1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73B3DC-1A8B-445C-AF30-6B395D14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BFDE87-78DF-43C0-BE25-662CFFCB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4ED791-314D-4642-AB4E-950FB51A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B4DF-7307-40DA-B58E-A575E1AC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E546-5E8B-4813-A942-C13CB469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E039-1657-4BD8-B139-42F43D55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F9054-B2CD-4ACF-9F01-642F6BA5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5E8F3-726B-4385-9C69-67843324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18BCD-4DC1-4512-8831-6850D4AF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20696-92E0-48EB-B686-41991D6B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3D67C-D620-4A59-B175-E8AAB1C9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DB1A-52FC-45A7-A299-BE6B4A8F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32D61-A1A3-4B3F-BCD0-2CC92F92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B88B2-49D8-4AEB-A9A6-42B057B7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375CB-E6F5-4367-AF5F-DF60B912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64B68-F86F-4E1B-8803-36F26760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F3850-C98E-415D-9CD5-6A947D30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274DA-077D-4B62-8D20-DA4C3223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7BBEF-019C-44E8-8836-CF742395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42727-23F7-4C7B-9AC0-FE79ACC0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83B03-4BC5-4AFE-9AAD-41D2BFD0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A138D-282B-413B-BE84-4BCC6DE8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E2E7-E0B6-44F6-A38D-0E08FA3F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D2158-694B-4A9F-BA62-AFD92901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9D7A5-2BC2-49C5-A21D-5C7E2946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27BEF-A9B2-4A79-8BC5-C484077E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49CA1-B2E5-4FE2-841B-32E3AC6C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7F8E3-C728-4629-8CAC-5FF9CC92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B2D9E-42ED-4991-864A-F9A355BB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51AA1-5909-41E5-9583-9F964472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6BFB4-AD3C-48AA-AD1A-DA0C074E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B9A04-9357-42B4-87A5-CADFCE91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53A85-C374-404E-9FCE-7B762173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0E8A-E485-4D83-8696-3CEEAF1A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B0A45-B84C-4FB9-9557-83C5DB13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E75BA-0861-4281-872D-0F1F0CA2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4A1F2-3A34-479E-98E6-F632F578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6A98D-A617-418A-81D3-32D3C83E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93D92-D212-4DFF-9978-AA1F38F1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BCE98-2DC1-4347-843F-9A6BA455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130CD-9BDD-430F-B909-F3BD1ECE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77CBE-69F1-4EEF-AEDB-7CDC750E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D9EBE-7712-4869-A379-E7351D48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F2AF9-60E2-421D-9C58-C807A11C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A7CF-5F5E-4FFF-8233-2F881192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19760-6E34-4B87-98EB-B2BCF279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F02C8-25C9-4E60-AF2F-1498E09D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A9C39-3C21-4A69-85DB-044E3BCC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00D1C-066C-4800-873D-1DF44412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2381D-5EC6-4E6C-98DF-611EE969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4494E-C112-48D9-9F57-32BC2FDE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FA20C-463E-4829-94C1-F95EEC67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4E50A-AFCE-4CE3-8AD3-2B95E4A0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68CDE-A475-48E9-B5F1-C03935C9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24829-ADEF-4D94-AD3B-51BBAF32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66C3-E9A2-4822-BFFE-B6EE894F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68257-717E-43C7-9955-F41FF772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61296-8B36-489B-9C41-C7913245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13BE4-1B73-4FAF-810E-E469093D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9522A-909C-4521-BC03-B73F8A94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BC5BA-9894-4119-B05C-17079A9D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8B4AB-9594-47A9-B2D5-A8621D9A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099C1-DB4E-4A1E-AD84-A76CCF16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DAEF2-3E3E-4357-BC11-C9B33DA9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52CCB-7760-4FD3-8F7D-B19E33CE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AAEDC-E02B-4325-A232-4B10CE42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58B8-DAC6-4E61-9091-DDF54539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12B0C-3F63-4A04-88EE-653FCEFD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4E232-F22E-4FEB-A471-42A87642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FCB25-E045-4E9B-BE10-EF285F1C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A8B15-C58D-4969-AC25-929B53BC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E2952-CB4E-405B-A6F8-A8560AB3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D9CF4-85FF-4CC5-B98C-B0727135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6BF31-66A9-4B65-93C9-7D15C183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9087A-153C-4908-8656-985DBF45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1F11F-D3F2-438F-A57C-12FCBC99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23D57-B8A7-4B6F-BD52-0BF536F7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177D-7852-4390-B174-CF06F63D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82465-6071-494E-BC7A-CE23D5C3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0C460-3A4F-4B68-A042-C8D4F3C8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3EC89-4651-4FA1-AEE7-2F56B16B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9A606-9F3E-4020-9A44-86DAE8BC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A97B8-8628-4C3F-86D8-34072080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B14C9-FF78-47CC-A2F0-34841A63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9A37C-9ABF-4BB6-BE4E-B93DE234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172EE-520C-4223-ABFC-551DEE2C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6EC79-5206-4201-8372-A940401E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E5648-2BCE-4727-A1CA-1256BDD4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0375-1089-489F-99BB-DDC8DD796D6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E2C6-DC7F-4648-BBAE-6DB3BC00C69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BC65-1B8D-4401-8EE4-2F680F7BF23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2A1D-3055-40D8-93EE-B3749BA3E18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D6CC-C705-43AA-B780-23F1514CCD1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C811-9379-4FA8-8B04-39E464D1A29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5F06-81B7-41D7-A59E-82E3A944EC1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9894-4334-4D1C-BE0A-587C1BD2D8C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A963-ED93-4552-885C-638B3B541AD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43CF-78B2-44D2-A2C3-071606B3DDA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5667-7236-4F40-8650-9A7F842BFE4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FE76-2D6D-4EF4-AF87-E5BFDAC8C13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43AC-D219-454F-B8B4-D202C569D0D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14DD-0052-4754-AA71-A0435209FF8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FE01-FD84-4E48-8CAF-ECDD15FEF3D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2121-E0F0-4E71-AE10-7FD8F6AE9FB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2A56-70DF-49F1-AA3C-7AE42B9FF72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8CDF-E486-4CD8-8B83-5613686E84B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 психолого-медико-педагогического консилиума (ПМПк) в образовательной организации (ОО)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250920" y="3212640"/>
            <a:ext cx="8642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59595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179280" y="692280"/>
            <a:ext cx="8785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ключения специалистов, коллегиальное заключение ПМПк доводятся до сведения родителей (законных представителей)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 доступной для понимания форме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предложенные рекомендации реализуются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олько с их согласия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направлении ребенка в ПМПК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я коллегиального заключения ПМПк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выдается родителям (законным представителям) на руки или направляется по почте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и заключений специалистов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аправляются только по почте или сопровождаются представителем ПМПк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другие учреждения и организации заключения специалистов или коллегиальное заключение ПМПк могут направляться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олько по официальному запросу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 формах учета деятельности специалистов ПМПк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1. 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Журнал записи детей на ПМПк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5" name=""/>
          <p:cNvGraphicFramePr/>
          <p:nvPr/>
        </p:nvGraphicFramePr>
        <p:xfrm>
          <a:off x="179280" y="1844640"/>
          <a:ext cx="8640720" cy="3637080"/>
        </p:xfrm>
        <a:graphic>
          <a:graphicData uri="http://schemas.openxmlformats.org/drawingml/2006/table">
            <a:tbl>
              <a:tblPr/>
              <a:tblGrid>
                <a:gridCol w="365400"/>
                <a:gridCol w="858600"/>
                <a:gridCol w="1079640"/>
                <a:gridCol w="1297080"/>
                <a:gridCol w="647640"/>
                <a:gridCol w="1536480"/>
                <a:gridCol w="984240"/>
                <a:gridCol w="187164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исло, месяц, год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од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ирова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2. Журнал регистрации заключений и рекомендаций специалистов, коллегиального заключения и рекомендаций ПМПк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250920" y="2781360"/>
          <a:ext cx="8642160" cy="3095640"/>
        </p:xfrm>
        <a:graphic>
          <a:graphicData uri="http://schemas.openxmlformats.org/drawingml/2006/table">
            <a:tbl>
              <a:tblPr/>
              <a:tblGrid>
                <a:gridCol w="353880"/>
                <a:gridCol w="835200"/>
                <a:gridCol w="1052280"/>
                <a:gridCol w="1258920"/>
                <a:gridCol w="631800"/>
                <a:gridCol w="693720"/>
                <a:gridCol w="1582920"/>
                <a:gridCol w="1014480"/>
                <a:gridCol w="1218960"/>
              </a:tblGrid>
              <a:tr h="22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исло, месяц, год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коллегиальн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ПМПк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состав ПМП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46836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бразовании в Российской Федерации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З РФ от 29.12.2012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273-ФЗ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бразовании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Принят ГосСоветом РТ 28.06.13 г.). Закон РТ от 22.07.13 г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68-ЗРТ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сновных гарантиях прав ребенка в РФ»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З от 24.07.98 г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24-ФЗ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ФГОС НО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учающихся с ОВЗ»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каз МОиН РФ от 19.12.1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 1598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ФГОС образования обучающихся с умственной отсталостью (интеллектуальными нарушениями)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риказ МОиН РФ от 19.12.1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 1599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Положения о психолого-медико-педагогической комиссии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риказ МОиН РФ от 20.09.13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082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 психолого-медико-педагогическом консилиуме (ПМПк) образовательного учреждения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исьмо МО РФ от 27.03.2000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27/901-6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 создании условий для получения образования детьми с ограниченными возможностями здоровья и детьми-инвалидами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исьмо МОиН РФ от 18.04.08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АФ-150/06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 порядке создания и организации работы ПМПк ОО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68360" y="1052640"/>
            <a:ext cx="82296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иказ руководителя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О при наличии соответствующих специалистов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Устав ОО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оговор между ОО и родителями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законными представителями) обучающегос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мерный состав ПМПк (комплексный подход):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щее руководство ПМПк – руководитель ОО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дседатель консилиума - заместитель руководителя ОО по учебно работ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, представляющий ребенка на ПМПк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-дефектоло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рач-педиатр, медицинская сестр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ль ПМПк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250920" y="836280"/>
            <a:ext cx="86421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еспечение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иагностико-коррекционного ПМПсопровожден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бучающихся с ОВЗ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исходя из реальных возможностей ОО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татья 3. Закон №273-ФЗ: «в пределах, предоставляемых образовательной организацией». Устав ОО)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 соответствии со специальными образовательными потребностям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возрастными и индивидуальными особенностями, состоянием соматического и нервно-психического здоровья обучающихся, воспитанников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</a:t>
            </a:r>
            <a:r>
              <a:rPr b="0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уктура дефекта: что первично, что вторично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дачи ПМПк </a:t>
            </a:r>
            <a:br>
              <a:rPr sz="2200"/>
            </a:b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ыявление и ранняя диагностик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тклонений в развитии и/или состояний декомпенсации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в течение года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офилактик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изических, интеллектуальных и эмоционально-личностных перегрузок и срывов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едупреждение хронификации и появления вторично-вторичных дефектов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явл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резервных возможносте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азвития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возможность создания новой функциональной системы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характера, продолжительности, эффективности, необходимости изменения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пециальной (коррекционной) помощи в рамках имеющихся в данном ОО возможностей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лановые (1 раз в квартал) и внеплановые консилиумы по запросу родителей, педагогов, других организаций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готовка и вед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окументации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отражающей актуальное развитие ребенка, динамику его состояния, уровень успешности (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особы фиксации данных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179280" y="76500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правление на городскую (районную) ПМПК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ля определения дальнейшего образовательного маршрута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отсутствии в данном ОО условий, адекватных индивидуальным особенностям ребенка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необходимости углубленной диагностики и/или разрешения конфликтных и спорных вопросо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значение ведущего специалиста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олигофренопедагог, или тифлопедагог, или сурдопедагог, или учитель-логопед, или нейропсихолог)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м.: «Об интегрированном воспитании и обучении детей с отклонениями в развитии в дошкольных образовательных учреждениях». Письмо МОиН РФ от 16.01.2002 г.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03-51-5ин /23-03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3588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250560" y="692280"/>
            <a:ext cx="8713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формы и степени интеграци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ебенка с ОВЗ</a:t>
            </a: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м.: «О создании условий для получения образования детьми с ОВЗ и детьми-инвалидами». Письмо МОиН РФ от 18.04.08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АФ-150/06)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обычном классе по индивидуальному учебному плану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классе </a:t>
            </a:r>
            <a:r>
              <a:rPr b="0" i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мпенсирующе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аправленности (по профилю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состава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междисциплинарной команды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ужбы сопровожден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 под руководством ведущего специалиста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оводит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ррекционно-развивающее обучение; внеурочную специальную (коррекционную) работу </a:t>
            </a: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оциализация, общение);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слеживание динамики развития ребенка и эффективности оказываемой ему помощи; обучение родителей технологиям сотрудничества с ребенком; оказание психологической поддержки; выходит с инициативой повторных обсуждений на ПМПк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3T12:58:05Z</dcterms:created>
  <dc:creator>Марина</dc:creator>
  <dc:description/>
  <dc:language>en-US</dc:language>
  <cp:lastModifiedBy>Пользователь</cp:lastModifiedBy>
  <dcterms:modified xsi:type="dcterms:W3CDTF">2018-05-16T17:46:14Z</dcterms:modified>
  <cp:revision>31</cp:revision>
  <dc:subject/>
  <dc:title>Алгоритм деятельности психолого-медико-педагогического консилиума (ПМПк) в образовательной организации</dc:title>
</cp:coreProperties>
</file>