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5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0.png" ContentType="image/png"/>
  <Override PartName="/ppt/media/image7.wmf" ContentType="image/x-wmf"/>
  <Override PartName="/ppt/media/image30.jpeg" ContentType="image/jpeg"/>
  <Override PartName="/ppt/media/image15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240-75D5-41DA-9156-B3B3FE0C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106-DC47-4133-B5D6-FA037F39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F93-D878-4FD6-BBDD-C8AC750F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BCE-E0F9-481F-9765-B05391A8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323B-A9CF-4B78-BBCF-21538443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4692-70C7-4312-9663-F49256D3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B6F3-DB07-4275-99EF-BB1CBEC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B377-F38D-4C3C-B943-ACBF9CAF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FD63-14BA-4BEF-B211-39F8CE07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154C-195A-4879-930A-8A1BE3CB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2ACA-375D-4A8E-9BC9-F8E6BC40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2DB-B9CA-49E4-AA15-7B0B0EE4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C9FC-B8C7-4FD7-AEE1-B99E5E5A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DD44-9766-4C7F-BF4C-407220F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652-C849-499A-94BD-7B8FA758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9FFB-81F0-4D18-AF18-E4AA4208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8133-5337-4ECC-8424-6057D021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B22-E9A0-4457-9D7D-E237A030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F05-5503-4EDC-8375-01E76D60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52D-D83E-4135-8AA8-96A32E5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16A-72D3-45A8-8683-8109416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EEB-6894-411C-AC81-E366640B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280-E428-4145-9CE5-552D7245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D94-23AE-4B7C-BC4C-3A52D22B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9286-2832-49BE-8756-E4B62C3C32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F583-DA4A-4FB7-A8C2-1C55CDDE21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640" y="1142640"/>
            <a:ext cx="64771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86080" y="1000080"/>
            <a:ext cx="55720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ирование современного урока с позиции требов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ГОС 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6443640" y="69840"/>
            <a:ext cx="2111400" cy="574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419640" y="3618000"/>
            <a:ext cx="52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Фатхеева Фарида Му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Методист УМС ИМО по Советскому району города  Казани 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Cj04234770000[1]"/>
          <p:cNvPicPr/>
          <p:nvPr/>
        </p:nvPicPr>
        <p:blipFill>
          <a:blip r:embed="rId2"/>
          <a:stretch/>
        </p:blipFill>
        <p:spPr>
          <a:xfrm>
            <a:off x="-7920" y="3143160"/>
            <a:ext cx="35719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565776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ременный урок в условиях введения ФГОС: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785880" y="1643040"/>
            <a:ext cx="2428920" cy="20001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1.Мобилизация</a:t>
            </a:r>
            <a:r>
              <a:rPr b="0" lang="ru-RU" sz="1800" spc="-1" strike="noStrike">
                <a:solidFill>
                  <a:srgbClr val="ffcd3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0c2"/>
                </a:solidFill>
                <a:latin typeface="Times New Roman"/>
              </a:rPr>
              <a:t>(предполагает включение учащихся в активную интеллектуальную дея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3571920" y="1643040"/>
            <a:ext cx="2357280" cy="24289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2. Целеполага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0c2"/>
                </a:solidFill>
                <a:latin typeface="Times New Roman"/>
              </a:rPr>
              <a:t>(учащиеся самостоятельно формулируют цели урока по схеме «вспомнить →  узнать → научиться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6286680" y="1643040"/>
            <a:ext cx="2571480" cy="342900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3.Осознание недостаточности имеющихся знаний</a:t>
            </a:r>
            <a:r>
              <a:rPr b="0" lang="ru-RU" sz="1800" spc="-1" strike="noStrike">
                <a:solidFill>
                  <a:srgbClr val="ffcd3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0c2"/>
                </a:solidFill>
                <a:latin typeface="Times New Roman"/>
              </a:rPr>
              <a:t>(учитель способствует возникновению на уроке проблемной ситуации, в ходе анализа которой учащиеся понимают, что имеющихся знаний для ее решения недостаточ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6286680" y="5429160"/>
            <a:ext cx="2571480" cy="114300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4.Коммуник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0c2"/>
                </a:solidFill>
                <a:latin typeface="Times New Roman"/>
              </a:rPr>
              <a:t>(поиск  новых знаний  в паре, в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8"/>
          <p:cNvSpPr/>
          <p:nvPr/>
        </p:nvSpPr>
        <p:spPr>
          <a:xfrm>
            <a:off x="3643200" y="4572000"/>
            <a:ext cx="2214720" cy="15001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5.Взаимопроверка, взаимоконтр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57160" y="4000680"/>
            <a:ext cx="2357640" cy="25714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6. Рефлексия</a:t>
            </a:r>
            <a:r>
              <a:rPr b="0" lang="ru-RU" sz="1800" spc="-1" strike="noStrike">
                <a:solidFill>
                  <a:srgbClr val="ffcd3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0c2"/>
                </a:solidFill>
                <a:latin typeface="Times New Roman"/>
              </a:rPr>
              <a:t>(осознание учеником и воспроизведение в речи того, что нового он узнал и чему научился на уро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072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бования, предъявляемые к современному уроку в условия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ведения ФГОС: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142920" y="5429160"/>
            <a:ext cx="2643120" cy="121464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чет уровня и возможностей учащихся (профиль класса, способности учащих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3000240" y="5643720"/>
            <a:ext cx="2428920" cy="10000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мение демонстрировать   методическое искусство уч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6500880" y="6143760"/>
            <a:ext cx="1928880" cy="50004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нирование обратн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7643880" y="4786200"/>
            <a:ext cx="1214280" cy="10000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рок должен быть добр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7358040" y="3429000"/>
            <a:ext cx="1571760" cy="7858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центре внимания урока — д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3071880" y="4714920"/>
            <a:ext cx="2143080" cy="5713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ясбережение и здоровьесбере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5857920" y="5214960"/>
            <a:ext cx="1357200" cy="7858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 делают сами учащие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3"/>
          <p:cNvSpPr/>
          <p:nvPr/>
        </p:nvSpPr>
        <p:spPr>
          <a:xfrm>
            <a:off x="928800" y="4071960"/>
            <a:ext cx="1571400" cy="12859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мум репродукции и максимум творчества и со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4"/>
          <p:cNvSpPr/>
          <p:nvPr/>
        </p:nvSpPr>
        <p:spPr>
          <a:xfrm>
            <a:off x="5572080" y="3071880"/>
            <a:ext cx="1571760" cy="20001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организует проблемные и поисковые ситуации, активизирует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5"/>
          <p:cNvSpPr/>
          <p:nvPr/>
        </p:nvSpPr>
        <p:spPr>
          <a:xfrm>
            <a:off x="2857680" y="1714680"/>
            <a:ext cx="2286000" cy="278604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должен быть проблемным и развивающим: учитель сам нацеливается на сотрудничество с учениками и умеет направлять учеников на сотрудничество с учителем и однокласс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6"/>
          <p:cNvSpPr/>
          <p:nvPr/>
        </p:nvSpPr>
        <p:spPr>
          <a:xfrm>
            <a:off x="714240" y="1714680"/>
            <a:ext cx="1928880" cy="22143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должен спланировать свою деятельность и деятельность учащихся, четко сформулировать тему, цель, задачи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7"/>
          <p:cNvSpPr/>
          <p:nvPr/>
        </p:nvSpPr>
        <p:spPr>
          <a:xfrm>
            <a:off x="5500800" y="1714680"/>
            <a:ext cx="3500280" cy="12142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организованный урок  в хорошо оборудованном кабинете должен име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ее начало и хорошее оконч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3880" y="713880"/>
            <a:ext cx="59295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ые стандарты -  усиление мотивации ребенка к познанию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914400" y="1784160"/>
            <a:ext cx="7300800" cy="17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рок  – это не получение отвлеченных от жизни знаний, а необходимая подготовка к жизни, поиск полезной информации и навыки ее применения в реальной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хемы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857160" y="3500280"/>
            <a:ext cx="3643560" cy="19288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объяснительно-иллюстративного метода работы (учитель, стоя перед классом, объясняет тему, а потом проводит выборочный опро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5143680" y="3500280"/>
            <a:ext cx="3214440" cy="19288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взаимодействию учащихся и учителя, а также взаимодействию самих уче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928800" y="56437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ченик - полноценный участник образователь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Прямая со стрелкой 11"/>
          <p:cNvCxnSpPr>
            <a:stCxn id="229" idx="3"/>
            <a:endCxn id="230" idx="1"/>
          </p:cNvCxnSpPr>
          <p:nvPr/>
        </p:nvCxnSpPr>
        <p:spPr>
          <a:xfrm>
            <a:off x="4500720" y="4465800"/>
            <a:ext cx="643320" cy="2160"/>
          </a:xfrm>
          <a:prstGeom prst="straightConnector1">
            <a:avLst/>
          </a:prstGeom>
          <a:ln w="9360">
            <a:solidFill>
              <a:srgbClr val="4b8f7c"/>
            </a:solidFill>
            <a:miter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3"/>
          <p:cNvSpPr/>
          <p:nvPr/>
        </p:nvSpPr>
        <p:spPr>
          <a:xfrm>
            <a:off x="684360" y="836640"/>
            <a:ext cx="4679640" cy="11912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Четко определить и сформулировать тему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место темы в учебном кур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ведущие пон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5435640" y="836640"/>
            <a:ext cx="3240000" cy="64260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Целевая установка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755640" y="2060640"/>
            <a:ext cx="8064360" cy="119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планировать учебный матери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рядочить задания от простого к сложн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три набора заданий ( воспроизведение, осмысление и закреп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611280" y="3429000"/>
            <a:ext cx="5545080" cy="6426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Выяснить и четко представлять какие УУД формируются на каждом этапе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2340000" y="4221000"/>
            <a:ext cx="655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родумать «изюминку» урока, т.е будут помнить когда все забуд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900000" y="4941720"/>
            <a:ext cx="5327640" cy="3682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Разработать структур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250920" y="5516640"/>
            <a:ext cx="3384360" cy="6426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Спланировать контроль за деятельностью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5580000" y="5300640"/>
            <a:ext cx="3168720" cy="916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Разработать разноуровневые домашни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Прямоугольник 11" descr=""/>
          <p:cNvPicPr/>
          <p:nvPr/>
        </p:nvPicPr>
        <p:blipFill>
          <a:blip r:embed="rId1"/>
          <a:stretch/>
        </p:blipFill>
        <p:spPr>
          <a:xfrm>
            <a:off x="1901880" y="-73080"/>
            <a:ext cx="5632560" cy="927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2"/>
          <p:cNvSpPr/>
          <p:nvPr/>
        </p:nvSpPr>
        <p:spPr>
          <a:xfrm>
            <a:off x="1187280" y="6308640"/>
            <a:ext cx="5400720" cy="3682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дготовить оборудование для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59436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блемы современного уро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4360" y="1413000"/>
            <a:ext cx="79912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 части материально-технического обеспечени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тсутствие оснащенности кабинетов технологическом оборудование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 части информационно-методического обеспечени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требуется совершенствование ресурсного потенциала: кадрового, программного, методическог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 части оценочной деятельности и диагностик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тсутствие диагностических материалов для оценки освоения метапредметных действий осложняет деятельность учител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ведение комплексной диагностики и анализ результатов вручную требуют достаточно много времени, что не может не сказываться на качестве деятельности педагогов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методическая помощь по созданию жизненно ориентированных проблем на урок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6" descr=""/>
          <p:cNvPicPr/>
          <p:nvPr/>
        </p:nvPicPr>
        <p:blipFill>
          <a:blip r:embed="rId1"/>
          <a:stretch/>
        </p:blipFill>
        <p:spPr>
          <a:xfrm>
            <a:off x="6681960" y="114480"/>
            <a:ext cx="220968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17480"/>
            <a:ext cx="76899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же характерно для современного уро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6681960" y="114480"/>
            <a:ext cx="2209680" cy="603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646200" y="1773000"/>
            <a:ext cx="8137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ок должен стать исследователем, который умее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м добывать зн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аботая в группе с другими детьми или 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должен проводить инновационные уроки (оригинальные, творческие, с применением ИКТ-технологий, гатжет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717480"/>
            <a:ext cx="76183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же характерно для современного уро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16" descr=""/>
          <p:cNvPicPr/>
          <p:nvPr/>
        </p:nvPicPr>
        <p:blipFill>
          <a:blip r:embed="rId1"/>
          <a:stretch/>
        </p:blipFill>
        <p:spPr>
          <a:xfrm>
            <a:off x="6681960" y="114480"/>
            <a:ext cx="2209680" cy="603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684000" y="1633680"/>
            <a:ext cx="8135640" cy="23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е – как сотрудничество: совместная работа учителя и учащихся в ходе овладения знаниями и решения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я разные предметы, ученик на уровне возможностей своего возраста должен освоить способы познавательной, творческой деятельности, овладеть коммуникативными и информационными ум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59436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6" descr=""/>
          <p:cNvPicPr/>
          <p:nvPr/>
        </p:nvPicPr>
        <p:blipFill>
          <a:blip r:embed="rId1"/>
          <a:stretch/>
        </p:blipFill>
        <p:spPr>
          <a:xfrm>
            <a:off x="6681960" y="114480"/>
            <a:ext cx="2209680" cy="603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780840" y="2047680"/>
            <a:ext cx="7823160" cy="27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читель, его отношение к учебному процессу, его творчество и профессионализм, желание раскрыть способности каждого ребенка – это главное, без чего новые  требования   ФГОС  к организации учебно-воспитательного процесса в школе не возможно реализова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59436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6" descr=""/>
          <p:cNvPicPr/>
          <p:nvPr/>
        </p:nvPicPr>
        <p:blipFill>
          <a:blip r:embed="rId1"/>
          <a:stretch/>
        </p:blipFill>
        <p:spPr>
          <a:xfrm>
            <a:off x="6681960" y="114480"/>
            <a:ext cx="2209680" cy="603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709560" y="1687680"/>
            <a:ext cx="77500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сли учитель сам открыт для нового и не боится перемен, совершенствуется, мотивирован и организован, тогда он сможет создать такую среду на уроке, когда ребенок будет вовлечен в  самостоятельную учебно-познавательную деятельность, которая требует от него активности, размышлений, поис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Documents and Settings\Admin\Рабочий стол\картинки\8.jpeg"/>
          <p:cNvPicPr/>
          <p:nvPr/>
        </p:nvPicPr>
        <p:blipFill>
          <a:blip r:embed="rId2"/>
          <a:stretch/>
        </p:blipFill>
        <p:spPr>
          <a:xfrm>
            <a:off x="3429000" y="4429080"/>
            <a:ext cx="3143160" cy="185760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5" descr=""/>
          <p:cNvPicPr/>
          <p:nvPr/>
        </p:nvPicPr>
        <p:blipFill>
          <a:blip r:embed="rId3"/>
          <a:stretch/>
        </p:blipFill>
        <p:spPr>
          <a:xfrm>
            <a:off x="920880" y="1987560"/>
            <a:ext cx="7802280" cy="2346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C:\Documents and Settings\Admin\Рабочий стол\картинки\9.jpeg"/>
          <p:cNvPicPr/>
          <p:nvPr/>
        </p:nvPicPr>
        <p:blipFill>
          <a:blip r:embed="rId4"/>
          <a:stretch/>
        </p:blipFill>
        <p:spPr>
          <a:xfrm>
            <a:off x="642960" y="0"/>
            <a:ext cx="11905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428840" y="285840"/>
            <a:ext cx="6929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571680" y="1571760"/>
            <a:ext cx="814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briola"/>
              </a:rPr>
              <a:t>«Перед прошлым склони голов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briola"/>
              </a:rPr>
              <a:t>перед будущим засучи рука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00"/>
                </a:solidFill>
                <a:latin typeface="Gabriola"/>
              </a:rPr>
              <a:t>Генри Льюс Менк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13"/>
          <p:cNvPicPr/>
          <p:nvPr/>
        </p:nvPicPr>
        <p:blipFill>
          <a:blip r:embed="rId2"/>
          <a:stretch/>
        </p:blipFill>
        <p:spPr>
          <a:xfrm>
            <a:off x="285840" y="4929120"/>
            <a:ext cx="2286000" cy="1697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857160" y="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Вызов, осмысление и рефлексия пробл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792000" y="3357720"/>
            <a:ext cx="1037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3ac6"/>
                </a:solidFill>
                <a:latin typeface="Arial Narrow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2286000" y="3571920"/>
            <a:ext cx="60008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 Narrow"/>
              </a:rPr>
              <a:t>развивать у педагогов интерес к совместному обсуждению проблем, их осмыслению и реф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 Narrow"/>
              </a:rPr>
              <a:t>Научить применять кейс – технологию при проектировани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67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Модель выпускника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Последний звонок 2012"/>
          <p:cNvPicPr/>
          <p:nvPr/>
        </p:nvPicPr>
        <p:blipFill>
          <a:blip r:embed="rId1"/>
          <a:stretch/>
        </p:blipFill>
        <p:spPr>
          <a:xfrm>
            <a:off x="7281720" y="0"/>
            <a:ext cx="18622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11" name="Группа 23"/>
          <p:cNvGrpSpPr/>
          <p:nvPr/>
        </p:nvGrpSpPr>
        <p:grpSpPr>
          <a:xfrm>
            <a:off x="3929040" y="3857760"/>
            <a:ext cx="5215320" cy="2993760"/>
            <a:chOff x="3929040" y="3857760"/>
            <a:chExt cx="5215320" cy="2993760"/>
          </a:xfrm>
        </p:grpSpPr>
        <p:cxnSp>
          <p:nvCxnSpPr>
            <p:cNvPr id="112" name="Соединительная линия уступом 6"/>
            <p:cNvCxnSpPr/>
            <p:nvPr/>
          </p:nvCxnSpPr>
          <p:spPr>
            <a:xfrm>
              <a:off x="3929040" y="5000400"/>
              <a:ext cx="5215680" cy="929160"/>
            </a:xfrm>
            <a:prstGeom prst="bentConnector3">
              <a:avLst>
                <a:gd name="adj1" fmla="val 48132"/>
              </a:avLst>
            </a:prstGeom>
            <a:ln w="9360">
              <a:solidFill>
                <a:srgbClr val="4b8f7c"/>
              </a:solidFill>
              <a:miter/>
            </a:ln>
          </p:spPr>
        </p:cxnSp>
        <p:sp>
          <p:nvSpPr>
            <p:cNvPr id="113" name="Rectangle 3"/>
            <p:cNvSpPr/>
            <p:nvPr/>
          </p:nvSpPr>
          <p:spPr>
            <a:xfrm>
              <a:off x="4214520" y="5934600"/>
              <a:ext cx="4695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I</a:t>
              </a:r>
              <a:r>
                <a:rPr b="1" lang="ru-RU" sz="20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 уровень - 1 ступень – Социальная про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- (начальное звено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929040" y="4572000"/>
              <a:ext cx="24289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Обра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«Я -СЕГОДНЯ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7" descr="c09-32"/>
            <p:cNvPicPr/>
            <p:nvPr/>
          </p:nvPicPr>
          <p:blipFill>
            <a:blip r:embed="rId2"/>
            <a:stretch/>
          </p:blipFill>
          <p:spPr>
            <a:xfrm>
              <a:off x="7000920" y="3857760"/>
              <a:ext cx="1643040" cy="203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Группа 24"/>
          <p:cNvGrpSpPr/>
          <p:nvPr/>
        </p:nvGrpSpPr>
        <p:grpSpPr>
          <a:xfrm>
            <a:off x="642960" y="2428920"/>
            <a:ext cx="6572160" cy="3143160"/>
            <a:chOff x="642960" y="2428920"/>
            <a:chExt cx="6572160" cy="3143160"/>
          </a:xfrm>
        </p:grpSpPr>
        <p:cxnSp>
          <p:nvCxnSpPr>
            <p:cNvPr id="117" name="Соединительная линия уступом 11"/>
            <p:cNvCxnSpPr/>
            <p:nvPr/>
          </p:nvCxnSpPr>
          <p:spPr>
            <a:xfrm>
              <a:off x="1000080" y="3071520"/>
              <a:ext cx="5215680" cy="929160"/>
            </a:xfrm>
            <a:prstGeom prst="bentConnector3">
              <a:avLst>
                <a:gd name="adj1" fmla="val 48132"/>
              </a:avLst>
            </a:prstGeom>
            <a:ln w="9360">
              <a:solidFill>
                <a:srgbClr val="4b8f7c"/>
              </a:solidFill>
              <a:miter/>
            </a:ln>
          </p:spPr>
        </p:cxnSp>
        <p:sp>
          <p:nvSpPr>
            <p:cNvPr id="118" name="Прямоугольник 15"/>
            <p:cNvSpPr/>
            <p:nvPr/>
          </p:nvSpPr>
          <p:spPr>
            <a:xfrm>
              <a:off x="2357280" y="392904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II</a:t>
              </a:r>
              <a:r>
                <a:rPr b="1" lang="ru-RU" sz="18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 уровень - 2 ступень – Социальная проба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(среднее звен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30"/>
            <p:cNvSpPr/>
            <p:nvPr/>
          </p:nvSpPr>
          <p:spPr>
            <a:xfrm>
              <a:off x="642960" y="2428920"/>
              <a:ext cx="65721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Bookman Old Style"/>
                  <a:ea typeface="Times New Roman"/>
                </a:rPr>
                <a:t>Образ «Я – ЧЕЛОВЕК, но  КАКОЙ???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(субъект деятельности и общения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" descr="g0205755"/>
            <p:cNvPicPr/>
            <p:nvPr/>
          </p:nvPicPr>
          <p:blipFill>
            <a:blip r:embed="rId3"/>
            <a:stretch/>
          </p:blipFill>
          <p:spPr>
            <a:xfrm>
              <a:off x="642960" y="2928960"/>
              <a:ext cx="1356840" cy="26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8" descr="g0120150"/>
            <p:cNvPicPr/>
            <p:nvPr/>
          </p:nvPicPr>
          <p:blipFill>
            <a:blip r:embed="rId4"/>
            <a:stretch/>
          </p:blipFill>
          <p:spPr>
            <a:xfrm>
              <a:off x="6072120" y="2857320"/>
              <a:ext cx="97704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Группа 25"/>
          <p:cNvGrpSpPr/>
          <p:nvPr/>
        </p:nvGrpSpPr>
        <p:grpSpPr>
          <a:xfrm>
            <a:off x="0" y="642960"/>
            <a:ext cx="6429240" cy="1676160"/>
            <a:chOff x="0" y="642960"/>
            <a:chExt cx="6429240" cy="1676160"/>
          </a:xfrm>
        </p:grpSpPr>
        <p:cxnSp>
          <p:nvCxnSpPr>
            <p:cNvPr id="123" name="Соединительная линия уступом 17"/>
            <p:cNvCxnSpPr/>
            <p:nvPr/>
          </p:nvCxnSpPr>
          <p:spPr>
            <a:xfrm>
              <a:off x="285480" y="1100160"/>
              <a:ext cx="5215680" cy="907920"/>
            </a:xfrm>
            <a:prstGeom prst="bentConnector3">
              <a:avLst>
                <a:gd name="adj1" fmla="val 48132"/>
              </a:avLst>
            </a:prstGeom>
            <a:ln w="9360">
              <a:solidFill>
                <a:srgbClr val="4b8f7c"/>
              </a:solidFill>
              <a:miter/>
            </a:ln>
          </p:spPr>
        </p:cxnSp>
        <p:sp>
          <p:nvSpPr>
            <p:cNvPr id="124" name="Rectangle 67"/>
            <p:cNvSpPr/>
            <p:nvPr/>
          </p:nvSpPr>
          <p:spPr>
            <a:xfrm>
              <a:off x="71280" y="1798560"/>
              <a:ext cx="635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III</a:t>
              </a:r>
              <a:r>
                <a:rPr b="1" lang="ru-RU" sz="18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 уровень - 3 ступень – Социальный проект -  (старшее звен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)</a:t>
              </a:r>
              <a:r>
                <a:rPr b="0" lang="ru-RU" sz="2800" spc="-1" strike="noStrike">
                  <a:solidFill>
                    <a:srgbClr val="0070c0"/>
                  </a:solidFill>
                  <a:latin typeface="Arial Narrow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66"/>
            <p:cNvSpPr/>
            <p:nvPr/>
          </p:nvSpPr>
          <p:spPr>
            <a:xfrm>
              <a:off x="0" y="681480"/>
              <a:ext cx="56437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Bookman Old Style"/>
                  <a:ea typeface="Times New Roman"/>
                </a:rPr>
                <a:t>Образ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Bookman Old Style"/>
                  <a:ea typeface="Times New Roman"/>
                </a:rPr>
                <a:t>«Я -  МИР и СУДЬБ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im7-tub-ru.yandex.net/i?id=324402871-22-72&amp;n=21"/>
            <p:cNvPicPr/>
            <p:nvPr/>
          </p:nvPicPr>
          <p:blipFill>
            <a:blip r:embed="rId5"/>
            <a:stretch/>
          </p:blipFill>
          <p:spPr>
            <a:xfrm>
              <a:off x="4260960" y="642960"/>
              <a:ext cx="1493280" cy="1399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4245120"/>
            <a:ext cx="7769160" cy="26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собственное м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ать обдуманный выбор между различными мн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ировано спо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ить совместную работу, в которой возникает общее 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ценить чужую точку зрения и сознавать, что восприятие человека и его отношение к любому вопросу формируется под влиянием многих фак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692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nastasiaScript"/>
              </a:rPr>
              <a:t>Сегодня  Роль  уч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642960"/>
            <a:ext cx="8604360" cy="24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яет усилия учеников в определенное ру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кивает различные 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 условия, побуждающие к приня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ых ре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учащимся возможность самостоятельно делать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авливает новые познавательные ситуации внутри уже суще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3357720"/>
            <a:ext cx="8072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nastasiaScript"/>
              </a:rPr>
              <a:t>Сегодня  Современный  выпускник  должен  уметь</a:t>
            </a:r>
            <a:r>
              <a:rPr b="1" lang="ru-RU" sz="3600" spc="-1" strike="noStrike">
                <a:solidFill>
                  <a:srgbClr val="ff0000"/>
                </a:solidFill>
                <a:latin typeface="AnastasiaScrip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E:\Новая папка (3)\Думаем.jpeg"/>
          <p:cNvPicPr/>
          <p:nvPr/>
        </p:nvPicPr>
        <p:blipFill>
          <a:blip r:embed="rId1"/>
          <a:stretch/>
        </p:blipFill>
        <p:spPr>
          <a:xfrm>
            <a:off x="6662880" y="3419640"/>
            <a:ext cx="248760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E:\Новая папка (3)\Планета.jpeg"/>
          <p:cNvPicPr/>
          <p:nvPr/>
        </p:nvPicPr>
        <p:blipFill>
          <a:blip r:embed="rId2"/>
          <a:stretch/>
        </p:blipFill>
        <p:spPr>
          <a:xfrm>
            <a:off x="7394400" y="-92160"/>
            <a:ext cx="1810080" cy="24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Овал 2" descr=""/>
          <p:cNvPicPr/>
          <p:nvPr/>
        </p:nvPicPr>
        <p:blipFill>
          <a:blip r:embed="rId2"/>
          <a:stretch/>
        </p:blipFill>
        <p:spPr>
          <a:xfrm>
            <a:off x="2992320" y="2584440"/>
            <a:ext cx="3159360" cy="2384280"/>
          </a:xfrm>
          <a:prstGeom prst="rect">
            <a:avLst/>
          </a:prstGeom>
          <a:ln w="0">
            <a:noFill/>
          </a:ln>
        </p:spPr>
      </p:pic>
      <p:sp>
        <p:nvSpPr>
          <p:cNvPr id="135" name="Скругленный прямоугольник 3"/>
          <p:cNvSpPr/>
          <p:nvPr/>
        </p:nvSpPr>
        <p:spPr>
          <a:xfrm>
            <a:off x="2000160" y="428760"/>
            <a:ext cx="51436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Цель ФГ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Овал 4" descr=""/>
          <p:cNvPicPr/>
          <p:nvPr/>
        </p:nvPicPr>
        <p:blipFill>
          <a:blip r:embed="rId3"/>
          <a:stretch/>
        </p:blipFill>
        <p:spPr>
          <a:xfrm>
            <a:off x="1023840" y="1127160"/>
            <a:ext cx="2987640" cy="2500200"/>
          </a:xfrm>
          <a:prstGeom prst="rect">
            <a:avLst/>
          </a:prstGeom>
          <a:ln w="0">
            <a:noFill/>
          </a:ln>
        </p:spPr>
      </p:pic>
      <p:pic>
        <p:nvPicPr>
          <p:cNvPr id="137" name="Овал 5" descr=""/>
          <p:cNvPicPr/>
          <p:nvPr/>
        </p:nvPicPr>
        <p:blipFill>
          <a:blip r:embed="rId4"/>
          <a:stretch/>
        </p:blipFill>
        <p:spPr>
          <a:xfrm>
            <a:off x="378000" y="3346560"/>
            <a:ext cx="2987640" cy="2500200"/>
          </a:xfrm>
          <a:prstGeom prst="rect">
            <a:avLst/>
          </a:prstGeom>
          <a:ln w="0">
            <a:noFill/>
          </a:ln>
        </p:spPr>
      </p:pic>
      <p:pic>
        <p:nvPicPr>
          <p:cNvPr id="138" name="Овал 6" descr=""/>
          <p:cNvPicPr/>
          <p:nvPr/>
        </p:nvPicPr>
        <p:blipFill>
          <a:blip r:embed="rId5"/>
          <a:stretch/>
        </p:blipFill>
        <p:spPr>
          <a:xfrm>
            <a:off x="5072040" y="1023840"/>
            <a:ext cx="3481560" cy="2573280"/>
          </a:xfrm>
          <a:prstGeom prst="rect">
            <a:avLst/>
          </a:prstGeom>
          <a:ln w="0">
            <a:noFill/>
          </a:ln>
        </p:spPr>
      </p:pic>
      <p:pic>
        <p:nvPicPr>
          <p:cNvPr id="139" name="Овал 7" descr=""/>
          <p:cNvPicPr/>
          <p:nvPr/>
        </p:nvPicPr>
        <p:blipFill>
          <a:blip r:embed="rId6"/>
          <a:stretch/>
        </p:blipFill>
        <p:spPr>
          <a:xfrm>
            <a:off x="6022800" y="3413160"/>
            <a:ext cx="2988000" cy="2292480"/>
          </a:xfrm>
          <a:prstGeom prst="rect">
            <a:avLst/>
          </a:prstGeom>
          <a:ln w="0">
            <a:noFill/>
          </a:ln>
        </p:spPr>
      </p:pic>
      <p:pic>
        <p:nvPicPr>
          <p:cNvPr id="140" name="Овал 8" descr=""/>
          <p:cNvPicPr/>
          <p:nvPr/>
        </p:nvPicPr>
        <p:blipFill>
          <a:blip r:embed="rId7"/>
          <a:stretch/>
        </p:blipFill>
        <p:spPr>
          <a:xfrm>
            <a:off x="3097080" y="4479840"/>
            <a:ext cx="2986200" cy="22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1" descr=""/>
          <p:cNvPicPr/>
          <p:nvPr/>
        </p:nvPicPr>
        <p:blipFill>
          <a:blip r:embed="rId1"/>
          <a:stretch/>
        </p:blipFill>
        <p:spPr>
          <a:xfrm>
            <a:off x="938160" y="1895400"/>
            <a:ext cx="7961400" cy="478008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0" y="6143760"/>
            <a:ext cx="27003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дия «Вызов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нятийное колес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3" descr="- (14).png"/>
          <p:cNvPicPr/>
          <p:nvPr/>
        </p:nvPicPr>
        <p:blipFill>
          <a:blip r:embed="rId2"/>
          <a:srcRect l="0" t="5410" r="0" b="0"/>
          <a:stretch/>
        </p:blipFill>
        <p:spPr>
          <a:xfrm>
            <a:off x="0" y="0"/>
            <a:ext cx="2263680" cy="26575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2000160" y="0"/>
            <a:ext cx="692316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ston"/>
              </a:rPr>
              <a:t>Совсем недавно ( 9 класс) мы сдавали  экзамены  в форме  ОГЭ.  Давайте  вспомним  наши маленькие  и  большие  поражения  и  победы.</a:t>
            </a:r>
            <a:r>
              <a:rPr b="0" i="1" lang="ru-RU" sz="1600" spc="-1" strike="noStrike">
                <a:solidFill>
                  <a:srgbClr val="000000"/>
                </a:solidFill>
                <a:latin typeface="Aristo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желания выпускник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ственность рождается не в условиях злобного подчинения, а тогда , когда мы чувствуем что нас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уважают как личность, и знаем, что окружающие возлагают на нас надеж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2876400" y="-201600"/>
            <a:ext cx="4499280" cy="1974960"/>
          </a:xfrm>
          <a:prstGeom prst="rect">
            <a:avLst/>
          </a:prstGeom>
          <a:ln w="0">
            <a:noFill/>
          </a:ln>
        </p:spPr>
      </p:pic>
      <p:grpSp>
        <p:nvGrpSpPr>
          <p:cNvPr id="146" name="Овал 2"/>
          <p:cNvGrpSpPr/>
          <p:nvPr/>
        </p:nvGrpSpPr>
        <p:grpSpPr>
          <a:xfrm>
            <a:off x="2908440" y="2341440"/>
            <a:ext cx="4181400" cy="1889280"/>
            <a:chOff x="2908440" y="2341440"/>
            <a:chExt cx="4181400" cy="1889280"/>
          </a:xfrm>
        </p:grpSpPr>
        <p:pic>
          <p:nvPicPr>
            <p:cNvPr id="147" name="Овал 2" descr=""/>
            <p:cNvPicPr/>
            <p:nvPr/>
          </p:nvPicPr>
          <p:blipFill>
            <a:blip r:embed="rId2"/>
            <a:stretch/>
          </p:blipFill>
          <p:spPr>
            <a:xfrm>
              <a:off x="2908440" y="2341440"/>
              <a:ext cx="418140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535200" y="2629080"/>
              <a:ext cx="29307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ff"/>
                  </a:solidFill>
                  <a:latin typeface="Arial"/>
                </a:rPr>
                <a:t>Проблемы   ЕГЭ и ОГ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Овал 3"/>
          <p:cNvSpPr/>
          <p:nvPr/>
        </p:nvSpPr>
        <p:spPr>
          <a:xfrm>
            <a:off x="0" y="5357880"/>
            <a:ext cx="2428920" cy="1285920"/>
          </a:xfrm>
          <a:prstGeom prst="ellipse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108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4"/>
          <p:cNvGrpSpPr/>
          <p:nvPr/>
        </p:nvGrpSpPr>
        <p:grpSpPr>
          <a:xfrm>
            <a:off x="4479840" y="5267160"/>
            <a:ext cx="2036880" cy="1609920"/>
            <a:chOff x="4479840" y="5267160"/>
            <a:chExt cx="2036880" cy="1609920"/>
          </a:xfrm>
        </p:grpSpPr>
        <p:pic>
          <p:nvPicPr>
            <p:cNvPr id="151" name="Овал 4" descr=""/>
            <p:cNvPicPr/>
            <p:nvPr/>
          </p:nvPicPr>
          <p:blipFill>
            <a:blip r:embed="rId3"/>
            <a:stretch/>
          </p:blipFill>
          <p:spPr>
            <a:xfrm>
              <a:off x="4479840" y="5267160"/>
              <a:ext cx="203688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794120" y="5516640"/>
              <a:ext cx="141300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5"/>
          <p:cNvSpPr/>
          <p:nvPr/>
        </p:nvSpPr>
        <p:spPr>
          <a:xfrm rot="19993200">
            <a:off x="6715080" y="2786040"/>
            <a:ext cx="2428920" cy="1214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Овал 6"/>
          <p:cNvGrpSpPr/>
          <p:nvPr/>
        </p:nvGrpSpPr>
        <p:grpSpPr>
          <a:xfrm>
            <a:off x="6126120" y="4267080"/>
            <a:ext cx="2249640" cy="1109880"/>
            <a:chOff x="6126120" y="4267080"/>
            <a:chExt cx="2249640" cy="1109880"/>
          </a:xfrm>
        </p:grpSpPr>
        <p:pic>
          <p:nvPicPr>
            <p:cNvPr id="155" name="Овал 6" descr=""/>
            <p:cNvPicPr/>
            <p:nvPr/>
          </p:nvPicPr>
          <p:blipFill>
            <a:blip r:embed="rId5"/>
            <a:stretch/>
          </p:blipFill>
          <p:spPr>
            <a:xfrm>
              <a:off x="6126120" y="4267080"/>
              <a:ext cx="22496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467400" y="4443480"/>
              <a:ext cx="1567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Овал 7"/>
          <p:cNvSpPr/>
          <p:nvPr/>
        </p:nvSpPr>
        <p:spPr>
          <a:xfrm>
            <a:off x="1785960" y="4357800"/>
            <a:ext cx="1714320" cy="1071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Овал 8"/>
          <p:cNvGrpSpPr/>
          <p:nvPr/>
        </p:nvGrpSpPr>
        <p:grpSpPr>
          <a:xfrm>
            <a:off x="2693880" y="5340240"/>
            <a:ext cx="1755720" cy="322200"/>
            <a:chOff x="2693880" y="5340240"/>
            <a:chExt cx="1755720" cy="322200"/>
          </a:xfrm>
        </p:grpSpPr>
        <p:pic>
          <p:nvPicPr>
            <p:cNvPr id="159" name="Овал 8" descr=""/>
            <p:cNvPicPr/>
            <p:nvPr/>
          </p:nvPicPr>
          <p:blipFill>
            <a:blip r:embed="rId6"/>
            <a:stretch/>
          </p:blipFill>
          <p:spPr>
            <a:xfrm>
              <a:off x="2693880" y="5340240"/>
              <a:ext cx="17557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965320" y="5398920"/>
              <a:ext cx="12128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Овал 9"/>
          <p:cNvSpPr/>
          <p:nvPr/>
        </p:nvSpPr>
        <p:spPr>
          <a:xfrm>
            <a:off x="3000240" y="1000080"/>
            <a:ext cx="2928960" cy="1071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 rot="20310600">
            <a:off x="-268200" y="1357200"/>
            <a:ext cx="3236760" cy="125424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6690000"/>
          </a:gra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Овал 11"/>
          <p:cNvGrpSpPr/>
          <p:nvPr/>
        </p:nvGrpSpPr>
        <p:grpSpPr>
          <a:xfrm>
            <a:off x="6553080" y="1481040"/>
            <a:ext cx="2395800" cy="1109880"/>
            <a:chOff x="6553080" y="1481040"/>
            <a:chExt cx="2395800" cy="1109880"/>
          </a:xfrm>
        </p:grpSpPr>
        <p:pic>
          <p:nvPicPr>
            <p:cNvPr id="164" name="Овал 11" descr=""/>
            <p:cNvPicPr/>
            <p:nvPr/>
          </p:nvPicPr>
          <p:blipFill>
            <a:blip r:embed="rId7"/>
            <a:stretch/>
          </p:blipFill>
          <p:spPr>
            <a:xfrm>
              <a:off x="6553080" y="1481040"/>
              <a:ext cx="23958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916680" y="1657440"/>
              <a:ext cx="16686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Овал 12"/>
          <p:cNvSpPr/>
          <p:nvPr/>
        </p:nvSpPr>
        <p:spPr>
          <a:xfrm rot="20167800">
            <a:off x="-9000" y="3024360"/>
            <a:ext cx="2732040" cy="1357200"/>
          </a:xfrm>
          <a:prstGeom prst="ellipse">
            <a:avLst/>
          </a:prstGeom>
          <a:gradFill rotWithShape="0">
            <a:gsLst>
              <a:gs pos="0">
                <a:srgbClr val="a1c7ba"/>
              </a:gs>
              <a:gs pos="100000">
                <a:srgbClr val="e3ede9"/>
              </a:gs>
            </a:gsLst>
            <a:lin ang="6834000"/>
          </a:gra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Овал 13"/>
          <p:cNvGrpSpPr/>
          <p:nvPr/>
        </p:nvGrpSpPr>
        <p:grpSpPr>
          <a:xfrm>
            <a:off x="6913440" y="5553000"/>
            <a:ext cx="2249640" cy="1182600"/>
            <a:chOff x="6913440" y="5553000"/>
            <a:chExt cx="2249640" cy="1182600"/>
          </a:xfrm>
        </p:grpSpPr>
        <p:pic>
          <p:nvPicPr>
            <p:cNvPr id="168" name="Овал 13" descr=""/>
            <p:cNvPicPr/>
            <p:nvPr/>
          </p:nvPicPr>
          <p:blipFill>
            <a:blip r:embed="rId8"/>
            <a:stretch/>
          </p:blipFill>
          <p:spPr>
            <a:xfrm>
              <a:off x="6913440" y="5553000"/>
              <a:ext cx="22496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53280" y="5738760"/>
              <a:ext cx="15667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0" name="Прямая со стрелкой 14"/>
          <p:cNvCxnSpPr>
            <a:endCxn id="161" idx="4"/>
          </p:cNvCxnSpPr>
          <p:nvPr/>
        </p:nvCxnSpPr>
        <p:spPr>
          <a:xfrm flipH="1" flipV="1">
            <a:off x="4465440" y="2071080"/>
            <a:ext cx="535680" cy="286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1" name="Прямая со стрелкой 15"/>
          <p:cNvCxnSpPr/>
          <p:nvPr/>
        </p:nvCxnSpPr>
        <p:spPr>
          <a:xfrm flipV="1">
            <a:off x="6286680" y="2413800"/>
            <a:ext cx="630720" cy="158040"/>
          </a:xfrm>
          <a:prstGeom prst="straightConnector1">
            <a:avLst/>
          </a:prstGeom>
          <a:ln w="38160">
            <a:solidFill>
              <a:srgbClr val="4b8f7c"/>
            </a:solidFill>
            <a:miter/>
            <a:tailEnd len="med" type="arrow" w="med"/>
          </a:ln>
        </p:spPr>
      </p:cxnSp>
      <p:cxnSp>
        <p:nvCxnSpPr>
          <p:cNvPr id="172" name="Прямая со стрелкой 16"/>
          <p:cNvCxnSpPr>
            <a:endCxn id="153" idx="0"/>
          </p:cNvCxnSpPr>
          <p:nvPr/>
        </p:nvCxnSpPr>
        <p:spPr>
          <a:xfrm flipV="1">
            <a:off x="7000560" y="2850840"/>
            <a:ext cx="656280" cy="149760"/>
          </a:xfrm>
          <a:prstGeom prst="straightConnector1">
            <a:avLst/>
          </a:prstGeom>
          <a:ln w="28440">
            <a:solidFill>
              <a:srgbClr val="d60093"/>
            </a:solidFill>
            <a:miter/>
            <a:tailEnd len="med" type="triangle" w="med"/>
          </a:ln>
        </p:spPr>
      </p:cxnSp>
      <p:cxnSp>
        <p:nvCxnSpPr>
          <p:cNvPr id="173" name="Прямая со стрелкой 17"/>
          <p:cNvCxnSpPr/>
          <p:nvPr/>
        </p:nvCxnSpPr>
        <p:spPr>
          <a:xfrm>
            <a:off x="5357880" y="4214880"/>
            <a:ext cx="1072080" cy="28656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74" name="Прямая со стрелкой 18"/>
          <p:cNvCxnSpPr/>
          <p:nvPr/>
        </p:nvCxnSpPr>
        <p:spPr>
          <a:xfrm flipH="1">
            <a:off x="6357240" y="5357880"/>
            <a:ext cx="894600" cy="2865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75" name="Прямая со стрелкой 19"/>
          <p:cNvCxnSpPr/>
          <p:nvPr/>
        </p:nvCxnSpPr>
        <p:spPr>
          <a:xfrm>
            <a:off x="7251840" y="5357520"/>
            <a:ext cx="606960" cy="2149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76" name="Прямая со стрелкой 20"/>
          <p:cNvCxnSpPr/>
          <p:nvPr/>
        </p:nvCxnSpPr>
        <p:spPr>
          <a:xfrm flipH="1">
            <a:off x="3071160" y="4071960"/>
            <a:ext cx="786600" cy="35784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77" name="Прямая со стрелкой 21"/>
          <p:cNvCxnSpPr>
            <a:stCxn id="157" idx="2"/>
            <a:endCxn id="149" idx="0"/>
          </p:cNvCxnSpPr>
          <p:nvPr/>
        </p:nvCxnSpPr>
        <p:spPr>
          <a:xfrm flipH="1">
            <a:off x="1213920" y="4894200"/>
            <a:ext cx="572400" cy="4644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78" name="Прямая со стрелкой 22"/>
          <p:cNvCxnSpPr>
            <a:stCxn id="157" idx="5"/>
          </p:cNvCxnSpPr>
          <p:nvPr/>
        </p:nvCxnSpPr>
        <p:spPr>
          <a:xfrm>
            <a:off x="3249720" y="5272200"/>
            <a:ext cx="465840" cy="15768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79" name="Прямая со стрелкой 23"/>
          <p:cNvCxnSpPr>
            <a:endCxn id="166" idx="6"/>
          </p:cNvCxnSpPr>
          <p:nvPr/>
        </p:nvCxnSpPr>
        <p:spPr>
          <a:xfrm flipH="1">
            <a:off x="2604240" y="2856600"/>
            <a:ext cx="538920" cy="292680"/>
          </a:xfrm>
          <a:prstGeom prst="straightConnector1">
            <a:avLst/>
          </a:prstGeom>
          <a:ln w="38160">
            <a:solidFill>
              <a:srgbClr val="4b8f7c"/>
            </a:solidFill>
            <a:miter/>
            <a:tailEnd len="med" type="triangle" w="med"/>
          </a:ln>
        </p:spPr>
      </p:cxnSp>
      <p:cxnSp>
        <p:nvCxnSpPr>
          <p:cNvPr id="180" name="Прямая со стрелкой 24"/>
          <p:cNvCxnSpPr>
            <a:endCxn id="162" idx="5"/>
          </p:cNvCxnSpPr>
          <p:nvPr/>
        </p:nvCxnSpPr>
        <p:spPr>
          <a:xfrm flipH="1" flipV="1">
            <a:off x="2577240" y="1977480"/>
            <a:ext cx="1065960" cy="5943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81" name="Рисунок 38" descr="- (27).png"/>
          <p:cNvPicPr/>
          <p:nvPr/>
        </p:nvPicPr>
        <p:blipFill>
          <a:blip r:embed="rId9"/>
          <a:stretch/>
        </p:blipFill>
        <p:spPr>
          <a:xfrm>
            <a:off x="0" y="0"/>
            <a:ext cx="183528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9" descr="- (23).png"/>
          <p:cNvPicPr/>
          <p:nvPr/>
        </p:nvPicPr>
        <p:blipFill>
          <a:blip r:embed="rId10"/>
          <a:stretch/>
        </p:blipFill>
        <p:spPr>
          <a:xfrm>
            <a:off x="6716880" y="0"/>
            <a:ext cx="2427120" cy="1609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8"/>
          <p:cNvSpPr/>
          <p:nvPr/>
        </p:nvSpPr>
        <p:spPr>
          <a:xfrm>
            <a:off x="3429000" y="10000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руженность учебными дисциплин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1"/>
          <p:cNvSpPr/>
          <p:nvPr/>
        </p:nvSpPr>
        <p:spPr>
          <a:xfrm>
            <a:off x="6215040" y="435780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зкая самооц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4"/>
          <p:cNvSpPr/>
          <p:nvPr/>
        </p:nvSpPr>
        <p:spPr>
          <a:xfrm>
            <a:off x="4786200" y="5500800"/>
            <a:ext cx="164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уверенность, сомнения в прави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ения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5"/>
          <p:cNvSpPr/>
          <p:nvPr/>
        </p:nvSpPr>
        <p:spPr>
          <a:xfrm>
            <a:off x="7286760" y="57862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живания, страх, стр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0"/>
          <p:cNvSpPr/>
          <p:nvPr/>
        </p:nvSpPr>
        <p:spPr>
          <a:xfrm rot="20399400">
            <a:off x="-87120" y="1391040"/>
            <a:ext cx="298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учебного процесса, связанная с разноуровневой подготовкой к аттестаци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5"/>
          <p:cNvSpPr/>
          <p:nvPr/>
        </p:nvSpPr>
        <p:spPr>
          <a:xfrm>
            <a:off x="1928880" y="45720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6"/>
          <p:cNvSpPr/>
          <p:nvPr/>
        </p:nvSpPr>
        <p:spPr>
          <a:xfrm>
            <a:off x="214200" y="5572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елы в знаниях, начиная с 7-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0"/>
          <p:cNvSpPr/>
          <p:nvPr/>
        </p:nvSpPr>
        <p:spPr>
          <a:xfrm>
            <a:off x="6786720" y="17146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андарт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2"/>
          <p:cNvSpPr/>
          <p:nvPr/>
        </p:nvSpPr>
        <p:spPr>
          <a:xfrm rot="19761600">
            <a:off x="6713280" y="296532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дых – не переутомл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6"/>
          <p:cNvSpPr/>
          <p:nvPr/>
        </p:nvSpPr>
        <p:spPr>
          <a:xfrm rot="19923000">
            <a:off x="124920" y="31215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решений  Постоянно работать с прототипами 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loud"/>
          <p:cNvSpPr/>
          <p:nvPr/>
        </p:nvSpPr>
        <p:spPr>
          <a:xfrm rot="732600">
            <a:off x="1977840" y="153720"/>
            <a:ext cx="1523880" cy="631800"/>
          </a:xfrm>
          <a:prstGeom prst="pi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968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loud"/>
          <p:cNvSpPr/>
          <p:nvPr/>
        </p:nvSpPr>
        <p:spPr>
          <a:xfrm rot="1377600">
            <a:off x="3463560" y="4348080"/>
            <a:ext cx="2282760" cy="642960"/>
          </a:xfrm>
          <a:prstGeom prst="pi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2022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мысл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loud"/>
          <p:cNvSpPr/>
          <p:nvPr/>
        </p:nvSpPr>
        <p:spPr>
          <a:xfrm rot="20420400">
            <a:off x="2107800" y="6037200"/>
            <a:ext cx="2455920" cy="641520"/>
          </a:xfrm>
          <a:prstGeom prst="pi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9282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8571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временная шко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6748560" y="4095720"/>
            <a:ext cx="2071440" cy="2428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644400" y="2479320"/>
            <a:ext cx="814248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ответствии с ФГОС результатом деятельности современной школы должна стать не сама по себе система знаний и навыков учащихся, а умение выпускниками ими пользов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8571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82760" cy="621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748560" y="4095720"/>
            <a:ext cx="2071440" cy="2428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644400" y="1846440"/>
            <a:ext cx="7312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тами современного урока можно счит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местное проектирование уро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ало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тнерств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0:15:45Z</dcterms:created>
  <dc:creator>Мама</dc:creator>
  <dc:description/>
  <dc:language>en-US</dc:language>
  <cp:lastModifiedBy>Илюза Гарафиевна</cp:lastModifiedBy>
  <dcterms:modified xsi:type="dcterms:W3CDTF">2017-04-08T13:28:05Z</dcterms:modified>
  <cp:revision>209</cp:revision>
  <dc:subject/>
  <dc:title>Родительское собрание в 1 классе</dc:title>
</cp:coreProperties>
</file>