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04C-D874-48F2-9C69-943C0839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2646-6A11-4727-B611-D86A3F1E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FB2D-BE87-4CB9-9705-A5FDB3FD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EB0-A1B0-4E21-9E58-5E5FDFAE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792-8280-4317-86A8-E5F00461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CF6-127B-4643-A1E3-F218C1A6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A58-68F2-47D3-BE6E-11719208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EA8-1285-4073-BDA5-236C90AE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ECC-2269-45FF-A87F-A03F4187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DAD-F869-4E8A-B680-CA0C9BBC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0FF-8C98-4D7B-A4BF-62BEB343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FCA-D95D-4976-8CD2-3E77791F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8810-9C81-48C9-A73A-C53C831257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titul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5"/>
          <p:cNvSpPr/>
          <p:nvPr/>
        </p:nvSpPr>
        <p:spPr>
          <a:xfrm>
            <a:off x="2535120" y="1411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466560" y="74628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ность и способность к саморазвитию и самоопреде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значимых социальных и межличностных отноше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ностно-смысловые установи, отражающие личностные и гражданские позиции в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компетен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созн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ь ставить цели и строить жизненные пл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ность к осознанию российской идентичности в поликультурном социу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826920" y="1159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 ориентирован н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РТРЕТ ВЫПУСКНИКА ОСНОВНОЙ ШКОЛ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3851280" y="1197000"/>
            <a:ext cx="48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юбящий свой край и своё Отече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равств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ющий учи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циально актив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меющий обща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доров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иентирующийся в мире професс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8360" y="357660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то должен быть челове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3276720" y="1413000"/>
            <a:ext cx="358560" cy="5184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135000 h 5184720"/>
              <a:gd name="textAreaBottom" fmla="*/ 5049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85840" y="2142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нцип минимакса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аем знания по максимуму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рашиваем по миниму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4427640" y="400212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Ученик научитс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4427640" y="5199120"/>
            <a:ext cx="43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Ученик получит возможность научитьс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395280" y="1844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е и предметные планируемые результаты разбиваются на две групп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"/>
          <p:cNvSpPr/>
          <p:nvPr/>
        </p:nvSpPr>
        <p:spPr>
          <a:xfrm>
            <a:off x="682560" y="387972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о для осв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539640" y="525924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обязательно для осво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5724360" y="2781360"/>
            <a:ext cx="503280" cy="1152360"/>
          </a:xfrm>
          <a:prstGeom prst="downArrow">
            <a:avLst>
              <a:gd name="adj1" fmla="val 50000"/>
              <a:gd name="adj2" fmla="val 5724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5400000">
            <a:off x="3419640" y="3547080"/>
            <a:ext cx="503280" cy="1368360"/>
          </a:xfrm>
          <a:prstGeom prst="downArrow">
            <a:avLst>
              <a:gd name="adj1" fmla="val 28083"/>
              <a:gd name="adj2" fmla="val 716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3419640" y="4926600"/>
            <a:ext cx="503280" cy="1368360"/>
          </a:xfrm>
          <a:prstGeom prst="downArrow">
            <a:avLst>
              <a:gd name="adj1" fmla="val 28083"/>
              <a:gd name="adj2" fmla="val 716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6"/>
          <p:cNvSpPr/>
          <p:nvPr/>
        </p:nvSpPr>
        <p:spPr>
          <a:xfrm>
            <a:off x="2163600" y="21420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9"/>
          <p:cNvSpPr/>
          <p:nvPr/>
        </p:nvSpPr>
        <p:spPr>
          <a:xfrm>
            <a:off x="343080" y="857160"/>
            <a:ext cx="8429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воение межпредметных понятий и универсальных учебных действий (УУД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ятив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тивн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ь их использования в практ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стоятельность планирования и осуществления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учебного сотрудничества с педагогами и сверстник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роение индивидуальной образовательной траек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2"/>
          <p:cNvSpPr/>
          <p:nvPr/>
        </p:nvSpPr>
        <p:spPr>
          <a:xfrm>
            <a:off x="1646280" y="1429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 результат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по образовательным областям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180720" y="141300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Фил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1478880" y="17463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ий язы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1480320" y="21528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1477800" y="25588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остранный язы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179280" y="30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бщественно-научные предм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79960" y="3394080"/>
            <a:ext cx="20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рия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1478880" y="381168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общая исто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1479240" y="4229280"/>
            <a:ext cx="21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1478520" y="46465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186120" y="516420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Математика и 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0" y="5740560"/>
            <a:ext cx="44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Основы духовно-нравственн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ы народо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4630680" y="1486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Естественнонаучные предм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5641560" y="186372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640840" y="227808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5641200" y="27097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4629240" y="32464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Искус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5643720" y="365292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зительное искус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640480" y="4160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зы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4627080" y="479736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Техн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5"/>
          <p:cNvSpPr/>
          <p:nvPr/>
        </p:nvSpPr>
        <p:spPr>
          <a:xfrm>
            <a:off x="4598640" y="5380200"/>
            <a:ext cx="43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Физическая культура и основ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опасности жизне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6"/>
          <p:cNvSpPr/>
          <p:nvPr/>
        </p:nvSpPr>
        <p:spPr>
          <a:xfrm>
            <a:off x="4503600" y="1486080"/>
            <a:ext cx="0" cy="47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1055520" y="981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хсоставный учебны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"/>
          <p:cNvSpPr/>
          <p:nvPr/>
        </p:nvSpPr>
        <p:spPr>
          <a:xfrm>
            <a:off x="5124600" y="98100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вухсоставный учебны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"/>
          <p:cNvSpPr/>
          <p:nvPr/>
        </p:nvSpPr>
        <p:spPr>
          <a:xfrm>
            <a:off x="1055520" y="30718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"/>
          <p:cNvSpPr/>
          <p:nvPr/>
        </p:nvSpPr>
        <p:spPr>
          <a:xfrm>
            <a:off x="1055520" y="44164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й компон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1055520" y="57610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"/>
          <p:cNvSpPr/>
          <p:nvPr/>
        </p:nvSpPr>
        <p:spPr>
          <a:xfrm>
            <a:off x="5124600" y="292428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я стандар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7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4871880" y="4268880"/>
            <a:ext cx="33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сть, формируема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частниками образовательного процесс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3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"/>
          <p:cNvSpPr/>
          <p:nvPr/>
        </p:nvSpPr>
        <p:spPr>
          <a:xfrm>
            <a:off x="3276720" y="26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бный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947880" y="2781360"/>
            <a:ext cx="3024000" cy="381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16600" y="2781360"/>
            <a:ext cx="3024000" cy="3816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208240" y="1879560"/>
            <a:ext cx="503280" cy="792360"/>
          </a:xfrm>
          <a:prstGeom prst="downArrow">
            <a:avLst>
              <a:gd name="adj1" fmla="val 50000"/>
              <a:gd name="adj2" fmla="val 393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6276960" y="1881360"/>
            <a:ext cx="503280" cy="792000"/>
          </a:xfrm>
          <a:prstGeom prst="downArrow">
            <a:avLst>
              <a:gd name="adj1" fmla="val 50000"/>
              <a:gd name="adj2" fmla="val 3934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146160" y="235080"/>
            <a:ext cx="64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чая программа по предмету, кур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"/>
          <p:cNvSpPr/>
          <p:nvPr/>
        </p:nvSpPr>
        <p:spPr>
          <a:xfrm>
            <a:off x="1690560" y="836640"/>
            <a:ext cx="54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ые предметы по Б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"/>
          <p:cNvSpPr/>
          <p:nvPr/>
        </p:nvSpPr>
        <p:spPr>
          <a:xfrm>
            <a:off x="1690560" y="143496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ые предметы и курсы (обязательные, элективные, факультатив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1690560" y="23986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гративные к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"/>
          <p:cNvSpPr/>
          <p:nvPr/>
        </p:nvSpPr>
        <p:spPr>
          <a:xfrm>
            <a:off x="1690560" y="2997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урсы в рамках внеурочной деятельности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"/>
          <p:cNvSpPr/>
          <p:nvPr/>
        </p:nvSpPr>
        <p:spPr>
          <a:xfrm>
            <a:off x="108000" y="3645000"/>
            <a:ext cx="655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рабочие программы составляются учителе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учетом конкретных условий (особенност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егиона (района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кретных уче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ьного учрежд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ьно-технической б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"/>
          <p:cNvSpPr/>
          <p:nvPr/>
        </p:nvSpPr>
        <p:spPr>
          <a:xfrm>
            <a:off x="1379520" y="58053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рабочие программы составляются учителе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основе «Примерных программ по предмет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5"/>
          <p:cNvSpPr/>
          <p:nvPr/>
        </p:nvSpPr>
        <p:spPr>
          <a:xfrm>
            <a:off x="1060560" y="763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чие программы отдельных учебных предметов, курсов должны содерж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6"/>
          <p:cNvSpPr/>
          <p:nvPr/>
        </p:nvSpPr>
        <p:spPr>
          <a:xfrm>
            <a:off x="214200" y="928800"/>
            <a:ext cx="87156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яснительную записку, в которой конкретизируются общие цели ООО с учётом специфики учебного предмет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стандартов и примерных програм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щую характеристику учебного предмета, кур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стандартов и примерных програм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места учебного предмета, курса в учебном плане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месте с завучем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ые, метапредметные и предметные результаты освоения конкретного учебного предмета, кур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примерных программ и + «свое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держание учебного предмета, кур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стандартов и примерных программ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матическое планирование с определением основных видов учебной деятельности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примерных программ и + «свое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учебно-методического и материально-технического обеспечения образовательного процес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что есть в ОУ на данный учебный год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результаты изучения учебного предмета, курса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 стандартов и примерных программ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3"/>
          <p:cNvSpPr/>
          <p:nvPr/>
        </p:nvSpPr>
        <p:spPr>
          <a:xfrm>
            <a:off x="179280" y="189000"/>
            <a:ext cx="3672000" cy="2288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ования к условиям реализации основной образовательной программы основно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"/>
          <p:cNvSpPr/>
          <p:nvPr/>
        </p:nvSpPr>
        <p:spPr>
          <a:xfrm>
            <a:off x="4749840" y="1126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др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4749840" y="61740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4749840" y="112248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атериально-техн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7"/>
          <p:cNvSpPr/>
          <p:nvPr/>
        </p:nvSpPr>
        <p:spPr>
          <a:xfrm>
            <a:off x="4749840" y="2133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о-метод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4749840" y="1627200"/>
            <a:ext cx="39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о-педаг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9"/>
          <p:cNvSpPr/>
          <p:nvPr/>
        </p:nvSpPr>
        <p:spPr>
          <a:xfrm>
            <a:off x="682560" y="30384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ом реализации указанных требований должно бы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оздание образовательной сред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0"/>
          <p:cNvSpPr/>
          <p:nvPr/>
        </p:nvSpPr>
        <p:spPr>
          <a:xfrm>
            <a:off x="573120" y="4199040"/>
            <a:ext cx="82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беспечивающей высоко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ачество 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1"/>
          <p:cNvSpPr/>
          <p:nvPr/>
        </p:nvSpPr>
        <p:spPr>
          <a:xfrm>
            <a:off x="573120" y="5089680"/>
            <a:ext cx="79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Гарантирующе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храну здоровь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бучаю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2"/>
          <p:cNvSpPr/>
          <p:nvPr/>
        </p:nvSpPr>
        <p:spPr>
          <a:xfrm>
            <a:off x="573120" y="5985000"/>
            <a:ext cx="81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емственн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по отношени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 начально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4043520" y="1150920"/>
            <a:ext cx="576000" cy="358920"/>
          </a:xfrm>
          <a:prstGeom prst="rightArrow">
            <a:avLst>
              <a:gd name="adj1" fmla="val 50000"/>
              <a:gd name="adj2" fmla="val 4012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635400" y="84240"/>
            <a:ext cx="78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ерии готовности ОУ к реализации ФГОС ОО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16440" y="765000"/>
            <a:ext cx="87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а и утверждена основная образовательная програм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24000" y="1195560"/>
            <a:ext cx="828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ено повышение квалификации педагогических работников учреждения по проблеме реализации нового образовательного стандар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24000" y="2235240"/>
            <a:ext cx="813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 план методической работы, обеспечивающей сопровождение реализации ФГОС ОО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24000" y="2971800"/>
            <a:ext cx="812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тав образовательного учреждения, его локальные акты (положения, инструкции и т.д.) приведены в соответствие с требованиями ФГОС ОО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18600" y="4011480"/>
            <a:ext cx="66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 список учебников и учебных пособ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24000" y="4441680"/>
            <a:ext cx="808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ы локальные акты, регламентирующих установление заработной платы работников 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24000" y="517860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а оптимальная модель организации внеуроч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313560" y="5913360"/>
            <a:ext cx="82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ы необходимые материально-технические усло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19320" y="6345360"/>
            <a:ext cx="66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а информационно-образовательная сре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2"/>
          <p:cNvSpPr/>
          <p:nvPr/>
        </p:nvSpPr>
        <p:spPr>
          <a:xfrm>
            <a:off x="249120" y="115920"/>
            <a:ext cx="86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 включает в себя треб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зультат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своения основной образовательной программы основ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труктуре основной образовательной програм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снов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условиям реализ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сновной образовательной программы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136440" y="3546360"/>
            <a:ext cx="8856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 создан д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СЕГО ОБРАЗОВАТЕЛЬНОГО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ООБЩЕ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дите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ации О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цев ВСЕХ уров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инансистов ВСЕХ уровн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набженцев ВСЕХ уров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503280" y="260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ход на компетентностную модель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503280" y="148428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Компетенция – совокупность определенных знаний, умений и навыков, в которых человек должен быть осведомлен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меть практический опыт рабо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503280" y="39798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но-деятельностны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503280" y="5337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только передача ученикам знаний и опыт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 и организация их самостоятельной учеб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4246560" y="765000"/>
            <a:ext cx="720720" cy="721080"/>
          </a:xfrm>
          <a:prstGeom prst="downArrow">
            <a:avLst>
              <a:gd name="adj1" fmla="val 50000"/>
              <a:gd name="adj2" fmla="val 2501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4246560" y="321300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4246560" y="4579920"/>
            <a:ext cx="72072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1312920" y="115920"/>
            <a:ext cx="64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ниверсальные учебные действ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УУ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468360" y="73512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ые, Регулятивные, Коммуникативн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нава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647640" y="1700280"/>
            <a:ext cx="777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имер, 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гулятивны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УУД можно отне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амостоятельно определять цели своего обучения, ставить и формулировать для себя новые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амостоятельно планировать пути достижения целей, осознанно выбирать наиболее эффективные способы решения учебных и познавательных зада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соотносить свои действия с планируемыми результатами, осуществлять контроль свое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корректировать свои действия в соответствии с изменяющейся ситуаци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оценивать правильность выполнения учебной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дение основами самоконтроля, самооценки, принятия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2124000" y="189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УД формируются с помощ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41440" y="375984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Формирование универсальных учебных действи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39640" y="440568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Формирование ИКТ-компетентности обучающихс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542160" y="5053320"/>
            <a:ext cx="585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Основы учебно-исследовательск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проектной деятельност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8560" y="6066360"/>
            <a:ext cx="78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Основы смыслового чтения и работа с текстом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025640" y="1627560"/>
            <a:ext cx="324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должен специально отслежива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УУД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каждом предм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909720" y="907920"/>
            <a:ext cx="34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бных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5111640" y="90792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6253200" y="1844640"/>
            <a:ext cx="720720" cy="1871640"/>
          </a:xfrm>
          <a:prstGeom prst="downArrow">
            <a:avLst>
              <a:gd name="adj1" fmla="val 50000"/>
              <a:gd name="adj2" fmla="val 6492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11360" y="1120320"/>
            <a:ext cx="777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щение с устройствами ИК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ксация изображений и зву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письменных сообщ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графических объект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музыкальных и звуковых сообщ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, восприятие и использование гипермедиасообщ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муникация и социальное взаимодейств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иск и организация хранения информ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информации, математическая обработка данных в исследован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елирование, проектирование и управлени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72320" y="333360"/>
            <a:ext cx="82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ИКТ-компетентности обучающих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826920" y="260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ОБРАЗОВАТЕЛЬ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2087640" y="325116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ъединяет в себе все программные документы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2087640" y="486900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документальной основой деятельности всего ОУ в текущем учебн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2087640" y="126828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язывает все процессы, происходящие в ОУ в единый образовательны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2"/>
          <p:cNvSpPr/>
          <p:nvPr/>
        </p:nvSpPr>
        <p:spPr>
          <a:xfrm>
            <a:off x="1116000" y="2239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ОБРАЗОВАТЕЛЬ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379440" y="20797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яснительная запи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450720" y="323208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результ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"/>
          <p:cNvSpPr/>
          <p:nvPr/>
        </p:nvSpPr>
        <p:spPr>
          <a:xfrm>
            <a:off x="638280" y="4437000"/>
            <a:ext cx="177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и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7"/>
          <p:cNvSpPr/>
          <p:nvPr/>
        </p:nvSpPr>
        <p:spPr>
          <a:xfrm>
            <a:off x="846000" y="124308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Целе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3329640" y="124308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держатель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3429000" y="20797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развития У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0"/>
          <p:cNvSpPr/>
          <p:nvPr/>
        </p:nvSpPr>
        <p:spPr>
          <a:xfrm>
            <a:off x="3429000" y="299736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ы отдельных учебных предм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1"/>
          <p:cNvSpPr/>
          <p:nvPr/>
        </p:nvSpPr>
        <p:spPr>
          <a:xfrm>
            <a:off x="3429000" y="44370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воспитания и социализ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2"/>
          <p:cNvSpPr/>
          <p:nvPr/>
        </p:nvSpPr>
        <p:spPr>
          <a:xfrm>
            <a:off x="3429000" y="56610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коррекционной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3"/>
          <p:cNvSpPr/>
          <p:nvPr/>
        </p:nvSpPr>
        <p:spPr>
          <a:xfrm>
            <a:off x="6365880" y="124308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4"/>
          <p:cNvSpPr/>
          <p:nvPr/>
        </p:nvSpPr>
        <p:spPr>
          <a:xfrm>
            <a:off x="6623280" y="2079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ебный пл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15"/>
          <p:cNvSpPr/>
          <p:nvPr/>
        </p:nvSpPr>
        <p:spPr>
          <a:xfrm>
            <a:off x="6515280" y="299736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а условий реализации О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3816360" y="80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де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250920" y="1844640"/>
            <a:ext cx="2592360" cy="345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3274920" y="1844640"/>
            <a:ext cx="2592360" cy="4897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6300720" y="1844640"/>
            <a:ext cx="2592360" cy="259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403280" y="18900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ируемые результаты освоения основной 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250920" y="1557360"/>
            <a:ext cx="44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ы осво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учебных предметов, но ВСЕГО КОМПЛЕКСА О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"/>
          <p:cNvSpPr/>
          <p:nvPr/>
        </p:nvSpPr>
        <p:spPr>
          <a:xfrm>
            <a:off x="5724360" y="326376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чностно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5726160" y="44467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5724360" y="563580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 rot="5400000">
            <a:off x="5939280" y="1053000"/>
            <a:ext cx="1081080" cy="309564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900000" y="3141720"/>
            <a:ext cx="31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оцениваются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только фиксиру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"/>
          <p:cNvSpPr/>
          <p:nvPr/>
        </p:nvSpPr>
        <p:spPr>
          <a:xfrm>
            <a:off x="1440000" y="51004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ив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"/>
          <p:cNvSpPr/>
          <p:nvPr/>
        </p:nvSpPr>
        <p:spPr>
          <a:xfrm>
            <a:off x="3780000" y="4581360"/>
            <a:ext cx="1728720" cy="1440000"/>
          </a:xfrm>
          <a:prstGeom prst="leftArrowCallout">
            <a:avLst>
              <a:gd name="adj1" fmla="val 16205"/>
              <a:gd name="adj2" fmla="val 24403"/>
              <a:gd name="adj3" fmla="val 20064"/>
              <a:gd name="adj4" fmla="val 2176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8"/>
          <p:cNvSpPr/>
          <p:nvPr/>
        </p:nvSpPr>
        <p:spPr>
          <a:xfrm>
            <a:off x="4284720" y="3357720"/>
            <a:ext cx="1152360" cy="288720"/>
          </a:xfrm>
          <a:prstGeom prst="leftArrow">
            <a:avLst>
              <a:gd name="adj1" fmla="val 50000"/>
              <a:gd name="adj2" fmla="val 9978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07:25:08Z</dcterms:created>
  <dc:creator>Ивлев СА</dc:creator>
  <dc:description/>
  <dc:language>en-US</dc:language>
  <cp:lastModifiedBy>методист2</cp:lastModifiedBy>
  <dcterms:modified xsi:type="dcterms:W3CDTF">2013-07-04T06:30:45Z</dcterms:modified>
  <cp:revision>76</cp:revision>
  <dc:subject/>
  <dc:title>Слайд 1</dc:title>
</cp:coreProperties>
</file>