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5145088"/>
  <p:notesSz cx="10083800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0083600" cy="69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7"/>
          </p:nvPr>
        </p:nvSpPr>
        <p:spPr>
          <a:xfrm>
            <a:off x="571176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8"/>
          </p:nvPr>
        </p:nvSpPr>
        <p:spPr>
          <a:xfrm>
            <a:off x="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9"/>
          </p:nvPr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B088-87F1-4835-972E-BF07C1D61CB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2C18-46AA-4124-8D55-0FC22F920B8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6C622-F79D-4D1D-91D5-531E4020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A50775-9F12-47B0-B4B0-1A4AAD4B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FDCE4C-F934-40CC-8AA4-3C136A95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56F990-AAF0-42E2-A095-8DDF21E6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CE5395-3CCF-4182-96EA-D148220C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CA07D-9731-42DA-A3CF-0F07B1C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5BED9E-35C6-447F-8A93-FDD05A1C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AD380-BE4B-4E7D-A7C3-802983F0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16F8D8-8072-4ECE-AD2E-B9B15AEC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64B28A-1A1D-4EFE-BF2C-C57E3775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754F04-2825-4EEE-B3C3-791C601A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E39880-6AEC-4109-BDD6-8806A897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02237E-880C-4086-82D8-3362CB49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A0270D-9DF9-4CFE-BB82-2AEE1820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B9DDC9-07C6-4DFD-A489-00485554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CFCCBC-0805-4244-AF15-B5562B6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AEBB4C-0B3B-432E-B7E9-3EF1E8F5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A336B-48B0-4CE4-92E9-039AB01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947FF-E8F0-4C02-9B44-FC0EE6BA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1D7324-3554-4B88-90AC-6EF6F955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A618E2-FB4F-4771-B1D1-F02AD4FF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118B1-4316-47F0-80B3-E3A73164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DB79C-3712-46F1-BEBA-A0F95BC5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9D343-3BB8-4900-9030-E3C005F8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42FA5-1EB5-4CAE-96A2-5746F559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26457-A238-4D8E-9F6E-28A16303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38DE7-13A5-4D92-BFDC-1D715270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E1BFB-4901-4BFB-8580-0383A91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715F1-DC16-4BE6-8554-3C76AB85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01BE-9D42-4053-B1CF-1997FA4B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9C1D1-4F26-44C0-94B5-53DE0BEE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8C00D-B9E7-4844-A870-41E11BE8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CE7DB-1D1B-4479-B1B2-1C076CBE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200D0-E988-4CAA-9C2C-B623391E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22FBC-7BAC-4AF6-AEBD-D21C715B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2D41A-DFD9-4832-BBF7-1983D9C8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2F2A6-2508-40F3-A0CD-7376CAF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0F14D-24C6-4061-87ED-12135927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288FA-17D1-4561-9497-115F3844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D382F-40A2-42ED-A862-122CDC16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5CFE1-25CD-4F6F-A621-DEA7CD00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F07A6-0711-471D-938D-BA2BE59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54203-99A2-49FC-B40A-CD41E576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B1C60-30C2-4350-A6C0-D4142167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11A79-A7A1-4F0F-BA37-1750266E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915F0-9613-499C-BF24-A6D0BC6B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AFDF2-4BB0-406B-82B8-3018BD11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63A14-1773-4C20-A259-5F3A0CF5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0FF20-9D38-4338-820E-8840E711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9B256-EB53-4E6C-9B28-4C9C9BF6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B6CEA-2A92-4E4F-99BB-9271A223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4109E-F569-4982-A06D-31610A3D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A4B42-EDDD-4BA7-818F-F72C605D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92171-850D-4029-8A34-226FB398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79111-CE55-4B4A-B8B5-6F7BE0DE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5EC26-03EC-41A2-AC8C-ABC878ED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D4173-42DE-486A-8D4A-F9757C4B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4E614-895B-45E1-B90B-297D84BB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090AF-BFE7-41CE-A56A-81C50C33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80B71-1AD1-4FF0-AB92-B9F3C84E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E8ADB-1E48-4726-B177-A7CC0888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84C3A-3603-49BB-BBB9-6462A189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6D151-6CA4-4464-8C43-84C827F4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4D0A0-ED60-4D7B-BF30-A00FDF4A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5D8E1-DA5B-4600-B0F7-7B6C4E58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40A60-63AB-4FE7-A674-C0DC940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17AD8-E456-4AAC-8A51-93B05476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B3757-6FFD-4F6C-87A3-59FD6872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68181-BC5C-4190-A23A-CFC4C6B5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0DF35-C8EE-4385-9B53-487CE649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F8B6F-7072-4578-A6F5-62C70979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8FCDC-4DFD-42DA-A8B5-921D5511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9C7F3-51F4-4888-9AF3-D3B46445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43FEA-C93C-4A87-B5B1-48762631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809D4-2084-4124-8D93-F47EB538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9BF43-8DB8-436D-9D16-26FFB007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F3AA9-DFB2-49BD-BEAF-6F91556D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AC91D-4388-4E9D-974D-57EE175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AB4B7-2888-445E-B0B8-C89624D2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42BEA-1552-4AE3-BECD-F64BF55F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1A8E8-4C7E-498B-AB82-2BB1D767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34B97-D2AA-4DD0-BEE8-D752CEC9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70B67-3260-4711-9138-07545599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8B251-2844-40A4-8882-B45D4C5E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25963-0C16-43CE-94D4-C119A924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F4049-77ED-4BF4-B2B5-8F19A84E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B0A7E-9283-4B9E-B339-05AAAF0A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B7868-D9F9-4186-8BF8-AD29392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644C9-999A-43E1-80F1-3C787366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C00A5-81B1-47B5-A843-1D9E906F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990E8-1F7F-4442-B045-6FF7A7A1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824E3-3025-4218-A71F-C6D387F8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D8993-C2BA-4CA9-90EF-023F383C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1D9125-C8F6-4CFB-A34D-61437ECE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2B8E7-F51A-4D23-A10B-0830E424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BCFEE8-D4A3-4E63-A4AA-846E38EC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dt" idx="2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64A2-DAA2-47F7-8622-2CB3FA06810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A07-994C-4ED1-8F0C-28B6DDE5966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844D-6E72-4F99-9AF0-39E14DE205E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B7FA-B0A3-4B99-A469-406761CDF12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A695-7A02-4643-BFDC-5F821D340EC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dt" idx="1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C813-A8CE-4B61-B9AB-1FB2120D449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dt" idx="1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1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CF06-94A5-4DFA-BB75-59447AFA788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dt" idx="2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E589-B329-4700-A5D4-FA9A8C24BE3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Информационная система</a:t>
            </a:r>
            <a:br>
              <a:rPr sz="2800"/>
            </a:b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Электронное образование в Р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79280" y="1347480"/>
            <a:ext cx="896472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Структура сайта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тсутствие информации о статусе </a:t>
            </a:r>
            <a:br>
              <a:rPr sz="3600"/>
            </a:b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в перечне шк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1"/>
          <a:stretch/>
        </p:blipFill>
        <p:spPr>
          <a:xfrm>
            <a:off x="480960" y="914400"/>
            <a:ext cx="8183520" cy="331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96840" y="1662120"/>
            <a:ext cx="8951760" cy="181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 размещении информации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на официальных сайтах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07840"/>
            <a:ext cx="822960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 МОиН Р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3.11.2012 №13723/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ании Правил размещения в сети Интернет и обновления информации об ОУ, утвержденных постановлением Правительства РФ  от 18 апреля 2012 года №3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Информация об учредит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ервый абзац на странице  О шко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именование или фамилия, имя, отчество учредителя образовательного учреждения, его место нахождения, график работы, справочный телефон, адрес сайта в сети интернет, адрес электронной поч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2. Подвершина вершины О школе (гимназии, лице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дирек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рафик работы руководителя образовательного учреждения, справочный телефон, адрес электронной поч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едения об уровне образова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квалификации педагогических работ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Содержимое 10" descr="Анкета педагога.png"/>
          <p:cNvPicPr/>
          <p:nvPr/>
        </p:nvPicPr>
        <p:blipFill>
          <a:blip r:embed="rId1"/>
          <a:stretch/>
        </p:blipFill>
        <p:spPr>
          <a:xfrm>
            <a:off x="3780000" y="1635120"/>
            <a:ext cx="4559040" cy="86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7" name="Содержимое 9" descr="Анкета пед1.png"/>
          <p:cNvPicPr/>
          <p:nvPr/>
        </p:nvPicPr>
        <p:blipFill>
          <a:blip r:embed="rId2"/>
          <a:stretch/>
        </p:blipFill>
        <p:spPr>
          <a:xfrm>
            <a:off x="611280" y="1419120"/>
            <a:ext cx="2892240" cy="339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8" name="Рисунок 11" descr="Анкета пед2.png"/>
          <p:cNvPicPr/>
          <p:nvPr/>
        </p:nvPicPr>
        <p:blipFill>
          <a:blip r:embed="rId3"/>
          <a:stretch/>
        </p:blipFill>
        <p:spPr>
          <a:xfrm>
            <a:off x="5003640" y="2571840"/>
            <a:ext cx="3024360" cy="229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собый статус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457200" y="843120"/>
            <a:ext cx="8229600" cy="3751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229600" cy="4183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000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МИС РТ-Низамиев Ильдар Мунавирович</dc:creator>
  <dc:description/>
  <dc:language>en-US</dc:language>
  <cp:lastModifiedBy>Тамара</cp:lastModifiedBy>
  <dcterms:modified xsi:type="dcterms:W3CDTF">2013-03-22T06:03:12Z</dcterms:modified>
  <cp:revision>630</cp:revision>
  <dc:subject/>
  <dc:title>Презентация PowerPoint</dc:title>
</cp:coreProperties>
</file>