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5145088"/>
  <p:notesSz cx="10083800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0083600" cy="69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dt" idx="27"/>
          </p:nvPr>
        </p:nvSpPr>
        <p:spPr>
          <a:xfrm>
            <a:off x="5711760" y="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7200" rIns="97200" tIns="48600" bIns="48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ftr" idx="28"/>
          </p:nvPr>
        </p:nvSpPr>
        <p:spPr>
          <a:xfrm>
            <a:off x="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 type="sldNum" idx="29"/>
          </p:nvPr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0A80-F598-42D5-8077-16E384B55A09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724120" y="520560"/>
            <a:ext cx="4633920" cy="26085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008000" y="3301920"/>
            <a:ext cx="8066160" cy="31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5711760" y="6602400"/>
            <a:ext cx="43689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E712-0D83-4B05-920C-7C1376AD4205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B665E7-84A7-43FA-B8C3-50CD7996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B5BA9D-E54F-4CE5-9271-8A6A2BC6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D1B266-E4BE-4780-9E21-F465FF09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DEA95-C396-4EA9-A0BC-B6D0B53D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50244-0FEA-4C7C-B3E1-060605D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20F82E-1F3D-40D7-9EAF-737779D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DF4C47-7740-4719-BC1A-D8875495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56B8F2-BBEF-47B1-ABBC-5BE975F3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C7FB84-B6B3-44AD-949B-A95C0BEA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784E10-C895-43D1-A362-ABE5E768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EF4C7A-61BC-4B5D-88A0-E4120F5E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F466EC-7F04-4C60-B507-564DD246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FD6F93-DFE2-43D0-85FA-1FCCA4F7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ABDB77-F142-4875-9326-46C680D1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792B2-38C6-4CF5-8A4F-52DC6847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11720-EB6E-4C1E-9150-460143A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46B46D-E63F-4701-A504-AC970E46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616A56-673D-453F-A891-5D03A172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87E7E-0FF2-4BD7-BDB5-36B283E1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C004B9-D46F-42ED-8950-F46429DC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1279FD-6F91-4527-8ADA-EA0FDBED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AF6D7-3476-4143-B2B4-45FEC0CE3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D8C62-F86E-4F45-B6A2-ECA92B32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C0A81-66C7-4703-8B38-14B0B98F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CB54C-2B8E-48B5-A757-03A03073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02AB8-E028-433E-9728-D315486C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15DB6-0F0E-4467-BD0A-23C0C95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54D91-3F04-4C9F-930C-386AC23E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A0D1A-B2C1-4C78-AAF8-6395F737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53D0A-0A88-4220-8505-08A27C39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4868E-B6E9-4E39-A907-A73C7EE2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241D1-38E7-42CE-93F0-C006615B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3CD74-EFFF-41B7-9192-FDB66AA6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27FFA-F87D-4DC5-A82A-81413852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65AC7-9181-438D-864D-CEBC1DF4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D94F2-9C70-4C63-B922-9013FF20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46149D-629E-4CF7-881D-DFCB9018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B47F9-D262-4A12-B603-F8BD76D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CF527-CFDE-4B3F-918C-F09BC595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C1901-24A1-4B64-83DB-B1ED1443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F605DD-E7FB-432F-9D38-61C5FA4A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71D12-1299-4D7F-9B99-B4591AE7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36528E-A486-49F3-B279-CEE4ED51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D3624-2A52-415C-85B0-16983067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E62AF-93A4-4CE4-A12B-84A3FDBEC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536154-12FF-4A8D-89FA-245F5C24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05004F-1669-4B14-A49E-995C4CAE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0E6B5-FFF9-4F35-9544-BB185BCE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B4043E-EFFE-4ABA-BD55-1F197263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847A2C-3316-43F0-A6B3-A457716D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7BE7FE-75DD-4EA6-ABEB-19E3A799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C1962C-5DB1-49D4-B727-992F6E36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B7F774-F4DC-4914-998F-8A778061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4E8D31-9199-42FF-97CA-AA7DB144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7C0C1-91EC-4B52-97C9-6B88801B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793AB-C15B-4CB1-A67E-D09BF93A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998FC-15D1-4EA2-827F-DE5D35DA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E1DD93-C4AC-4B9E-BA45-23D58005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EFAA98-CDC6-4BA7-9183-9CE3A7D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B68E6C-4BA2-44AB-B708-0405FFC7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6B1CE-B361-4507-80B5-E13EC355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93402-B0A3-4B84-BEB0-53007BE6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CCDF83-7D64-43EF-8EB0-A12D574F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39FEF-C2DF-420C-BA23-F29F7620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2DE6B-604D-4B6F-B656-6021E00C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C6519-5A26-4414-B1AD-2BD03A77A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5B5DEF-1288-45E9-A1B6-0B42345B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181AE0-9FBA-46D9-9E26-8EF90D98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606C57-EDBE-403D-8323-49DA709C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761A7-3CC2-46C1-86C2-CFB32D25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59C8A6-5709-4221-8293-EEA2A470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4F633-A054-4BEB-89CB-553411F8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4EF41E-AF59-4AD6-9271-DF434C66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9E569-52EF-4294-8FC9-D106D61D7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0B8E72-18B6-4220-A074-9F952D8D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9B2D48-5B5F-48BF-9B41-B50E9D69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33F2B-6E6D-4A3D-9B25-1C1CB668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D00CE5-C5C0-4344-81BC-663B24A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4090D5-BC0B-459B-8AB3-35021E08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F5F43-40D8-4B1B-AADB-62D9234D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269617-3C2F-4A21-BA41-38296C00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A1738-CB72-43C1-924A-E7C00A63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F0AB08-9805-48CD-B550-68544606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9971EB-D20C-4809-812B-59B37FFB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CBE23B-BF6B-411E-BB54-FBBF3271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19BBA2-6A6A-4E98-835C-7D7D3AA6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4D07A-F1E3-496A-A98C-7E87C092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B53F8-1A64-484D-87B4-CBB5F086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CC7E38-6D6E-48BC-842D-9F5DD6E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0D833-3EE1-4E0D-B0D1-8B24EFA7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9130A9-2FE7-4491-A7F7-BCB71007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A5BB4-2496-4EF8-8BB8-480BED2B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5EA556-609C-413C-96A8-AAA87476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44262F-7C78-45D1-814E-D132192E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B34255-9592-4A4D-9A75-EF4ED478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152429-B635-43B7-9606-ABC2C7EE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dt" idx="2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ftr" idx="2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2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D0F1-FCD9-47F5-8576-53C8C1F0BD80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40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C2A6-D95B-4BF9-B5B1-67AB27333E3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1696-04C2-4FC8-BF67-8F982CE40D4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EAD7-1266-4DE6-8C2C-43F7D3AFBE8A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AB2-FB09-4984-8C24-76D5F25DE42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dt" idx="1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ftr" idx="1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1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7DB3-9BBD-4581-8E78-77A4285CD55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dt" idx="1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ftr" idx="1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2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B0C4-14DA-41BA-9790-7F7020E5B4C1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5" descr=""/>
          <p:cNvPicPr/>
          <p:nvPr/>
        </p:nvPicPr>
        <p:blipFill>
          <a:blip r:embed="rId2"/>
          <a:srcRect l="0" t="38543" r="0" b="0"/>
          <a:stretch/>
        </p:blipFill>
        <p:spPr>
          <a:xfrm>
            <a:off x="0" y="0"/>
            <a:ext cx="9144000" cy="421488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8"/>
          <p:cNvSpPr/>
          <p:nvPr/>
        </p:nvSpPr>
        <p:spPr>
          <a:xfrm>
            <a:off x="0" y="-4680"/>
            <a:ext cx="9144000" cy="4246560"/>
          </a:xfrm>
          <a:prstGeom prst="rect">
            <a:avLst/>
          </a:prstGeom>
          <a:gradFill rotWithShape="0">
            <a:gsLst>
              <a:gs pos="0">
                <a:srgbClr val="ffffff">
                  <a:alpha val="65098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541520"/>
                <a:tab algn="l" pos="3083040"/>
                <a:tab algn="l" pos="4624560"/>
                <a:tab algn="l" pos="6165720"/>
                <a:tab algn="l" pos="7707240"/>
                <a:tab algn="l" pos="9248760"/>
                <a:tab algn="l" pos="107902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Рисунок 4" descr="Описание: Описание: C:\Users\micadmin\AppData\Local\Microsoft\Windows\Temporary Internet Files\Content.Word\etat1.png"/>
          <p:cNvPicPr/>
          <p:nvPr/>
        </p:nvPicPr>
        <p:blipFill>
          <a:blip r:embed="rId3"/>
          <a:stretch/>
        </p:blipFill>
        <p:spPr>
          <a:xfrm>
            <a:off x="7596360" y="4629240"/>
            <a:ext cx="1368360" cy="2998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dt" idx="2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ftr" idx="2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2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D19B-E017-43FF-8EBF-B62A991CD3A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Информационная система</a:t>
            </a:r>
            <a:br>
              <a:rPr sz="2800"/>
            </a:b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«Электронное образование в Р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79280" y="1347480"/>
            <a:ext cx="896472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Структура сайта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Рекомендации на основании письма МОиН Р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504d"/>
                </a:solidFill>
                <a:latin typeface="Arial"/>
              </a:rPr>
              <a:t>от 13.11.2012 №13723/1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. Сведения, указанные в пункте 3(2) статьи 32 Федерального закона «О некоммерческих организациях» (свидетельство о государственной регистрации государственного (муниципального) учреждения, решение учредителя о создании государственного (муниципального) учреждения, решение учредителя о назначении руководителя государственного (муниципального) учреждения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Структура сайта.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Полезные ссыл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634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1 Наглядная информация о структуре сайта, включающая в себ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2 ссылки на следующие информационно-образователь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ициальный сайт Министерства образования и науки Российской Федерации - http://www.mon.gov.r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деральный портал «Российское образование» - http://www.edu.r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ая система «Единое окно доступа к образовательным ресурсам» - http://window.edu.r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диная коллекция цифровых образовательных ресурсов - http://school-collection.edu.r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едеральный центр информационно-образовательных ресурсов - http://fcior.edu.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772400" cy="12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Реализация п.9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0" y="1492200"/>
            <a:ext cx="9144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1 На сайте ОУ создается вершина 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Структура сай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типом вершины –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арта сай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(с 04.02.2013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2 Полезные ссылки (см. Электронные образовательные ресурс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собый статус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457200" y="843120"/>
            <a:ext cx="8229600" cy="3751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1"/>
          <a:stretch/>
        </p:blipFill>
        <p:spPr>
          <a:xfrm>
            <a:off x="457200" y="411120"/>
            <a:ext cx="8229600" cy="4183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2000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Отсутствие информации о статусе </a:t>
            </a:r>
            <a:br>
              <a:rPr sz="3600"/>
            </a:b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в перечне шк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8" name="Picture 4" descr=""/>
          <p:cNvPicPr/>
          <p:nvPr/>
        </p:nvPicPr>
        <p:blipFill>
          <a:blip r:embed="rId1"/>
          <a:stretch/>
        </p:blipFill>
        <p:spPr>
          <a:xfrm>
            <a:off x="480960" y="914400"/>
            <a:ext cx="8183520" cy="33148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Arial"/>
              </a:rPr>
              <a:t>АДМИНИСТРИРОВАНИЕ САЙ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4" descr=""/>
          <p:cNvPicPr/>
          <p:nvPr/>
        </p:nvPicPr>
        <p:blipFill>
          <a:blip r:embed="rId1"/>
          <a:stretch/>
        </p:blipFill>
        <p:spPr>
          <a:xfrm>
            <a:off x="96840" y="1662120"/>
            <a:ext cx="8951760" cy="18194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О размещении информации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на официальных сайтах О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07840"/>
            <a:ext cx="8229600" cy="28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кумент МОиН Р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13.11.2012 №13723/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сновании Правил размещения в сети Интернет и обновления информации об ОУ, утвержденных постановлением Правительства РФ  от 18 апреля 2012 года №34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Раздел </a:t>
            </a:r>
            <a:br>
              <a:rPr sz="4000"/>
            </a:b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«О школе (гимназии, лицее)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ервый абзац на страниц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Наименование или фамилия, имя, отчество учредителя образовательного учреждения, его место нахождения, график работы, справочный телефон, адрес сайта в сети интернет, адрес электронной поч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директо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График работы руководителя образовательного учреждения, справочный телефон, адрес электронной поч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Копия/копии приложений к документу, подтверждающему наличие лицензии на осуществление образователь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Копия/копии приложений к свидетельству о государственной аккредит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Личный кабинет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Сведения об уровне образования и квалификации педагогических работ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Платные услу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Порядок оказания платных образовательных услуг, в том числе образец договора об оказании платных образовательных услуг, с указанием стоимости платных образовательных услу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Электронные образователь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Сведения об электронных образовательных ресурсах (ЭОР), доступ к которым обеспечивается обучающимся (включая перечень таких электронных образовательных ресурсов), электронном каталоге изданий, содержащихся в фонде библиотеки образовательного учрежд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920" y="19476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Arial"/>
              </a:rPr>
              <a:t>РЕАЛИЗАЦИЯ П.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900000" y="1058760"/>
            <a:ext cx="73296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сайте ОУ создается вершина ЭОР , которая включает в себя 3 вершины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ОР (сведения об электронных образовательных ресурсах (ЭОР), доступ к которым обеспечивается обучающимся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лезные ссылки (ссылки из п.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нный каталог библиотеки (тип вершины ЭФУЛ с 04.02.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МИС РТ-Низамиев Ильдар Мунавирович</dc:creator>
  <dc:description/>
  <dc:language>en-US</dc:language>
  <cp:lastModifiedBy>Тамара</cp:lastModifiedBy>
  <dcterms:modified xsi:type="dcterms:W3CDTF">2013-01-29T08:14:36Z</dcterms:modified>
  <cp:revision>613</cp:revision>
  <dc:subject/>
  <dc:title>Презентация PowerPoint</dc:title>
</cp:coreProperties>
</file>