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media/image12.png" ContentType="image/png"/>
  <Override PartName="/ppt/media/image7.wmf" ContentType="image/x-wmf"/>
  <Override PartName="/ppt/media/image9.png" ContentType="image/png"/>
  <Override PartName="/ppt/media/image13.png" ContentType="image/png"/>
  <Override PartName="/ppt/media/image8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4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2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4.png" ContentType="image/png"/>
  <Override PartName="/ppt/media/image3.jpeg" ContentType="image/jpeg"/>
  <Override PartName="/ppt/media/image15.png" ContentType="image/png"/>
  <Override PartName="/ppt/media/image5.png" ContentType="image/png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notesMasterIdLst>
    <p:notesMasterId r:id="rId7"/>
  </p:notes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notesMaster" Target="notesMasters/notesMaster1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6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 type="dt" idx="16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 type="ftr" idx="17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6"/>
          <p:cNvSpPr>
            <a:spLocks noGrp="1"/>
          </p:cNvSpPr>
          <p:nvPr>
            <p:ph type="sldNum" idx="18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D7C0B6-F783-4C9E-A17E-F6805029246C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331A1D-E166-42E6-BE7D-A32C19E2A1AB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1"/>
          <p:cNvSpPr>
            <a:spLocks noGrp="1"/>
          </p:cNvSpPr>
          <p:nvPr>
            <p:ph type="sldImg"/>
          </p:nvPr>
        </p:nvSpPr>
        <p:spPr>
          <a:xfrm>
            <a:off x="114300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Slide Number Placeholder 3"/>
          <p:cNvSpPr/>
          <p:nvPr/>
        </p:nvSpPr>
        <p:spPr>
          <a:xfrm>
            <a:off x="3884760" y="8686800"/>
            <a:ext cx="2971800" cy="45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5F3F4-130F-41C2-8BD6-FBD0DC2F6E5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1F12D-C599-4912-A6C9-D6BA3FF68C8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  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Ключевой фигурой исполнения Стандарта, с точки зрения достижения планируемых результатов реализации ООП НОО, является </a:t>
            </a:r>
            <a:r>
              <a:rPr b="1" lang="ru-RU" sz="1600" spc="-1" strike="noStrike">
                <a:solidFill>
                  <a:srgbClr val="ff0000"/>
                </a:solidFill>
                <a:latin typeface="Calibri"/>
                <a:ea typeface="SimSun"/>
              </a:rPr>
              <a:t>Учитель</a:t>
            </a:r>
            <a:r>
              <a:rPr b="1" lang="ru-RU" sz="1600" spc="-1" strike="noStrike">
                <a:solidFill>
                  <a:srgbClr val="000000"/>
                </a:solidFill>
                <a:latin typeface="Calibri"/>
                <a:ea typeface="SimSun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Text Box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56B894-A8CA-400F-902B-4CFA92F2F467}" type="slidenum">
              <a:rPr b="0" lang="ru-RU" sz="1200" spc="-1" strike="noStrike">
                <a:solidFill>
                  <a:srgbClr val="000000"/>
                </a:solidFill>
                <a:latin typeface="Arial"/>
                <a:ea typeface="SimSu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00AE1-B9FF-4BF8-A396-D2DF1FE857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FF825-401B-4A02-A02C-1558F8E82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A2342-9024-4690-9AAE-8095A9A077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08CA-DAFA-4A1D-A2A5-561519AB88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E7A8-B5F3-4B5F-8470-1E400DC201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A41A11-41EE-4504-971C-CA3298D45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D051EC-E23E-4D48-9786-7FD8E5358F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8F2649-B12D-4A8A-BD1D-6628B260BA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944AA-046C-4484-8911-7C22534FBE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D6B4B5-83EA-427E-B8BF-AFF587DEAB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F04EB7-993C-4BA8-AF8B-03D0149EC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33CD-27A6-4CC0-ADE7-DA08E3CDB6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E4ADA-8430-43D1-9CEC-9E65FD275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7E4AF-1B3F-49B7-A517-B6B478651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1CF07-F69A-4BD9-BED9-BA8A1C750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DA271D-1432-45C3-80AD-9258700DC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5FEA65-4A23-4660-9BB1-BB24055C12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4A3E54-895B-48A1-A07B-08041A95B1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C4D5436-4CE1-4626-857E-36F473EE4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C9CFA5-DA90-40F4-9B9F-65DB02AF4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80FABAE-E4DC-4F0B-A708-537747AB6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DF0267E-54C5-482D-AB5F-CB4E99982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09E2A-71A0-46EE-A344-7D479A73DC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1348FA-9F6F-402A-A680-A3622059E4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EC64F7-7C5F-4701-8CEC-97AA1B891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24CCFD0-81DB-402D-829D-31A06B7EC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389E625-A581-4AE9-8871-11C3CDA30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A13EFDD-A27F-4878-BED7-C91D45839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5894294-3C01-455A-A7E8-E79C9C99A9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EC7961E-57BA-48DE-BF9C-BFEAD7E92C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6A3C063-31A7-490B-99EB-D371D74654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9A2E63-9C28-41AE-83D2-635A0C2F3F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289485-404F-4EAE-BF66-81B7B5BAC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B646D-7AAB-4372-91C0-8FF285E59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0ED1A5-2566-4116-8AAC-C2C5AA193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B1D50D-0811-415D-80F9-BC511D793A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9CC074-0BDC-428B-BB33-62EDEC5B76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22F3F5-4A27-4F91-93C5-F86A10F44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AF0A9-69C5-4471-94AF-E56974192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E60E12-F9B9-40AF-960D-CD7086EF9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5A821F-9390-4EC5-B784-096D7B5EF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0BE8D32-E37C-46F5-A30F-3F49A17E1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2671AD-18A1-4FF3-A2EA-354CCAD0D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AE249E-FB34-493E-8C3C-0C8BD50A89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B33C6-925D-4C9D-A4C1-3326AD2EF1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4A06D03-EE34-4540-B4F5-402D74D71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BCEF966-7359-4C1E-A268-5A559668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A26E8-083D-4EDC-9D36-8669282F4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0247A4-3E10-4F75-BB19-5042E322C2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9A87CB-9C8B-4957-9871-32796314E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9F6130-8505-4C62-861C-243AB61FA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66D813-F593-4D35-883C-6E99C7B1E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BBF929-B217-4B6D-BCEA-C886FD33E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83F7459-4A02-4173-951F-93C5670AF8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156173-FCE3-4A76-8FF4-9263B093E7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EA37-4AD4-4205-90A4-63DFACB127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752F5F-A802-4D9E-ABBA-A4329A1FE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5CD-F4C6-47BC-8B5E-C13632B3B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998F7-7FF2-440A-98F4-36F2A7929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4ECA0-2B5B-47E8-83D2-22783751C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C2E803-4E9D-4A78-96A9-6A395D26FC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42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3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44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6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47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8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49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0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1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54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55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58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59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2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63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6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67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0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B752C-DF09-4E58-B631-104D90DBF3D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dt" idx="7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38D1B-468B-4B40-BA6B-96F72A25D860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7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128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129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34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9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75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176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177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8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9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0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1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2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3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4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0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91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2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95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7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8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99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0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1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2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203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4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207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10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F2A972-4512-40E8-9EFB-E91B9615F8D6}" type="slidenum">
              <a:rPr b="0" lang="ru-RU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8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259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260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1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e8b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2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a7d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3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64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d86"/>
                  </a:gs>
                  <a:gs pos="100000">
                    <a:srgbClr val="003399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65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2b82"/>
                </a:gs>
                <a:gs pos="100000">
                  <a:srgbClr val="0033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 type="dt" idx="13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 type="ftr" idx="14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5"/>
          <p:cNvSpPr>
            <a:spLocks noGrp="1"/>
          </p:cNvSpPr>
          <p:nvPr>
            <p:ph type="sldNum" idx="15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C78F3-4E15-4CF7-AC1B-5365D99F6218}" type="slidenum"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jpeg"/><Relationship Id="rId6" Type="http://schemas.openxmlformats.org/officeDocument/2006/relationships/image" Target="../media/image3.jpeg"/><Relationship Id="rId7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8.png"/><Relationship Id="rId14" Type="http://schemas.openxmlformats.org/officeDocument/2006/relationships/image" Target="../media/image19.png"/><Relationship Id="rId15" Type="http://schemas.openxmlformats.org/officeDocument/2006/relationships/image" Target="../media/image20.png"/><Relationship Id="rId16" Type="http://schemas.openxmlformats.org/officeDocument/2006/relationships/image" Target="../media/image21.png"/><Relationship Id="rId1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33ff"/>
            </a:gs>
            <a:gs pos="100000">
              <a:srgbClr val="f5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WordArt 4"/>
          <p:cNvSpPr txBox="1"/>
          <p:nvPr/>
        </p:nvSpPr>
        <p:spPr>
          <a:xfrm>
            <a:off x="1619280" y="2205000"/>
            <a:ext cx="6842160" cy="2156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Inflate">
              <a:avLst>
                <a:gd name="adj" fmla="val 1365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6600cc"/>
                  </a:solidFill>
                  <a:miter/>
                </a:ln>
                <a:blipFill rotWithShape="0">
                  <a:blip r:embed="rId3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в школе</a:t>
            </a:r>
            <a:endParaRPr b="0" lang="en-US" sz="1800" spc="1" strike="noStrike">
              <a:ln w="9360">
                <a:solidFill>
                  <a:srgbClr val="6600cc"/>
                </a:solidFill>
                <a:miter/>
              </a:ln>
              <a:blipFill rotWithShape="0">
                <a:blip r:embed="rId4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16" name="AutoShape 5"/>
          <p:cNvSpPr/>
          <p:nvPr/>
        </p:nvSpPr>
        <p:spPr>
          <a:xfrm>
            <a:off x="324000" y="4941720"/>
            <a:ext cx="1979640" cy="1629000"/>
          </a:xfrm>
          <a:prstGeom prst="roundRect">
            <a:avLst>
              <a:gd name="adj" fmla="val 16667"/>
            </a:avLst>
          </a:prstGeom>
          <a:blipFill rotWithShape="0">
            <a:blip r:embed="rId5"/>
            <a:srcRect/>
            <a:stretch/>
          </a:blipFill>
          <a:ln w="63360">
            <a:solidFill>
              <a:srgbClr val="00ff00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AutoShape 6"/>
          <p:cNvSpPr/>
          <p:nvPr/>
        </p:nvSpPr>
        <p:spPr>
          <a:xfrm>
            <a:off x="6516720" y="260280"/>
            <a:ext cx="2340000" cy="1727280"/>
          </a:xfrm>
          <a:prstGeom prst="roundRect">
            <a:avLst>
              <a:gd name="adj" fmla="val 16667"/>
            </a:avLst>
          </a:prstGeom>
          <a:blipFill rotWithShape="0">
            <a:blip r:embed="rId6"/>
            <a:srcRect/>
            <a:stretch/>
          </a:blipFill>
          <a:ln w="38160">
            <a:solidFill>
              <a:srgbClr val="ffffff"/>
            </a:solidFill>
            <a:miter/>
          </a:ln>
          <a:effectLst>
            <a:outerShdw dist="17819" dir="2700000" blurRad="0" rotWithShape="0">
              <a:srgbClr val="006666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AutoShape 10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edfad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ccff"/>
            </a:gs>
            <a:gs pos="100000">
              <a:srgbClr val="f1fa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WordArt 2"/>
          <p:cNvSpPr txBox="1"/>
          <p:nvPr/>
        </p:nvSpPr>
        <p:spPr>
          <a:xfrm>
            <a:off x="1332000" y="260280"/>
            <a:ext cx="698508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3366ff"/>
                    </a:gs>
                    <a:gs pos="100000">
                      <a:srgbClr val="ff3399"/>
                    </a:gs>
                  </a:gsLst>
                  <a:lin ang="2700000"/>
                </a:gra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Современный уро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3366ff"/>
                  </a:gs>
                  <a:gs pos="100000">
                    <a:srgbClr val="ff3399"/>
                  </a:gs>
                </a:gsLst>
                <a:lin ang="2700000"/>
              </a:gra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21" name="AutoShape 4"/>
          <p:cNvSpPr/>
          <p:nvPr/>
        </p:nvSpPr>
        <p:spPr>
          <a:xfrm>
            <a:off x="468360" y="1557360"/>
            <a:ext cx="8280360" cy="1224000"/>
          </a:xfrm>
          <a:prstGeom prst="roundRect">
            <a:avLst>
              <a:gd name="adj" fmla="val 35278"/>
            </a:avLst>
          </a:prstGeom>
          <a:gradFill rotWithShape="0">
            <a:gsLst>
              <a:gs pos="0">
                <a:srgbClr val="33cc33"/>
              </a:gs>
              <a:gs pos="50000">
                <a:srgbClr val="c1f0c1"/>
              </a:gs>
              <a:gs pos="100000">
                <a:srgbClr val="33cc33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, актуальный для настоящего време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AutoShape 5"/>
          <p:cNvSpPr/>
          <p:nvPr/>
        </p:nvSpPr>
        <p:spPr>
          <a:xfrm>
            <a:off x="395280" y="3429000"/>
            <a:ext cx="8424720" cy="2168640"/>
          </a:xfrm>
          <a:prstGeom prst="roundRect">
            <a:avLst>
              <a:gd name="adj" fmla="val 30162"/>
            </a:avLst>
          </a:prstGeom>
          <a:gradFill rotWithShape="0">
            <a:gsLst>
              <a:gs pos="0">
                <a:srgbClr val="ffff66"/>
              </a:gs>
              <a:gs pos="50000">
                <a:srgbClr val="ffffd1"/>
              </a:gs>
              <a:gs pos="100000">
                <a:srgbClr val="ffff66"/>
              </a:gs>
            </a:gsLst>
            <a:lin ang="5400000"/>
          </a:gra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Современный урок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– урок действенный, имеющий непосредственное отношение к интересам личности ребенка, его родителей, общества, государ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AutoShape 6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AutoShape 7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" dur="2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99ff"/>
            </a:gs>
            <a:gs pos="100000">
              <a:srgbClr val="ffff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Oval 2"/>
          <p:cNvSpPr/>
          <p:nvPr/>
        </p:nvSpPr>
        <p:spPr>
          <a:xfrm>
            <a:off x="2482920" y="189000"/>
            <a:ext cx="3565440" cy="17287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Модел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333399"/>
                </a:solidFill>
                <a:latin typeface="Times New Roman"/>
              </a:rPr>
              <a:t>образова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Oval 3"/>
          <p:cNvSpPr/>
          <p:nvPr/>
        </p:nvSpPr>
        <p:spPr>
          <a:xfrm>
            <a:off x="755640" y="2276640"/>
            <a:ext cx="2879640" cy="792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99"/>
                </a:solidFill>
                <a:latin typeface="Times New Roman"/>
              </a:rPr>
              <a:t>«традиционная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Oval 4"/>
          <p:cNvSpPr/>
          <p:nvPr/>
        </p:nvSpPr>
        <p:spPr>
          <a:xfrm>
            <a:off x="6445080" y="3429000"/>
            <a:ext cx="259092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деятельностн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Oval 7"/>
          <p:cNvSpPr/>
          <p:nvPr/>
        </p:nvSpPr>
        <p:spPr>
          <a:xfrm>
            <a:off x="3490920" y="3429000"/>
            <a:ext cx="2411280" cy="6476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0000"/>
                </a:solidFill>
                <a:latin typeface="Times New Roman"/>
              </a:rPr>
              <a:t>развивающ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WordArt 8"/>
          <p:cNvSpPr txBox="1"/>
          <p:nvPr/>
        </p:nvSpPr>
        <p:spPr>
          <a:xfrm>
            <a:off x="2676600" y="4221000"/>
            <a:ext cx="3840120" cy="216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Down">
              <a:avLst>
                <a:gd name="adj" fmla="val 3333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Times New Roman"/>
              </a:rPr>
              <a:t>компоненты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Times New Roman"/>
              <a:ea typeface="Times New Roman"/>
            </a:endParaRPr>
          </a:p>
        </p:txBody>
      </p:sp>
      <p:sp>
        <p:nvSpPr>
          <p:cNvPr id="331" name="Rectangle 17"/>
          <p:cNvSpPr/>
          <p:nvPr/>
        </p:nvSpPr>
        <p:spPr>
          <a:xfrm>
            <a:off x="539640" y="4654080"/>
            <a:ext cx="3167280" cy="170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триединая цель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лан-конспект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преобладающая фронтальная форма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методы и приемы обучения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и другие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Rectangle 19"/>
          <p:cNvSpPr/>
          <p:nvPr/>
        </p:nvSpPr>
        <p:spPr>
          <a:xfrm>
            <a:off x="4140360" y="4655880"/>
            <a:ext cx="41036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ориентация на развитие личности,  ключевые и базовые компетентности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актический опыт ребен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проектирование урока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228600" algn="ctr">
              <a:lnSpc>
                <a:spcPct val="100000"/>
              </a:lnSpc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разнообразные формы обучен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0000"/>
                </a:solidFill>
                <a:latin typeface="Times New Roman"/>
              </a:rPr>
              <a:t>- типы уроков от характера деятельност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Oval 21"/>
          <p:cNvSpPr/>
          <p:nvPr/>
        </p:nvSpPr>
        <p:spPr>
          <a:xfrm>
            <a:off x="4788000" y="2276640"/>
            <a:ext cx="2808360" cy="691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нновационна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4" name="AutoShape 26"/>
          <p:cNvCxnSpPr>
            <a:stCxn id="326" idx="4"/>
            <a:endCxn id="327" idx="0"/>
          </p:cNvCxnSpPr>
          <p:nvPr/>
        </p:nvCxnSpPr>
        <p:spPr>
          <a:xfrm flipH="1">
            <a:off x="2195280" y="1917360"/>
            <a:ext cx="207072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5" name="AutoShape 27"/>
          <p:cNvCxnSpPr>
            <a:stCxn id="326" idx="4"/>
            <a:endCxn id="333" idx="0"/>
          </p:cNvCxnSpPr>
          <p:nvPr/>
        </p:nvCxnSpPr>
        <p:spPr>
          <a:xfrm>
            <a:off x="4265280" y="1917360"/>
            <a:ext cx="1927800" cy="35964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6" name="AutoShape 28"/>
          <p:cNvCxnSpPr>
            <a:stCxn id="333" idx="4"/>
            <a:endCxn id="329" idx="0"/>
          </p:cNvCxnSpPr>
          <p:nvPr/>
        </p:nvCxnSpPr>
        <p:spPr>
          <a:xfrm flipH="1">
            <a:off x="4696920" y="2968200"/>
            <a:ext cx="149616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7" name="AutoShape 29"/>
          <p:cNvCxnSpPr>
            <a:stCxn id="333" idx="4"/>
            <a:endCxn id="328" idx="0"/>
          </p:cNvCxnSpPr>
          <p:nvPr/>
        </p:nvCxnSpPr>
        <p:spPr>
          <a:xfrm>
            <a:off x="6192720" y="2968200"/>
            <a:ext cx="1548720" cy="461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8" name="AutoShape 31"/>
          <p:cNvCxnSpPr>
            <a:stCxn id="327" idx="4"/>
            <a:endCxn id="331" idx="0"/>
          </p:cNvCxnSpPr>
          <p:nvPr/>
        </p:nvCxnSpPr>
        <p:spPr>
          <a:xfrm flipH="1">
            <a:off x="2123280" y="3068280"/>
            <a:ext cx="72360" cy="158508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cxnSp>
        <p:nvCxnSpPr>
          <p:cNvPr id="339" name="AutoShape 32"/>
          <p:cNvCxnSpPr>
            <a:stCxn id="333" idx="4"/>
            <a:endCxn id="332" idx="0"/>
          </p:cNvCxnSpPr>
          <p:nvPr/>
        </p:nvCxnSpPr>
        <p:spPr>
          <a:xfrm>
            <a:off x="6192360" y="2968200"/>
            <a:ext cx="1080" cy="1685160"/>
          </a:xfrm>
          <a:prstGeom prst="straightConnector1">
            <a:avLst/>
          </a:prstGeom>
          <a:ln w="50760">
            <a:solidFill>
              <a:srgbClr val="3333cc"/>
            </a:solidFill>
            <a:miter/>
            <a:tailEnd len="med" type="triangle" w="med"/>
          </a:ln>
        </p:spPr>
      </p:cxnSp>
      <p:sp>
        <p:nvSpPr>
          <p:cNvPr id="340" name="Text Box 33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AutoShape 34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AutoShape 35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nodeType="clickEffect" fill="hold">
                      <p:stCondLst>
                        <p:cond delay="0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28" dur="10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6" dur="10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9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9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7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AutoShape 2"/>
          <p:cNvSpPr/>
          <p:nvPr/>
        </p:nvSpPr>
        <p:spPr>
          <a:xfrm>
            <a:off x="324000" y="1413000"/>
            <a:ext cx="3240000" cy="1295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Личностно ориентированный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ндивидуа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характ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AutoShape 3"/>
          <p:cNvSpPr/>
          <p:nvPr/>
        </p:nvSpPr>
        <p:spPr>
          <a:xfrm>
            <a:off x="5580000" y="1484280"/>
            <a:ext cx="3384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7647"/>
              </a:gs>
              <a:gs pos="50000">
                <a:srgbClr val="ffff99"/>
              </a:gs>
              <a:gs pos="100000">
                <a:srgbClr val="767647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оздание условий для формирования компетенций ребен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AutoShape 4"/>
          <p:cNvSpPr/>
          <p:nvPr/>
        </p:nvSpPr>
        <p:spPr>
          <a:xfrm>
            <a:off x="250920" y="2997360"/>
            <a:ext cx="2449440" cy="158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76"/>
              </a:gs>
              <a:gs pos="50000">
                <a:srgbClr val="ffccff"/>
              </a:gs>
              <a:gs pos="100000">
                <a:srgbClr val="76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лавное –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амостоятельная работ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чащихся, а не 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AutoShape 5"/>
          <p:cNvSpPr/>
          <p:nvPr/>
        </p:nvSpPr>
        <p:spPr>
          <a:xfrm>
            <a:off x="6372360" y="3141720"/>
            <a:ext cx="2520720" cy="1224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765e"/>
              </a:gs>
              <a:gs pos="50000">
                <a:srgbClr val="99ffcc"/>
              </a:gs>
              <a:gs pos="100000">
                <a:srgbClr val="47765e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использовани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бразовательных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ехнологи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Text Box 6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WordArt 9"/>
          <p:cNvSpPr txBox="1"/>
          <p:nvPr/>
        </p:nvSpPr>
        <p:spPr>
          <a:xfrm>
            <a:off x="250920" y="260280"/>
            <a:ext cx="8624880" cy="787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Характеристика современного урока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351" name="AutoShape 10"/>
          <p:cNvSpPr/>
          <p:nvPr/>
        </p:nvSpPr>
        <p:spPr>
          <a:xfrm>
            <a:off x="179280" y="4869000"/>
            <a:ext cx="4105440" cy="1728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765e2f"/>
              </a:gs>
              <a:gs pos="50000">
                <a:srgbClr val="ffcc66"/>
              </a:gs>
              <a:gs pos="100000">
                <a:srgbClr val="765e2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Четыре компонента содержа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мения, Навы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Творческая деятельн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Эмоционально-ценностный опыт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AutoShape 11"/>
          <p:cNvSpPr/>
          <p:nvPr/>
        </p:nvSpPr>
        <p:spPr>
          <a:xfrm>
            <a:off x="5508720" y="4869000"/>
            <a:ext cx="3384360" cy="1439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475e76"/>
              </a:gs>
              <a:gs pos="50000">
                <a:srgbClr val="99ccff"/>
              </a:gs>
              <a:gs pos="100000">
                <a:srgbClr val="475e7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актический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еятельност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характер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AutoShape 12"/>
          <p:cNvSpPr/>
          <p:nvPr/>
        </p:nvSpPr>
        <p:spPr>
          <a:xfrm>
            <a:off x="2557440" y="2133720"/>
            <a:ext cx="3959280" cy="3311280"/>
          </a:xfrm>
          <a:prstGeom prst="sun">
            <a:avLst>
              <a:gd name="adj" fmla="val 250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Ур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0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2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46882"/>
            </a:gs>
            <a:gs pos="50000">
              <a:srgbClr val="66ccff"/>
            </a:gs>
            <a:gs pos="100000">
              <a:srgbClr val="346882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Arial"/>
              </a:rPr>
              <a:t>Учащийся на современном уро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250920" y="1160280"/>
            <a:ext cx="8229600" cy="518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AutoShape 4"/>
          <p:cNvSpPr/>
          <p:nvPr/>
        </p:nvSpPr>
        <p:spPr>
          <a:xfrm>
            <a:off x="179280" y="98100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ff"/>
              </a:gs>
              <a:gs pos="50000">
                <a:srgbClr val="e7ffff"/>
              </a:gs>
              <a:gs pos="100000">
                <a:srgbClr val="66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Цель - </a:t>
            </a:r>
            <a:r>
              <a:rPr b="1" lang="ru-RU" sz="2800" spc="-1" strike="noStrike">
                <a:solidFill>
                  <a:srgbClr val="000000"/>
                </a:solidFill>
                <a:latin typeface="Times New Roman"/>
              </a:rPr>
              <a:t>г</a:t>
            </a:r>
            <a:r>
              <a:rPr b="1" lang="ru-RU" sz="2800" spc="-1" strike="noStrike">
                <a:solidFill>
                  <a:srgbClr val="cc0000"/>
                </a:solidFill>
                <a:latin typeface="Times New Roman"/>
              </a:rPr>
              <a:t>отовность к саморазвити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AutoShape 5"/>
          <p:cNvSpPr/>
          <p:nvPr/>
        </p:nvSpPr>
        <p:spPr>
          <a:xfrm>
            <a:off x="179280" y="1738440"/>
            <a:ext cx="8605800" cy="6109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66"/>
              </a:gs>
              <a:gs pos="50000">
                <a:srgbClr val="fffff1"/>
              </a:gs>
              <a:gs pos="100000">
                <a:srgbClr val="ff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1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делать выбор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адекватный своим способностя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AutoShape 6"/>
          <p:cNvSpPr/>
          <p:nvPr/>
        </p:nvSpPr>
        <p:spPr>
          <a:xfrm>
            <a:off x="179280" y="2494080"/>
            <a:ext cx="8569440" cy="647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ff"/>
              </a:gs>
              <a:gs pos="50000">
                <a:srgbClr val="fff2ff"/>
              </a:gs>
              <a:gs pos="100000">
                <a:srgbClr val="ff99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2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тавить перед собой цел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принимать реш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utoShape 7"/>
          <p:cNvSpPr/>
          <p:nvPr/>
        </p:nvSpPr>
        <p:spPr>
          <a:xfrm>
            <a:off x="179280" y="3286080"/>
            <a:ext cx="8569440" cy="649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ff66"/>
              </a:gs>
              <a:gs pos="50000">
                <a:srgbClr val="ecffec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3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амостоятельно находить выход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в нестандартной ситуаци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Text Box 8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utoShape 11"/>
          <p:cNvSpPr/>
          <p:nvPr/>
        </p:nvSpPr>
        <p:spPr>
          <a:xfrm>
            <a:off x="179280" y="407844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66ccff"/>
              </a:gs>
              <a:gs pos="50000">
                <a:srgbClr val="ecf9ff"/>
              </a:gs>
              <a:gs pos="100000">
                <a:srgbClr val="66cc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4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проконтролировать себ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свои собственные действ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AutoShape 12"/>
          <p:cNvSpPr/>
          <p:nvPr/>
        </p:nvSpPr>
        <p:spPr>
          <a:xfrm>
            <a:off x="179280" y="4870440"/>
            <a:ext cx="8569440" cy="719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cc00"/>
              </a:gs>
              <a:gs pos="50000">
                <a:srgbClr val="fffae7"/>
              </a:gs>
              <a:gs pos="100000">
                <a:srgbClr val="ffcc00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5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адекватно оценить свои действ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, выявить и скорректировать возникшие затрудн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AutoShape 13"/>
          <p:cNvSpPr/>
          <p:nvPr/>
        </p:nvSpPr>
        <p:spPr>
          <a:xfrm>
            <a:off x="179280" y="5734080"/>
            <a:ext cx="8569440" cy="6490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9999"/>
              </a:gs>
              <a:gs pos="50000">
                <a:srgbClr val="fff2f2"/>
              </a:gs>
              <a:gs pos="100000">
                <a:srgbClr val="ff999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6) Умение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согласовывать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свою позицию с другими людьми, </a:t>
            </a:r>
            <a:r>
              <a:rPr b="1" lang="ru-RU" sz="2000" spc="-1" strike="noStrike">
                <a:solidFill>
                  <a:srgbClr val="cc0000"/>
                </a:solidFill>
                <a:latin typeface="Times New Roman"/>
              </a:rPr>
              <a:t>общатьс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AutoShape 9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AutoShape 10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nodeType="clickEffect" fill="hold">
                      <p:stCondLst>
                        <p:cond delay="0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3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0" nodeType="clickEffect" fill="hold">
                      <p:stCondLst>
                        <p:cond delay="indefinite"/>
                      </p:stCondLst>
                      <p:childTnLst>
                        <p:par>
                          <p:cTn id="1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4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Номер слайда 3"/>
          <p:cNvSpPr/>
          <p:nvPr/>
        </p:nvSpPr>
        <p:spPr>
          <a:xfrm>
            <a:off x="8229600" y="6477120"/>
            <a:ext cx="7621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C8BD6-B855-4D91-B3F1-A0F23017867C}" type="slidenum">
              <a:rPr b="0" lang="ru-RU" sz="1200" spc="-1" strike="noStrike">
                <a:solidFill>
                  <a:srgbClr val="a4c5c8"/>
                </a:solidFill>
                <a:latin typeface="Bookman Old Style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72880" indent="-272880">
              <a:spcBef>
                <a:spcPts val="799"/>
              </a:spcBef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AutoShape 5"/>
          <p:cNvSpPr/>
          <p:nvPr/>
        </p:nvSpPr>
        <p:spPr>
          <a:xfrm>
            <a:off x="179280" y="1341360"/>
            <a:ext cx="266400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ИЧНОС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AutoShape 6"/>
          <p:cNvSpPr/>
          <p:nvPr/>
        </p:nvSpPr>
        <p:spPr>
          <a:xfrm>
            <a:off x="3205080" y="1341360"/>
            <a:ext cx="251928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МЕТА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AutoShape 7"/>
          <p:cNvSpPr/>
          <p:nvPr/>
        </p:nvSpPr>
        <p:spPr>
          <a:xfrm>
            <a:off x="6194520" y="1341360"/>
            <a:ext cx="2698560" cy="68436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ЕДМЕТНЫ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AutoShape 8"/>
          <p:cNvSpPr/>
          <p:nvPr/>
        </p:nvSpPr>
        <p:spPr>
          <a:xfrm>
            <a:off x="179280" y="2276640"/>
            <a:ext cx="2664000" cy="108108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амоопределе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нутренняя позиция школьника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идентифика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уважение и самооцен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AutoShape 9"/>
          <p:cNvSpPr/>
          <p:nvPr/>
        </p:nvSpPr>
        <p:spPr>
          <a:xfrm>
            <a:off x="179280" y="3573360"/>
            <a:ext cx="2664000" cy="100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Смыслообразовани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тивация (учеб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циальная); границы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обственно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знания и «незнан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AutoShape 10"/>
          <p:cNvSpPr/>
          <p:nvPr/>
        </p:nvSpPr>
        <p:spPr>
          <a:xfrm>
            <a:off x="179280" y="4797360"/>
            <a:ext cx="2664000" cy="1871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Ценностная и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морально-этическа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ориентац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риентация на выполн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морально-нравственных норм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пособность к решению мораль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роблем на основе децентраци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ценка своих поступков</a:t>
            </a:r>
            <a:r>
              <a:rPr b="1" lang="ru-RU" sz="10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AutoShape 11"/>
          <p:cNvSpPr/>
          <p:nvPr/>
        </p:nvSpPr>
        <p:spPr>
          <a:xfrm>
            <a:off x="3203640" y="2276640"/>
            <a:ext cx="2663640" cy="1296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Регуля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правление своей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деятельностью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контроль и коррекц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нициативность 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амостоя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AutoShape 12"/>
          <p:cNvSpPr/>
          <p:nvPr/>
        </p:nvSpPr>
        <p:spPr>
          <a:xfrm>
            <a:off x="3203640" y="3716280"/>
            <a:ext cx="2663640" cy="86364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Коммуникатив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ечевая деятельность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навыки сотрудничеств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AutoShape 13"/>
          <p:cNvSpPr/>
          <p:nvPr/>
        </p:nvSpPr>
        <p:spPr>
          <a:xfrm>
            <a:off x="3130560" y="4724280"/>
            <a:ext cx="2809800" cy="21337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00000"/>
                </a:solidFill>
                <a:uFillTx/>
                <a:latin typeface="Arial"/>
              </a:rPr>
              <a:t>Познавательные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информацией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работа с учебными моделями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использование знако-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символических средст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щих схем решения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выполнение логически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пераций сравнения,  анализ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обобщения, классификации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Установления аналог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Arial"/>
              </a:rPr>
              <a:t>подведения под понят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AutoShape 13"/>
          <p:cNvSpPr/>
          <p:nvPr/>
        </p:nvSpPr>
        <p:spPr>
          <a:xfrm>
            <a:off x="6516720" y="2276640"/>
            <a:ext cx="2143080" cy="78552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сновы систем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научных зн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AutoShape 16"/>
          <p:cNvSpPr/>
          <p:nvPr/>
        </p:nvSpPr>
        <p:spPr>
          <a:xfrm>
            <a:off x="6516720" y="3714840"/>
            <a:ext cx="2143080" cy="1369800"/>
          </a:xfrm>
          <a:prstGeom prst="roundRect">
            <a:avLst>
              <a:gd name="adj" fmla="val 16667"/>
            </a:avLst>
          </a:prstGeom>
          <a:noFill/>
          <a:ln w="3168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Опыт «предметной»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деятельности по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олучению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образова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и применению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нового знания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Text Box 37"/>
          <p:cNvSpPr/>
          <p:nvPr/>
        </p:nvSpPr>
        <p:spPr>
          <a:xfrm>
            <a:off x="6535800" y="5786280"/>
            <a:ext cx="21240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Предметные и метапредметные действия с учебным материалом</a:t>
            </a:r>
            <a:r>
              <a:rPr b="1" lang="ru-RU" sz="1400" spc="-1" strike="noStrike">
                <a:solidFill>
                  <a:srgbClr val="80808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AutoShape 36"/>
          <p:cNvSpPr/>
          <p:nvPr/>
        </p:nvSpPr>
        <p:spPr>
          <a:xfrm>
            <a:off x="6588000" y="5786280"/>
            <a:ext cx="2071800" cy="1071720"/>
          </a:xfrm>
          <a:prstGeom prst="roundRect">
            <a:avLst>
              <a:gd name="adj" fmla="val 16667"/>
            </a:avLst>
          </a:pr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AutoShape 27"/>
          <p:cNvSpPr/>
          <p:nvPr/>
        </p:nvSpPr>
        <p:spPr>
          <a:xfrm rot="5400000">
            <a:off x="7200000" y="3104280"/>
            <a:ext cx="647640" cy="576000"/>
          </a:xfrm>
          <a:custGeom>
            <a:avLst/>
            <a:gdLst>
              <a:gd name="textAreaLeft" fmla="*/ 101160 w 647640"/>
              <a:gd name="textAreaRight" fmla="*/ 567000 w 647640"/>
              <a:gd name="textAreaTop" fmla="*/ 144000 h 576000"/>
              <a:gd name="textAreaBottom" fmla="*/ 432000 h 576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AutoShape 27"/>
          <p:cNvSpPr/>
          <p:nvPr/>
        </p:nvSpPr>
        <p:spPr>
          <a:xfrm rot="5400000">
            <a:off x="7273440" y="5119560"/>
            <a:ext cx="646200" cy="576360"/>
          </a:xfrm>
          <a:custGeom>
            <a:avLst/>
            <a:gdLst>
              <a:gd name="textAreaLeft" fmla="*/ 100800 w 646200"/>
              <a:gd name="textAreaRight" fmla="*/ 565560 w 646200"/>
              <a:gd name="textAreaTop" fmla="*/ 144000 h 576360"/>
              <a:gd name="textAreaBottom" fmla="*/ 432360 h 57636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noFill/>
          <a:ln w="28440">
            <a:solidFill>
              <a:srgbClr val="0000cc"/>
            </a:solidFill>
            <a:miter/>
          </a:ln>
          <a:effectLst>
            <a:outerShdw dist="17819" dir="2700000" blurRad="0" rotWithShape="0">
              <a:srgbClr val="00007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3" name="TextBox 24" descr=""/>
          <p:cNvPicPr/>
          <p:nvPr/>
        </p:nvPicPr>
        <p:blipFill>
          <a:blip r:embed="rId1"/>
          <a:stretch/>
        </p:blipFill>
        <p:spPr>
          <a:xfrm>
            <a:off x="146160" y="92160"/>
            <a:ext cx="8851680" cy="117612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3399"/>
            </a:gs>
            <a:gs pos="100000">
              <a:srgbClr val="96abd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4" name="Object 2"/>
          <p:cNvGraphicFramePr/>
          <p:nvPr/>
        </p:nvGraphicFramePr>
        <p:xfrm>
          <a:off x="179280" y="2246400"/>
          <a:ext cx="8622000" cy="4611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3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9280" y="2246400"/>
                    <a:ext cx="8622000" cy="461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6" name="Line 3"/>
          <p:cNvSpPr/>
          <p:nvPr/>
        </p:nvSpPr>
        <p:spPr>
          <a:xfrm flipV="1">
            <a:off x="539640" y="1844280"/>
            <a:ext cx="8604360" cy="4321080"/>
          </a:xfrm>
          <a:prstGeom prst="line">
            <a:avLst/>
          </a:prstGeom>
          <a:ln w="7632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87" name="Picture 4" descr="japan"/>
          <p:cNvPicPr/>
          <p:nvPr/>
        </p:nvPicPr>
        <p:blipFill>
          <a:blip r:embed="rId3"/>
          <a:stretch/>
        </p:blipFill>
        <p:spPr>
          <a:xfrm>
            <a:off x="7451640" y="2349360"/>
            <a:ext cx="971640" cy="650880"/>
          </a:xfrm>
          <a:prstGeom prst="rect">
            <a:avLst/>
          </a:prstGeom>
          <a:ln w="0">
            <a:noFill/>
          </a:ln>
        </p:spPr>
      </p:pic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Результаты стран, участвовавших в исследованиях </a:t>
            </a:r>
            <a:br>
              <a:rPr sz="3600"/>
            </a:br>
            <a:r>
              <a:rPr b="1" lang="fi-FI" sz="3600" spc="-1" strike="noStrike">
                <a:solidFill>
                  <a:srgbClr val="e5e5ff"/>
                </a:solidFill>
                <a:latin typeface="Garamond"/>
              </a:rPr>
              <a:t>PISA  </a:t>
            </a:r>
            <a:endParaRPr b="1" lang="en-US" sz="3600" spc="-1" strike="noStrike">
              <a:solidFill>
                <a:srgbClr val="e5e5ff"/>
              </a:solidFill>
              <a:latin typeface="Garamond"/>
            </a:endParaRPr>
          </a:p>
        </p:txBody>
      </p:sp>
      <p:pic>
        <p:nvPicPr>
          <p:cNvPr id="389" name="Picture 6" descr="canada"/>
          <p:cNvPicPr/>
          <p:nvPr/>
        </p:nvPicPr>
        <p:blipFill>
          <a:blip r:embed="rId4"/>
          <a:stretch/>
        </p:blipFill>
        <p:spPr>
          <a:xfrm>
            <a:off x="5651640" y="2997360"/>
            <a:ext cx="900000" cy="506160"/>
          </a:xfrm>
          <a:prstGeom prst="rect">
            <a:avLst/>
          </a:prstGeom>
          <a:ln w="0">
            <a:noFill/>
          </a:ln>
        </p:spPr>
      </p:pic>
      <p:pic>
        <p:nvPicPr>
          <p:cNvPr id="390" name="Picture 7" descr="finland"/>
          <p:cNvPicPr/>
          <p:nvPr/>
        </p:nvPicPr>
        <p:blipFill>
          <a:blip r:embed="rId5"/>
          <a:stretch/>
        </p:blipFill>
        <p:spPr>
          <a:xfrm>
            <a:off x="5796000" y="2637000"/>
            <a:ext cx="900000" cy="554040"/>
          </a:xfrm>
          <a:prstGeom prst="rect">
            <a:avLst/>
          </a:prstGeom>
          <a:ln w="0">
            <a:noFill/>
          </a:ln>
        </p:spPr>
      </p:pic>
      <p:pic>
        <p:nvPicPr>
          <p:cNvPr id="391" name="Picture 8" descr="latvia"/>
          <p:cNvPicPr/>
          <p:nvPr/>
        </p:nvPicPr>
        <p:blipFill>
          <a:blip r:embed="rId6"/>
          <a:stretch/>
        </p:blipFill>
        <p:spPr>
          <a:xfrm>
            <a:off x="2340000" y="5445000"/>
            <a:ext cx="863640" cy="517680"/>
          </a:xfrm>
          <a:prstGeom prst="rect">
            <a:avLst/>
          </a:prstGeom>
          <a:ln w="0">
            <a:noFill/>
          </a:ln>
        </p:spPr>
      </p:pic>
      <p:pic>
        <p:nvPicPr>
          <p:cNvPr id="392" name="Picture 9" descr="south_korea"/>
          <p:cNvPicPr/>
          <p:nvPr/>
        </p:nvPicPr>
        <p:blipFill>
          <a:blip r:embed="rId7"/>
          <a:stretch/>
        </p:blipFill>
        <p:spPr>
          <a:xfrm>
            <a:off x="7308720" y="2133720"/>
            <a:ext cx="890640" cy="595080"/>
          </a:xfrm>
          <a:prstGeom prst="rect">
            <a:avLst/>
          </a:prstGeom>
          <a:ln w="0">
            <a:noFill/>
          </a:ln>
        </p:spPr>
      </p:pic>
      <p:pic>
        <p:nvPicPr>
          <p:cNvPr id="393" name="Picture 10" descr="czech republic"/>
          <p:cNvPicPr/>
          <p:nvPr/>
        </p:nvPicPr>
        <p:blipFill>
          <a:blip r:embed="rId8"/>
          <a:stretch/>
        </p:blipFill>
        <p:spPr>
          <a:xfrm>
            <a:off x="6300720" y="3573360"/>
            <a:ext cx="792360" cy="538200"/>
          </a:xfrm>
          <a:prstGeom prst="rect">
            <a:avLst/>
          </a:prstGeom>
          <a:ln w="0">
            <a:noFill/>
          </a:ln>
        </p:spPr>
      </p:pic>
      <p:pic>
        <p:nvPicPr>
          <p:cNvPr id="394" name="Picture 11" descr="UNKG001"/>
          <p:cNvPicPr/>
          <p:nvPr/>
        </p:nvPicPr>
        <p:blipFill>
          <a:blip r:embed="rId9"/>
          <a:stretch/>
        </p:blipFill>
        <p:spPr>
          <a:xfrm>
            <a:off x="6300720" y="2760840"/>
            <a:ext cx="1008000" cy="501480"/>
          </a:xfrm>
          <a:prstGeom prst="rect">
            <a:avLst/>
          </a:prstGeom>
          <a:ln w="0">
            <a:noFill/>
          </a:ln>
        </p:spPr>
      </p:pic>
      <p:pic>
        <p:nvPicPr>
          <p:cNvPr id="395" name="Picture 12" descr="hungary"/>
          <p:cNvPicPr/>
          <p:nvPr/>
        </p:nvPicPr>
        <p:blipFill>
          <a:blip r:embed="rId10"/>
          <a:stretch/>
        </p:blipFill>
        <p:spPr>
          <a:xfrm>
            <a:off x="7740720" y="4149720"/>
            <a:ext cx="865080" cy="579600"/>
          </a:xfrm>
          <a:prstGeom prst="rect">
            <a:avLst/>
          </a:prstGeom>
          <a:ln w="0">
            <a:noFill/>
          </a:ln>
        </p:spPr>
      </p:pic>
      <p:pic>
        <p:nvPicPr>
          <p:cNvPr id="396" name="Picture 13" descr="new_zealand"/>
          <p:cNvPicPr/>
          <p:nvPr/>
        </p:nvPicPr>
        <p:blipFill>
          <a:blip r:embed="rId11"/>
          <a:stretch/>
        </p:blipFill>
        <p:spPr>
          <a:xfrm>
            <a:off x="3059280" y="2997360"/>
            <a:ext cx="1041120" cy="522000"/>
          </a:xfrm>
          <a:prstGeom prst="rect">
            <a:avLst/>
          </a:prstGeom>
          <a:ln w="0">
            <a:noFill/>
          </a:ln>
        </p:spPr>
      </p:pic>
      <p:pic>
        <p:nvPicPr>
          <p:cNvPr id="397" name="Picture 14" descr="rs"/>
          <p:cNvPicPr/>
          <p:nvPr/>
        </p:nvPicPr>
        <p:blipFill>
          <a:blip r:embed="rId12"/>
          <a:stretch/>
        </p:blipFill>
        <p:spPr>
          <a:xfrm>
            <a:off x="5219640" y="5445000"/>
            <a:ext cx="757440" cy="506520"/>
          </a:xfrm>
          <a:prstGeom prst="rect">
            <a:avLst/>
          </a:prstGeom>
          <a:ln w="0">
            <a:noFill/>
          </a:ln>
        </p:spPr>
      </p:pic>
      <p:pic>
        <p:nvPicPr>
          <p:cNvPr id="398" name="Picture 15" descr="us"/>
          <p:cNvPicPr/>
          <p:nvPr/>
        </p:nvPicPr>
        <p:blipFill>
          <a:blip r:embed="rId13"/>
          <a:stretch/>
        </p:blipFill>
        <p:spPr>
          <a:xfrm>
            <a:off x="3635280" y="4005360"/>
            <a:ext cx="935280" cy="569880"/>
          </a:xfrm>
          <a:prstGeom prst="rect">
            <a:avLst/>
          </a:prstGeom>
          <a:ln w="0">
            <a:noFill/>
          </a:ln>
        </p:spPr>
      </p:pic>
      <p:pic>
        <p:nvPicPr>
          <p:cNvPr id="399" name="Picture 16" descr="australia"/>
          <p:cNvPicPr/>
          <p:nvPr/>
        </p:nvPicPr>
        <p:blipFill>
          <a:blip r:embed="rId14"/>
          <a:stretch/>
        </p:blipFill>
        <p:spPr>
          <a:xfrm>
            <a:off x="6084720" y="2997360"/>
            <a:ext cx="863640" cy="576000"/>
          </a:xfrm>
          <a:prstGeom prst="rect">
            <a:avLst/>
          </a:prstGeom>
          <a:ln w="0">
            <a:noFill/>
          </a:ln>
        </p:spPr>
      </p:pic>
      <p:pic>
        <p:nvPicPr>
          <p:cNvPr id="400" name="Picture 17" descr="italy"/>
          <p:cNvPicPr/>
          <p:nvPr/>
        </p:nvPicPr>
        <p:blipFill>
          <a:blip r:embed="rId15"/>
          <a:stretch/>
        </p:blipFill>
        <p:spPr>
          <a:xfrm>
            <a:off x="1258920" y="4797360"/>
            <a:ext cx="792000" cy="52884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18" descr="belgium"/>
          <p:cNvPicPr/>
          <p:nvPr/>
        </p:nvPicPr>
        <p:blipFill>
          <a:blip r:embed="rId16"/>
          <a:stretch/>
        </p:blipFill>
        <p:spPr>
          <a:xfrm>
            <a:off x="5867280" y="4149720"/>
            <a:ext cx="792360" cy="474840"/>
          </a:xfrm>
          <a:prstGeom prst="rect">
            <a:avLst/>
          </a:prstGeom>
          <a:ln w="0">
            <a:noFill/>
          </a:ln>
        </p:spPr>
      </p:pic>
      <p:sp>
        <p:nvSpPr>
          <p:cNvPr id="402" name="Oval 19"/>
          <p:cNvSpPr/>
          <p:nvPr/>
        </p:nvSpPr>
        <p:spPr>
          <a:xfrm rot="2970600">
            <a:off x="7110360" y="1969920"/>
            <a:ext cx="1476360" cy="1225440"/>
          </a:xfrm>
          <a:prstGeom prst="ellipse">
            <a:avLst/>
          </a:prstGeom>
          <a:noFill/>
          <a:ln w="57240">
            <a:solidFill>
              <a:srgbClr val="ff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20"/>
          <p:cNvSpPr/>
          <p:nvPr/>
        </p:nvSpPr>
        <p:spPr>
          <a:xfrm rot="20862600">
            <a:off x="2627280" y="2349360"/>
            <a:ext cx="4600440" cy="2098800"/>
          </a:xfrm>
          <a:prstGeom prst="ellipse">
            <a:avLst/>
          </a:prstGeom>
          <a:noFill/>
          <a:ln w="57240">
            <a:solidFill>
              <a:srgbClr val="00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1"/>
          <p:cNvSpPr/>
          <p:nvPr/>
        </p:nvSpPr>
        <p:spPr>
          <a:xfrm>
            <a:off x="8388360" y="1628640"/>
            <a:ext cx="50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ff99ff"/>
                </a:solidFill>
                <a:latin typeface="Tahoma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 Box 22"/>
          <p:cNvSpPr/>
          <p:nvPr/>
        </p:nvSpPr>
        <p:spPr>
          <a:xfrm>
            <a:off x="4586400" y="289548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99cc"/>
                </a:solidFill>
                <a:latin typeface="Tahoma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 Box 23"/>
          <p:cNvSpPr/>
          <p:nvPr/>
        </p:nvSpPr>
        <p:spPr>
          <a:xfrm>
            <a:off x="3635280" y="5300640"/>
            <a:ext cx="505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32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Freeform 24"/>
          <p:cNvSpPr/>
          <p:nvPr/>
        </p:nvSpPr>
        <p:spPr>
          <a:xfrm>
            <a:off x="1187280" y="3789360"/>
            <a:ext cx="7737480" cy="2259000"/>
          </a:xfrm>
          <a:custGeom>
            <a:avLst/>
            <a:gdLst/>
            <a:ahLst/>
            <a:rect l="l" t="t" r="r" b="b"/>
            <a:pathLst>
              <a:path w="4874" h="1423">
                <a:moveTo>
                  <a:pt x="88" y="525"/>
                </a:moveTo>
                <a:cubicBezTo>
                  <a:pt x="420" y="510"/>
                  <a:pt x="371" y="502"/>
                  <a:pt x="571" y="533"/>
                </a:cubicBezTo>
                <a:cubicBezTo>
                  <a:pt x="631" y="553"/>
                  <a:pt x="705" y="578"/>
                  <a:pt x="758" y="525"/>
                </a:cubicBezTo>
                <a:lnTo>
                  <a:pt x="3266" y="871"/>
                </a:lnTo>
                <a:lnTo>
                  <a:pt x="4037" y="281"/>
                </a:lnTo>
                <a:cubicBezTo>
                  <a:pt x="4167" y="119"/>
                  <a:pt x="4174" y="84"/>
                  <a:pt x="4298" y="0"/>
                </a:cubicBezTo>
                <a:cubicBezTo>
                  <a:pt x="4356" y="7"/>
                  <a:pt x="4404" y="15"/>
                  <a:pt x="4459" y="33"/>
                </a:cubicBezTo>
                <a:cubicBezTo>
                  <a:pt x="4476" y="39"/>
                  <a:pt x="4510" y="50"/>
                  <a:pt x="4510" y="50"/>
                </a:cubicBezTo>
                <a:cubicBezTo>
                  <a:pt x="4583" y="26"/>
                  <a:pt x="4543" y="31"/>
                  <a:pt x="4629" y="42"/>
                </a:cubicBezTo>
                <a:cubicBezTo>
                  <a:pt x="4674" y="56"/>
                  <a:pt x="4711" y="87"/>
                  <a:pt x="4756" y="101"/>
                </a:cubicBezTo>
                <a:cubicBezTo>
                  <a:pt x="4810" y="138"/>
                  <a:pt x="4799" y="104"/>
                  <a:pt x="4823" y="177"/>
                </a:cubicBezTo>
                <a:cubicBezTo>
                  <a:pt x="4829" y="194"/>
                  <a:pt x="4834" y="211"/>
                  <a:pt x="4840" y="228"/>
                </a:cubicBezTo>
                <a:cubicBezTo>
                  <a:pt x="4843" y="237"/>
                  <a:pt x="4849" y="254"/>
                  <a:pt x="4849" y="254"/>
                </a:cubicBezTo>
                <a:cubicBezTo>
                  <a:pt x="4855" y="319"/>
                  <a:pt x="4859" y="385"/>
                  <a:pt x="4874" y="449"/>
                </a:cubicBezTo>
                <a:cubicBezTo>
                  <a:pt x="4865" y="556"/>
                  <a:pt x="4839" y="745"/>
                  <a:pt x="4739" y="813"/>
                </a:cubicBezTo>
                <a:cubicBezTo>
                  <a:pt x="4715" y="848"/>
                  <a:pt x="4685" y="867"/>
                  <a:pt x="4646" y="881"/>
                </a:cubicBezTo>
                <a:cubicBezTo>
                  <a:pt x="4619" y="921"/>
                  <a:pt x="4615" y="902"/>
                  <a:pt x="4578" y="923"/>
                </a:cubicBezTo>
                <a:cubicBezTo>
                  <a:pt x="4560" y="933"/>
                  <a:pt x="4527" y="957"/>
                  <a:pt x="4527" y="957"/>
                </a:cubicBezTo>
                <a:cubicBezTo>
                  <a:pt x="4031" y="1095"/>
                  <a:pt x="3533" y="1224"/>
                  <a:pt x="3039" y="1370"/>
                </a:cubicBezTo>
                <a:cubicBezTo>
                  <a:pt x="3030" y="1373"/>
                  <a:pt x="3042" y="1390"/>
                  <a:pt x="3036" y="1397"/>
                </a:cubicBezTo>
                <a:cubicBezTo>
                  <a:pt x="3026" y="1409"/>
                  <a:pt x="2975" y="1418"/>
                  <a:pt x="2960" y="1423"/>
                </a:cubicBezTo>
                <a:cubicBezTo>
                  <a:pt x="2904" y="1411"/>
                  <a:pt x="2932" y="1414"/>
                  <a:pt x="2875" y="1414"/>
                </a:cubicBezTo>
                <a:lnTo>
                  <a:pt x="635" y="1370"/>
                </a:lnTo>
                <a:lnTo>
                  <a:pt x="0" y="916"/>
                </a:lnTo>
                <a:lnTo>
                  <a:pt x="88" y="525"/>
                </a:lnTo>
                <a:close/>
              </a:path>
            </a:pathLst>
          </a:custGeom>
          <a:noFill/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Oval 25"/>
          <p:cNvSpPr/>
          <p:nvPr/>
        </p:nvSpPr>
        <p:spPr>
          <a:xfrm rot="19042200">
            <a:off x="5651280" y="3499920"/>
            <a:ext cx="1771560" cy="1078200"/>
          </a:xfrm>
          <a:prstGeom prst="ellipse">
            <a:avLst/>
          </a:prstGeom>
          <a:noFill/>
          <a:ln w="57240">
            <a:solidFill>
              <a:srgbClr val="ffff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Text Box 26"/>
          <p:cNvSpPr/>
          <p:nvPr/>
        </p:nvSpPr>
        <p:spPr>
          <a:xfrm>
            <a:off x="7212960" y="3195720"/>
            <a:ext cx="41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ffff99"/>
                </a:solidFill>
                <a:latin typeface="Tahoma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AutoShape 2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AutoShape 2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00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Text Box 2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0033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0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afterEffect" fill="hold" presetClass="entr" presetID="3" presetSubtype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3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9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3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9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0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1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22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3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23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4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24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8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25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3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55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60" nodeType="afterEffect" fill="hold" presetClass="entr" presetID="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nodeType="clickEffect" fill="hold">
                      <p:stCondLst>
                        <p:cond delay="indefinite"/>
                      </p:stCondLst>
                      <p:childTnLst>
                        <p:par>
                          <p:cTn id="2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8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3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5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89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1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93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5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97" nodeType="afterEffect" fill="hold" presetClass="entr" presetID="3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99ff"/>
            </a:gs>
            <a:gs pos="100000">
              <a:srgbClr val="dfe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0"/>
            <a:ext cx="8229600" cy="990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4400" spc="-1" strike="noStrike">
                <a:solidFill>
                  <a:srgbClr val="00ff00"/>
                </a:solidFill>
                <a:latin typeface="Arial"/>
              </a:rPr>
              <a:t>Характеристика кластеров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AutoShape 3"/>
          <p:cNvSpPr/>
          <p:nvPr/>
        </p:nvSpPr>
        <p:spPr>
          <a:xfrm>
            <a:off x="287280" y="981000"/>
            <a:ext cx="4103640" cy="2916360"/>
          </a:xfrm>
          <a:prstGeom prst="roundRect">
            <a:avLst>
              <a:gd name="adj" fmla="val 31139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чень мало времени на самостоятельный эксперимент учащихся, основное время выделяется на лекции, проверку выполнения домашних заданий, на повторное объяснение пройденного материала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AutoShape 4"/>
          <p:cNvSpPr/>
          <p:nvPr/>
        </p:nvSpPr>
        <p:spPr>
          <a:xfrm>
            <a:off x="4608360" y="1125360"/>
            <a:ext cx="4104000" cy="2519640"/>
          </a:xfrm>
          <a:prstGeom prst="roundRect">
            <a:avLst>
              <a:gd name="adj" fmla="val 31139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лекции, очень мало времени на самостоятельный эксперимент учащихся и проверку выполнения домашних заданий, другие формы работы имеют среднее знач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AutoShape 5"/>
          <p:cNvSpPr/>
          <p:nvPr/>
        </p:nvSpPr>
        <p:spPr>
          <a:xfrm>
            <a:off x="287280" y="4041720"/>
            <a:ext cx="4103640" cy="2484360"/>
          </a:xfrm>
          <a:prstGeom prst="roundRect">
            <a:avLst>
              <a:gd name="adj" fmla="val 31139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 и лекции, мало времени на проверку выполнения домашних заданий и контроль зна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AutoShape 6"/>
          <p:cNvSpPr/>
          <p:nvPr/>
        </p:nvSpPr>
        <p:spPr>
          <a:xfrm>
            <a:off x="4608360" y="3868560"/>
            <a:ext cx="4104000" cy="2656080"/>
          </a:xfrm>
          <a:prstGeom prst="roundRect">
            <a:avLst>
              <a:gd name="adj" fmla="val 31139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46800" bIns="468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ff"/>
                </a:solidFill>
                <a:latin typeface="Arial"/>
              </a:rPr>
              <a:t>Кластер 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начительное время на самостоятельный эксперимент учащихся, очень мало времени на лекции и объяснение изученного ранее материала, контроль и проверка выполнения домашних заданий имеют среднее значение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AutoShape 7">
            <a:hlinkClick r:id="" action="ppaction://hlinkshowjump?jump=nextslide"/>
          </p:cNvPr>
          <p:cNvSpPr/>
          <p:nvPr/>
        </p:nvSpPr>
        <p:spPr>
          <a:xfrm>
            <a:off x="8064360" y="6453360"/>
            <a:ext cx="432000" cy="404640"/>
          </a:xfrm>
          <a:custGeom>
            <a:avLst/>
            <a:gdLst>
              <a:gd name="textAreaLeft" fmla="*/ 25920 w 432000"/>
              <a:gd name="textAreaRight" fmla="*/ 406080 w 432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23059" h="21600">
                <a:moveTo>
                  <a:pt x="0" y="0"/>
                </a:moveTo>
                <a:lnTo>
                  <a:pt x="23059" y="0"/>
                </a:lnTo>
                <a:lnTo>
                  <a:pt x="23059" y="21600"/>
                </a:lnTo>
                <a:lnTo>
                  <a:pt x="0" y="21600"/>
                </a:lnTo>
                <a:close/>
              </a:path>
              <a:path fill="lightenLess" w="23059" h="21600">
                <a:moveTo>
                  <a:pt x="0" y="0"/>
                </a:moveTo>
                <a:lnTo>
                  <a:pt x="23059" y="0"/>
                </a:lnTo>
                <a:lnTo>
                  <a:pt x="21659" y="1400"/>
                </a:lnTo>
                <a:lnTo>
                  <a:pt x="1400" y="1400"/>
                </a:lnTo>
                <a:close/>
              </a:path>
              <a:path fill="darken" w="23059" h="21600">
                <a:moveTo>
                  <a:pt x="23059" y="0"/>
                </a:moveTo>
                <a:lnTo>
                  <a:pt x="23059" y="21600"/>
                </a:lnTo>
                <a:lnTo>
                  <a:pt x="21659" y="20200"/>
                </a:lnTo>
                <a:lnTo>
                  <a:pt x="21659" y="1400"/>
                </a:lnTo>
                <a:close/>
              </a:path>
              <a:path fill="darkenLess" w="23059" h="21600">
                <a:moveTo>
                  <a:pt x="2305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659" y="20200"/>
                </a:lnTo>
                <a:close/>
              </a:path>
              <a:path fill="lighten" w="2305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059" h="21600">
                <a:moveTo>
                  <a:pt x="4523" y="3794"/>
                </a:moveTo>
                <a:lnTo>
                  <a:pt x="18536" y="10800"/>
                </a:lnTo>
                <a:lnTo>
                  <a:pt x="452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AutoShape 8">
            <a:hlinkClick r:id="" action="ppaction://hlinkshowjump?jump=previousslide"/>
          </p:cNvPr>
          <p:cNvSpPr/>
          <p:nvPr/>
        </p:nvSpPr>
        <p:spPr>
          <a:xfrm>
            <a:off x="7596360" y="6453360"/>
            <a:ext cx="468000" cy="403200"/>
          </a:xfrm>
          <a:custGeom>
            <a:avLst/>
            <a:gdLst>
              <a:gd name="textAreaLeft" fmla="*/ 25920 w 468000"/>
              <a:gd name="textAreaRight" fmla="*/ 442080 w 468000"/>
              <a:gd name="textAreaTop" fmla="*/ 25920 h 403200"/>
              <a:gd name="textAreaBottom" fmla="*/ 377280 h 403200"/>
            </a:gdLst>
            <a:ahLst/>
            <a:rect l="textAreaLeft" t="textAreaTop" r="textAreaRight" b="textAreaBottom"/>
            <a:pathLst>
              <a:path w="25068" h="21600">
                <a:moveTo>
                  <a:pt x="0" y="0"/>
                </a:moveTo>
                <a:lnTo>
                  <a:pt x="25068" y="0"/>
                </a:lnTo>
                <a:lnTo>
                  <a:pt x="25068" y="21600"/>
                </a:lnTo>
                <a:lnTo>
                  <a:pt x="0" y="21600"/>
                </a:lnTo>
                <a:close/>
              </a:path>
              <a:path fill="lightenLess" w="25068" h="21600">
                <a:moveTo>
                  <a:pt x="0" y="0"/>
                </a:moveTo>
                <a:lnTo>
                  <a:pt x="25068" y="0"/>
                </a:lnTo>
                <a:lnTo>
                  <a:pt x="23668" y="1400"/>
                </a:lnTo>
                <a:lnTo>
                  <a:pt x="1400" y="1400"/>
                </a:lnTo>
                <a:close/>
              </a:path>
              <a:path fill="darken" w="25068" h="21600">
                <a:moveTo>
                  <a:pt x="25068" y="0"/>
                </a:moveTo>
                <a:lnTo>
                  <a:pt x="25068" y="21600"/>
                </a:lnTo>
                <a:lnTo>
                  <a:pt x="23668" y="20200"/>
                </a:lnTo>
                <a:lnTo>
                  <a:pt x="23668" y="1400"/>
                </a:lnTo>
                <a:close/>
              </a:path>
              <a:path fill="darkenLess" w="25068" h="21600">
                <a:moveTo>
                  <a:pt x="2506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668" y="20200"/>
                </a:lnTo>
                <a:close/>
              </a:path>
              <a:path fill="lighten" w="2506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068" h="21600">
                <a:moveTo>
                  <a:pt x="5528" y="10800"/>
                </a:moveTo>
                <a:lnTo>
                  <a:pt x="19541" y="3794"/>
                </a:lnTo>
                <a:lnTo>
                  <a:pt x="1954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Text Box 9"/>
          <p:cNvSpPr/>
          <p:nvPr/>
        </p:nvSpPr>
        <p:spPr>
          <a:xfrm>
            <a:off x="8686800" y="6477120"/>
            <a:ext cx="4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30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1" nodeType="afterEffect" fill="hold">
                            <p:stCondLst>
                              <p:cond delay="2760"/>
                            </p:stCondLst>
                            <p:childTnLst>
                              <p:par>
                                <p:cTn id="312" nodeType="afterEffect" fill="hold" presetClass="entr" presetID="2" presetSubtype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6" nodeType="afterEffect" fill="hold">
                            <p:stCondLst>
                              <p:cond delay="4260"/>
                            </p:stCondLst>
                            <p:childTnLst>
                              <p:par>
                                <p:cTn id="31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760"/>
                            </p:stCondLst>
                            <p:childTnLst>
                              <p:par>
                                <p:cTn id="32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5260"/>
                            </p:stCondLst>
                            <p:childTnLst>
                              <p:par>
                                <p:cTn id="32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Rectangle 1"/>
          <p:cNvSpPr/>
          <p:nvPr/>
        </p:nvSpPr>
        <p:spPr>
          <a:xfrm>
            <a:off x="571680" y="952920"/>
            <a:ext cx="8137440" cy="55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ahoma"/>
              </a:rPr>
              <a:t>«Качество системы образования не может быть выше уровня работающих в ней учителей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Роль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хорошего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ff0000"/>
                </a:solidFill>
                <a:latin typeface="Arial"/>
                <a:ea typeface="Tahoma"/>
              </a:rPr>
              <a:t>учителя</a:t>
            </a:r>
            <a:r>
              <a:rPr b="1" lang="ru-RU" sz="3200" spc="-1" strike="noStrike">
                <a:solidFill>
                  <a:srgbClr val="e90062"/>
                </a:solidFill>
                <a:latin typeface="Arial"/>
                <a:ea typeface="Tahoma"/>
              </a:rPr>
              <a:t> </a:t>
            </a:r>
            <a:r>
              <a:rPr b="1" lang="ru-RU" sz="3200" spc="-1" strike="noStrike">
                <a:solidFill>
                  <a:srgbClr val="002060"/>
                </a:solidFill>
                <a:latin typeface="Arial"/>
                <a:ea typeface="Tahoma"/>
              </a:rPr>
              <a:t>в системе образования больше, чем сумма всех других факторов, вместе взяты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2"/>
          <p:cNvSpPr/>
          <p:nvPr/>
        </p:nvSpPr>
        <p:spPr>
          <a:xfrm>
            <a:off x="0" y="0"/>
            <a:ext cx="9144000" cy="1143000"/>
          </a:xfrm>
          <a:prstGeom prst="rect">
            <a:avLst/>
          </a:prstGeom>
          <a:solidFill>
            <a:srgbClr val="e4005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Доклад МакКинзи: «Уроки анализа лучших </a:t>
            </a:r>
            <a:br>
              <a:rPr sz="2800"/>
            </a:br>
            <a:r>
              <a:rPr b="1" lang="ru-RU" sz="2800" spc="-1" strike="noStrike">
                <a:solidFill>
                  <a:srgbClr val="ffffff"/>
                </a:solidFill>
                <a:latin typeface="Calibri"/>
                <a:ea typeface="SimSun"/>
              </a:rPr>
              <a:t>образовательных систем мира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dissolv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05T09:58:03Z</dcterms:created>
  <dc:creator>sol</dc:creator>
  <dc:description/>
  <dc:language>en-US</dc:language>
  <cp:lastModifiedBy>Роза Искандеровна</cp:lastModifiedBy>
  <dcterms:modified xsi:type="dcterms:W3CDTF">2012-02-05T13:50:05Z</dcterms:modified>
  <cp:revision>124</cp:revision>
  <dc:subject/>
  <dc:title>Заголовок слайда отсутствует</dc:title>
</cp:coreProperties>
</file>