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79A-66A6-410A-B1B2-397E37C8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4F9B-02E9-42F0-86F8-6FB77277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FEE-6ED0-413E-A41C-2F510758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C637-A914-4B60-88EE-185AD4AA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3BB-E300-47B7-8C7C-63B2D776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87A4-50DE-45C7-8E3A-8F2228FD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DC05-7233-4A36-8525-ED479D2A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11F5-E98F-4797-85A3-4F641B9B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A9F-187F-4E1D-953E-F6FC0D1B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7A46-741F-40AA-B7E6-57573BAE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505-71B5-4E95-BBCF-6EB89015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605-FEA8-46E2-A202-30AA167F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b9ad9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58D7-92CF-45FD-A25E-37D8AE9FD624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5843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екомендации по разработке компетентностно – ориентированных заданий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" y="51811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И. И. Миронова, методист ГМЦ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24360" y="5877000"/>
            <a:ext cx="1371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ем отличаются КОЗ от традиционных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Они базируются на знаниях и умениях, но требуют умения применять накопленные знания в практической деятельности. Назначение компетентностно-ориентированных заданий – включить учащихся в решение «жизненной»  проблемной задач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 узнать КОЗ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Во-первых, это деятельностное задание; во-вторых, оно моделирует практическую, жизненную ситуацию; в-третьих, оно строится на актуальном для учащихся материале; в-четвёртых, его структура задаётся  особыми элементам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уктура КО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стимул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задачная формулировка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источник информации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бланк для выполнения задания (если оно подразумевает структурированный ответ)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инструмент проверки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иму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мотивирует ученика на выполнение задания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ключает описание ситуации или другие условия задачи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которые играют роль источника информации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49228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528d"/>
                </a:solidFill>
                <a:latin typeface="Arial"/>
              </a:rPr>
              <a:t>Функции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отивирует учащегося на выполнение задания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оделирует практическую, жизненную ситуацию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при необходимости может нести функцию источника информации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43657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528d"/>
                </a:solidFill>
                <a:latin typeface="Arial"/>
              </a:rPr>
              <a:t>Стимул должен: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быть кратким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НЕ отвлекать учащегося от содержания задания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чная формул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Задачная формулировка понимается однозначно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четко соотносится с модельным ответом \ шкалой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оответствует возрасту учащегося, интересна учащемуся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249228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Мы не можем проверять то, что не требовали в задачной формулировке. Мы обязаны проверять то, что предписывали в задачной формулировке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точник информ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Источник информации  содержит информацию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обходимую для успешной деятельности учащегос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по выполнению задания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2492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Необходим и достаточен для выполнения заданной деятельности, интересен, соответствует возрасту учащихся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386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На одном источнике (наборе источников) может строиться несколько заданий. Учащийся не должен быть знаком с источником до выполнения задания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струмент прове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пределяет количество баллов за каждый этап деятельности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и общий итог в зависимости от сложности учебного материала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полнительных видов деятельности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49228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Инструментом проверки может быть: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Ключ - используется для тестовых заданий закрытого типа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Модельный ответ – обычно используется для открытых тестовых заданий с кратким ответ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Аналитическая шкала - используется для открытых тестовых заданий с развёрнутым ответ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Бланк наблюдений за групповой работой – используется для оценки вклада каждого участника в групповой продукт и эффективности деятельности всей группы в цел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836640"/>
          <a:ext cx="8229600" cy="5632200"/>
        </p:xfrm>
        <a:graphic>
          <a:graphicData uri="http://schemas.openxmlformats.org/drawingml/2006/table">
            <a:tbl>
              <a:tblPr/>
              <a:tblGrid>
                <a:gridCol w="3790800"/>
                <a:gridCol w="1359000"/>
                <a:gridCol w="1494000"/>
                <a:gridCol w="1585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правиль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частич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невер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с большим количеством ошибок)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рогнозирование содержания текста по заголовку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оиск ключевых слов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сновная мысль текста по ключевым словам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Работа с незнакомыми словам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еревод предложений с незнакомыми словам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тветы на вопросы по тексту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КОЗ по биолог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84358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Вы, ученик 6 класса, помогаете своему младшему брату (сестре, другу, подруге) готовиться к викторине по природоведению. На вопрос: «Какой орган у картофеля мы употребляем в пищу?», получили ответ: «Плод». Этот ответ вас смутил, ведь вы знаете, что на самом деле плоды картофеля ядовиты и можно употреблять в пищу только клубни - видоизмененные побеги. 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На рисунке представлен клубень картофеля № 1, который является видоизмененным побегом, и побег дерева с почками № 2.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Внимательно рассмотрите рисунки. Что объединяет и в чём отличие биологических объектов, изображённых на рисунке? Почему нельзя назвать клубень картофеля плодом?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Представление результатов. Заполните таблицу: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71640" y="2637000"/>
          <a:ext cx="1993680" cy="14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637000"/>
                    <a:ext cx="199368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1640" y="5373720"/>
          <a:ext cx="7777080" cy="669960"/>
        </p:xfrm>
        <a:graphic>
          <a:graphicData uri="http://schemas.openxmlformats.org/drawingml/2006/table">
            <a:tbl>
              <a:tblPr/>
              <a:tblGrid>
                <a:gridCol w="3889440"/>
                <a:gridCol w="3887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Сходства объектов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Различия объектов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700280"/>
            <a:ext cx="7416720" cy="1728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Планируемые результаты в рамках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компетентностного подхода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933720"/>
            <a:ext cx="7416720" cy="17924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Фундаментальные цели образования,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соответствующие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пониманию ключевых компетенций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1125360"/>
            <a:ext cx="8280360" cy="4319640"/>
          </a:xfrm>
          <a:prstGeom prst="downArrowCallout">
            <a:avLst>
              <a:gd name="adj1" fmla="val -14348"/>
              <a:gd name="adj2" fmla="val 19036"/>
              <a:gd name="adj3" fmla="val 17514"/>
              <a:gd name="adj4" fmla="val 79056"/>
            </a:avLst>
          </a:prstGeom>
          <a:gradFill rotWithShape="0">
            <a:gsLst>
              <a:gs pos="0">
                <a:srgbClr val="1b9ad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928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В документах ЮНЕСКО цели сформулированы так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получать знания (учить учиться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работать и зарабатывать (учение для труда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жить (учение для бытия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жить вместе (учение для совместной жизни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516640"/>
            <a:ext cx="8136000" cy="86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b9ad9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558972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уют целям нашего школьного образования, сформулированным в ФГО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омпетентности в современном обществе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Дж. Раве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работать самостоятельно без постоянного руководства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брать на себя ответственность по собственной инициативе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проявлять инициативу, не спрашивая других, следует ли это делать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готовность замечать проблемы и искать пути их решения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анализировать новые ситуации и применять уже имеющиеся знания для такого анализа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уживаться с другим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осваивать какие-либо знания по собственной инициативе (т.е. учитывая свой опыт и обратную связь с окружающими)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умение принимать решения на основе здравых суждений, т.е. не располагая всем необходимым материалом и не имея возможности обработать информацию математически.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хуровневая иерархия компетентностей (А. В. Хуторской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ключев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е относятся к общему (метапредметному) содержанию образования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общепредметн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е относятся к определённому кругу учебных предметов и образовательных областей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предметн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 – частные по отношению к двум предыдущим компетенциям, имеющие конкретное описание и возможность формирования в рамках учебных предметов.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омпетентностно – ориентированные задания являются способом оценки результатов в рамках компетентностного подхода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816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стественнонаучная грамотность характеризуется тремя составляющи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знаниев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в который входят знания об окружающем мире и знания о естественных науках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компетентностн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под которым понимают умения применять имеющиеся научные знания к жизненным ситуациям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аффективн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й оценивает интерес и любознательность к естественным наукам.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я, которые проверяют в КО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распознавать вопросы, идеи или проблемы, которые могут быть исследованы научными методам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выделять информацию (объекты, факты, экспериментальные данные и др.), необходимую для нахождения доказательств или подтверждения выводов при проведении научного исследования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лать вывод (заключение) или оценивать уже сделанный вывод с учётом предложенной ситуаци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монстрировать коммуникативные умения: аргументировано, чётко и ясно формулировать выводы, доказательства и др.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монстрировать знание и понимание естественнонаучных понятий.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ак составить компетентностно – ориентированные задания?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961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08:04:37Z</dcterms:created>
  <dc:creator>user</dc:creator>
  <dc:description/>
  <dc:language>en-US</dc:language>
  <cp:lastModifiedBy>user</cp:lastModifiedBy>
  <dcterms:modified xsi:type="dcterms:W3CDTF">2012-12-04T13:10:58Z</dcterms:modified>
  <cp:revision>13</cp:revision>
  <dc:subject/>
  <dc:title>PowerPoint Template</dc:title>
</cp:coreProperties>
</file>