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52C-A7A7-4BFD-A9C2-57EB0EE2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1DF-6D88-4B71-87E2-A37C31AA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326491-D87E-46C4-B441-D6061E49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3721D1-7C33-4310-A892-169DFCE8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4306E8-1C2D-4ECE-8DBC-949F1761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E683CA-3D28-4E9C-BB91-B6E4E0A7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7F60C4-7E6D-4DD2-B603-E69A5071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9254FD-501A-4E84-A7CC-4AFF42F3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0D3206-4642-4FFD-A9D9-9D45F15A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5EA266-293D-4447-9130-F4EA6A0A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86EB1F-7A64-4861-979D-B341B254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6CD3-820E-45E6-8A14-280B37B1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E71-BAFC-46A8-8EA5-CF714CA3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A19F5-CBF2-4335-BED4-D4709EC6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53BEB-74FD-42DD-988C-BB8127CC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44288-5CFB-4B92-BC42-8BBCCF76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03676-AF1E-4313-AC5F-A0D5F6FF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143DB-30AD-426B-ACA8-85C325B2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8FF1E-4DA3-4137-A4C4-D622AEF9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BA6DE-5955-4522-B879-AE35E3EF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448B-5647-4E85-B17C-4E0A0321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DA690-EECF-4B7D-9A6F-95BF26FA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D1475-7151-4B1C-87F0-BB57065B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D3FF1-3781-4249-87AB-E22AC939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3D69B-C8EF-4B32-8DD3-90C20551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116BF-0D48-40CE-820F-BA0BAAC4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730A0-3BF2-451C-9954-07CD378F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17B34-D2CE-413B-A82A-092E53D8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F3249-9CAC-484F-BCC0-B5AAD54C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8D482-8FAE-497C-B85E-0AF513E1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E9F93-1F11-4B4A-98C4-43156132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6C8C-B99C-4DAA-B4AF-061C7AA6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644D1-2D59-420E-9E80-82E27505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B9B9D-12ED-400D-ABDE-B580A0D9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D9C6D-2607-4B70-A56B-1E80E7A6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D30DC-3CDF-4D8C-AC40-910F2D81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47508-2E37-41C2-BA14-31B9D987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7F317-50BD-4AB5-B3BF-C3AEBC57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FD228-CD3A-400B-A699-84506D8D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09349F-C6AC-4BAF-AF68-9FD5D35E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E7E6E-BBCC-4CE5-970B-C19D7B74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C25635-D397-48AF-B98E-B0906BD9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5C4-3030-4D90-9398-72A3CC01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2A6D04-8EA0-4DD9-A85D-A9FB40D0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7474D3-AFFF-40A1-BDFF-8BBE60C4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A296C8-A977-404C-9B2B-1265D32A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5DE54-1F84-4CF1-9C5F-AC359750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1A0CDB-4317-4D9E-8E99-4FD7BB98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0B9395-56B5-4EB0-B983-1167037F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65037E-B73B-4E34-A9F3-0B14F41E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5CE91F-60D8-4A53-B349-0C73DD27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6029D3-9860-4806-90C1-B8483D0B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57FC4-D6EA-43FE-B521-8D93BF78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D3F-C075-4321-98F9-79BC4FDF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E3124-6CCF-4550-8264-39B6E5EC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A5ED3-B6E0-4E76-945E-7044016E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74D6D-9774-468C-81E4-82849ACB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CDB7D-ED87-424A-8A51-DCD9D6F1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66CD5-E76C-45E8-B3E1-E970D8F6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F5E80-4719-4ECE-B7F9-30DC99B4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96B42-46DE-4E5A-AB81-D90F4ABF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38310-35D3-4059-9153-10D4B5D6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B0CD3-48A5-4FD6-85F1-D24E770F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8AB0F-096D-4198-8639-EBDE821C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53B-A5FE-4D0A-B435-A5F6C6DF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BC11F-CA70-4FCD-AB34-36FA31DE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9E739-A5D8-49D3-9F9C-6FFA4091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93B0E-98F4-44E4-967A-E12E20BD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D12A5-314E-487E-996A-B9BD0E5D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591ED-1FDF-4DD3-8FF7-16CFC2AF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5C96D-F882-4BB5-BD7F-594690D9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15C98-1C7B-40EC-934F-1B1190DB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3CCA6-E95F-428F-BFE4-C5C4DAD7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8CFAF-0B16-4FA1-87CF-7C8AEDCC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C2D58-692F-4792-A02F-93638E2E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B1FF-1727-4B37-B6F5-CB02972D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40078-B502-436E-980E-AA1E48E9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D35F5-CBBE-4DD2-85D5-78A0CC6A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4F630-A946-40FA-BD27-1FFA3188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C50CB-E81E-42C0-B028-272A0C7C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82314-1DED-432B-86EF-2B3D31CF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62FDE-22B9-492C-B6C1-3698302D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99F3B-6112-4E30-8F83-9FDCD026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2A1D6-19C6-4B58-9225-6B8DFBF0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0BFD6-0E0B-467E-91FB-FD0A1867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D4265-3301-462E-A828-DB8EF371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0BB-0FE9-4722-9D27-53C3A095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4D1C0-CE9F-4D1D-A4C9-3E3040E1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97C7F-E7D0-42A2-9DDB-9F42471F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15E0E-69CE-4CF3-B4B8-B6B7EA99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DF044-86F8-49DE-A858-1974F7FE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99564-9734-4038-83A9-6E4F8F24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4F4342-360D-4963-8A9A-3218E1E1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518613-17BB-4B2B-ABC3-A9B2D087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6286E0-2403-49A0-B32A-A543C321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C06CB7-1D78-43C0-9623-C0F98FD2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B6155C-637E-4908-B697-8AA6A8D7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F6AB-87C4-40A2-98E8-DB7481D7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8C6E72-C432-403B-8A20-C98830A1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AAD1C7-12BA-48C1-8DE7-36983714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0A9F17-E9BC-4DA4-A132-38BB33BA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DFD882-2709-4286-A0F6-4B0A59BF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D0A9C8-4DD2-443A-AAFB-43D010D3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FCAAFF-780E-4696-8B39-9FB21590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A520F4-E245-4C5D-8B05-9B7D38C4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BFF2EA-E03B-4401-9959-93D061A4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210D7C-2FA5-4BD9-B181-818DBF1D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D8EEE6-A5EA-4FDD-B7BE-AA7AE3F5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A957-97C4-4157-B7DB-5976A7A745FC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60A4-420D-4CAC-B95A-3A7D014EBB85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1EBA-F7BB-42C0-AF53-6740B84D3BFF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BFCD-2987-41A6-BB94-EAE271EFB8BF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C383-E0FC-4629-8211-879D0174AFDE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86C9-BA93-4141-B055-52F92EDD8E51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8971-1310-424B-ADAF-68D19956D936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499F-2D46-4F36-A176-70F708E1F089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65BA-1927-4627-A9B0-5B107DAFC476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414360" y="189000"/>
            <a:ext cx="8553600" cy="2468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979280" y="256536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аяхметова Р.И., директор Городского методического центр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Каким был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темп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урока? Поддерживался ли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интерес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учащихся к уроку на всем его протяжении? Как была организована смена видов деятельности учащихся на уроке? Как был организован учебный материал, что было дано в виде «готовых знаний», до чего «додумались» сами учащиеся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511200" y="-17136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Ответить на вопрос, как в ходе урока была организована опора на предыдущие знания, жизненный опыт учащихся и насколько актуальным для них был учебный материал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85840" y="164628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Очень важным для урока является та его сторона, которая связана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с контролем за деятельностью учащихся</a:t>
            </a: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Надо постараться оценить, как эта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работа была организована на уроке, как контролировалась домашняя работа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учащихся? Весь ли труд учеников был проверен? Насколько быстро и эффективно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это было сделано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214200" y="1646280"/>
            <a:ext cx="8715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ставить перед собой вопрос и постараться ответить на него: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как задавалось домашнее задание</a:t>
            </a:r>
            <a:r>
              <a:rPr b="1" lang="en-US" sz="3300" spc="-1" strike="noStrike">
                <a:solidFill>
                  <a:srgbClr val="ffffff"/>
                </a:solidFill>
                <a:latin typeface="Cambria"/>
              </a:rPr>
              <a:t>?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Был ли инструктаж детальным и четким? Было ли проверено, как учащиеся его записали? Продумана ли его проверка?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пытаться охарактеризовать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психологическую атмосферу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урока, степень доброжелательности, взаимной заинтересованности всех участников урока, характер их общения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62440" indent="-26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tt-RU" sz="3200" spc="-1" strike="noStrike">
                <a:solidFill>
                  <a:srgbClr val="ffffff"/>
                </a:solidFill>
                <a:latin typeface="Cambria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емаловажным являет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настроение учителя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зменилось ли оно по сравнению с тем, каким оно было до него? В чем причин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этих изменений? Что теперь, после того, как урок прошел, целесообразно был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ы изменить в нем? Что можно поставить себе в плюсы, а что в минусы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511200" y="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Педагогическая профессия по природе своей профессия творческая. Но что такое творчески работающий учитель? Понятие это довольно емкое. Если на это попытаться ответить коротко, то можно ответить так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творчески работающий учитель— это человек, обладающий в первую очередь высокой педагогической культурой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14200" y="142848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Одним из слагаемых такой культуры является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аналитическое мастерство. 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Умение анализировать свою собственную деятельность—важное качество любого человека, тем более оно важно для учителя как человека творческого. Любое творчество нередко представля</a:t>
            </a:r>
            <a:r>
              <a:rPr b="0" lang="ru-RU" sz="2700" spc="-1" strike="noStrike">
                <a:solidFill>
                  <a:srgbClr val="eaf0f6"/>
                </a:solidFill>
                <a:latin typeface="Arial"/>
              </a:rPr>
              <a:t>ет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 собой перестройку уже сложившейся деятельности, ломку старых устоявшихся представлений, переход деятельности в новое качество. А это невозможно без анализа накопленного опыта. Учитель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должен уметь анализировать свою деятельность, но в первую очередь урок как основную ее форму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f0f6"/>
                </a:solidFill>
                <a:latin typeface="Cambria"/>
              </a:rPr>
              <a:t>Первое, что должен сделать учитель, анализирующий свой урок,—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его место в теме и в общем курсе</a:t>
            </a:r>
            <a:r>
              <a:rPr b="1" lang="ru-RU" sz="3200" spc="-1" strike="noStrike">
                <a:solidFill>
                  <a:srgbClr val="e8d19d"/>
                </a:solidFill>
                <a:latin typeface="Cambria"/>
              </a:rPr>
              <a:t>,</a:t>
            </a:r>
            <a:r>
              <a:rPr b="0" lang="ru-RU" sz="32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а также задать себе вопрос,</a:t>
            </a:r>
            <a:br>
              <a:rPr sz="3200"/>
            </a:b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насколько ясным стало это место для учащихся 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пытать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соотнести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поставленные цели урока для учащихся и для учителя с достигнутыми на уроке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и определить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ичины успеха или неудач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1" name="Заголовок 1" descr=""/>
          <p:cNvPicPr/>
          <p:nvPr/>
        </p:nvPicPr>
        <p:blipFill>
          <a:blip r:embed="rId2"/>
          <a:stretch/>
        </p:blipFill>
        <p:spPr>
          <a:xfrm>
            <a:off x="450720" y="12600"/>
            <a:ext cx="86328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57120" y="164628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уровень формирования на уроке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знаний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(логичность подачи материала, научность, доступность, трудность, нестандартность) и умений (соответствие путей формирования специальных умений общепринятым умениям, прочность отработанных умений, степень их автоматизм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4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тветить на вопрос, что нового дал данный урок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ля развития ума, памяти, внимания, умения слушать товарищей, высказывать свои мысли и отстаивать свою точку зрения, для формирования интереса к данному предмету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450720" y="12600"/>
            <a:ext cx="86328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64628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d19d"/>
                </a:solidFill>
                <a:latin typeface="Arial"/>
              </a:rPr>
              <a:t>5.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Подумать, насколько оптимально был выстроен урок.</a:t>
            </a:r>
            <a:r>
              <a:rPr b="0" lang="en-US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Соответствовал ли он вашим интересам, темпераменту, уровню учебной подготовки и развития учащихся, специфике класса? Адекватна ли была организация деятельности учащихся обучающим, развивающим и воспитывающим целям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2920" y="1646280"/>
            <a:ext cx="8786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пробовать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оценить степень активности учащихся на уроке.</a:t>
            </a:r>
            <a:r>
              <a:rPr b="0" lang="en-US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Сколько раз и кто из них выступал на уроке, почему молчали остальные, как стимулировалась их работа, насколько были продуманы их действия при подготовке к уроку, что из этою получилось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ри этом надо руководствоваться непреложным правилом недопустимости оценки личности ученика при оценке его работы, сравнения его с другими учащимися, данного класса с другими классами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0:44:04Z</dcterms:created>
  <dc:creator>rinat</dc:creator>
  <dc:description/>
  <dc:language>en-US</dc:language>
  <cp:lastModifiedBy>Роза Искандеровна Шаяхметова</cp:lastModifiedBy>
  <dcterms:modified xsi:type="dcterms:W3CDTF">2009-12-17T20:42:36Z</dcterms:modified>
  <cp:revision>21</cp:revision>
  <dc:subject/>
  <dc:title>Как анализировать свой собственный урок  (Самоанализ урока)</dc:title>
</cp:coreProperties>
</file>