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4934-0171-469C-ADA4-D4129867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D66B-56F9-4679-8705-6106C53A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D5EBF-D808-4894-9CE0-6502B3C6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703F9-B41C-4498-A8B6-82FBB2F7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5E04-5E85-405E-871D-18EB2E7A6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AE502-B97C-4DFE-88A5-0242953D1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0F91-6073-4F6B-A303-9BE979AE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4628-4B79-44DB-B5F4-91C97A30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B124-A96C-4A7A-A23B-819BD81C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A84E-23B2-4A50-86C9-4CEFA88B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B3A5F-A480-4879-8F6B-DFB3C641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D8DB-F25B-4AF6-8E93-F666757E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6FC1-73DF-4CFA-9B43-C07B7CC4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1BDA-F7A0-411F-B16A-C0FAFEC7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74CB-2E4D-4DF5-9BD1-B354193F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45A9-AF4E-45E8-8155-99EBFA1B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BEC1-8B7F-4D80-9985-648F415D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D511-CDC5-4835-997E-C3FB6FF6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A8503-4324-4AD6-9FA4-651D42D8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CFAF-370C-4F5A-B779-10D8BA8E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A22E-FD24-48D4-8237-9DDDF6A4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E458F-3811-4EA8-A89D-6D867365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2884-0E5A-4F07-B27D-4B6A0D66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EE39-5E1F-4ABD-A4D8-0F579BB7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42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2f"/>
                </a:gs>
                <a:gs pos="100000">
                  <a:srgbClr val="00007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F441-5561-40F8-A5ED-21578247ED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a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00004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000060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00006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7c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5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00004a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00004f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000070"/>
                </a:gs>
                <a:gs pos="100000">
                  <a:srgbClr val="0000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000057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000073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00008a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00003b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CCAD-9574-4C13-A16E-3E9368DD1F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136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Технология «Дебаты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7805520" cy="42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Умение говорить – это наикратчайший путь к известности … И почти каждый человек может говорить так, что будет приятен и желанен в обществе, если он обладает верой в себя и людей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. Карнег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6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Что развивают дебаты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64216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Логическое и критическое мыш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вык в организации своих мыс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вык устной ре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Эмпатию и терпимость к различным взгляд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веренность в себ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работать в команд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с концентрироваться на сути пробл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обретается навык публичного выступ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Способность успешно вести переговоры и спор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1374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Этапы действий  внутри группы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9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бсудить предложенную тему: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формировать список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ефиниций,  аргументов (7-10) с выделением (1-2) первостепенных и выводом- 10 минут;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отбор  спикеров для участия в дебатах (2 человека), подготовка их выступления – 5 мин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91640" y="284040"/>
            <a:ext cx="74883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Алгоритм выступления группы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ветствие слушател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ставление команды и самого себ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ступление (обоснование актуальности тем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ределение понятий (дефиниций) т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Аргументац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веты на вопрос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ключ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лагодарность за вним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хема проведения дебатов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бота в группе – 1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ступление представителей 1 групп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онструктивная реч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5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екрестные вопросы из аудитории и ответы на них – 4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ключительный спич – 1 м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ступление представителей 2 групп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удейство – 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ведение итогов – 5 ми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68000" y="277920"/>
            <a:ext cx="8218440" cy="40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4.12.1927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(81 год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- В Ленинграде при Публичной библиотеке создается фонотека для хранения граммофонных пластинок.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Должны ли сегодня храниться пластинки в библиотек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487188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48320" y="4871880"/>
            <a:ext cx="403848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4.12.1781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(227 лет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В Сореле (Квебек) зажжена первая в Канаде рождественская елка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песня о ёлке луч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8360" y="2715840"/>
            <a:ext cx="403848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аленькой елочке 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16000" y="2715840"/>
            <a:ext cx="403884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В лесу родилась ёлочка…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то внес больший вклад в литературу?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из поэтов, родившихся 24 декабр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уан Рамон ХИМЕНЕС (1881-29.5.1958)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(127 лет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испанский поэт, Нобелевский лауреат 1956 го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умник ИВАНОВ (1878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130 лет)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 русский поэт, революционер, идеолог левых эсер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9:27:18Z</dcterms:created>
  <dc:creator>2</dc:creator>
  <dc:description/>
  <dc:language>en-US</dc:language>
  <cp:lastModifiedBy>Администратор</cp:lastModifiedBy>
  <dcterms:modified xsi:type="dcterms:W3CDTF">2008-12-24T04:50:49Z</dcterms:modified>
  <cp:revision>49</cp:revision>
  <dc:subject/>
  <dc:title>Формы организации методической работы в ИКТ-насыщенной школе.</dc:title>
</cp:coreProperties>
</file>