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2913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B65E3-0C45-4F9C-A00B-BDDB1CD73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EABEA-934B-4E65-A11F-A9101FF93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0A5E1-196D-4DC6-A252-160F4C587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F3C55-FF30-4D97-B9C7-FADE3BD6B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C6014-969C-4E23-9C16-405FEA2CF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94F7A-86DA-4A24-AC29-07C3BF4F5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01A35-676B-484F-B214-1DD96CBBB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AF9C5-3CC5-4D6A-BCC1-0D636ECBA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1F7C0-B507-43E7-90B3-D9C242858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85D2F-6714-4FF5-84F7-E7EF37021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CCD04-1489-4973-8022-AF7C40FD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C57EE-BBF4-4000-8E61-E382793A5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4D491-216A-4E6D-8B12-42779042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9A64A-9D13-4E96-88E3-123B1F10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DE2A9-AF6E-4ACF-9FFC-68B4E8137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01F67-3E5B-4099-99C5-B6172DC30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A7DCC-FEF6-43E9-9857-6F2BF5B07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33840-51C6-4957-AC5E-6FE48A88F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04996-7022-4B5F-96B4-0598EC545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A8B03-0754-48C3-950C-A467FAF5F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89EEB-1099-4DC9-9F4D-EE26DD4D6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7EF5E-8192-4798-9744-007E8531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B942B-328B-4D07-83D0-D93C9424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05330-6589-4179-8A9F-0BF10263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00002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00004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000060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000060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000057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00004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00002f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00002f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00002f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002f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46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46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00002f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092AD-FF17-49F6-BFF4-276C216536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00002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00004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000060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000060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000057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00004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00003b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00003b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00003b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003b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57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57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00003b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A36A4-B26C-4632-9BC8-0D958F24493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68360" y="2205000"/>
            <a:ext cx="8136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Технология «Дебаты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780552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Умение говорить – это наикратчайший путь к известности … И почти каждый человек может говорить так, что будет приятен и желанен в обществе, если он обладает верой в себя и людей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Д. Карнег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6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Что развивают дебаты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42160" cy="50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Логическое и критическое мышле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Навык в организации своих мысл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Навык устной реч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Эмпатию и терпимость к различным взгляда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Уверенность в себ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пособность работать в команд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пособность с концентрироваться на сути проблем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риобретается навык публичного выступл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пособность успешно вести переговоры и спори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1374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Этапы действий  внутри группы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4960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Обсудить предложенную тему: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сформировать список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дефиниций,  аргументов (7-10) с выделением (1-2) первостепенных и выводом- 10 минут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отбор  спикеров для участия в дебатах (2 человека), подготовка их выступления – 5 мин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91640" y="284040"/>
            <a:ext cx="74883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Алгоритм выступления группы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иветствие слушател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едставление команды и самого себ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ступление (обоснование актуальности темы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пределение понятий (дефиниций) тем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Аргументац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тветы на вопрос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Заключе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Благодарность за внима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хема проведения дебатов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Работа в группе – 15 ми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ыступление представителей 1 групп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онструктивная речь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5 ми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ерекрестные вопросы из аудитории и ответы на них – 4 ми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заключительный спич – 1 ми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ыступление представителей 2 групп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удейство – 5 ми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дведение итогов – 5 ми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68000" y="277920"/>
            <a:ext cx="8218440" cy="40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4.12.1927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(81 год)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- В Ленинграде при Публичной библиотеке создается фонотека для хранения граммофонных пластинок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Должны ли сегодня храниться пластинки в библиотек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4871880"/>
            <a:ext cx="403848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48320" y="4871880"/>
            <a:ext cx="403848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9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4.12.1781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227 лет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В Сореле (Квебек) зажжена первая в Канаде рождественская елка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ая песня о ёлке лучш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68360" y="2715840"/>
            <a:ext cx="40384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«Маленькой елочке …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716000" y="2715840"/>
            <a:ext cx="403884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«В лесу родилась ёлочка…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то внес больший вклад в литературу?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из поэтов, родившихся 24 декабря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уан Рамон ХИМЕНЕС (1881-29.5.1958)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(127 лет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- испанский поэт, Нобелевский лауреат 1956 год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зумник ИВАНОВ (1878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(130 лет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русский поэт, революционер, идеолог левых эсер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09:27:18Z</dcterms:created>
  <dc:creator>2</dc:creator>
  <dc:description/>
  <dc:language>en-US</dc:language>
  <cp:lastModifiedBy>Администратор</cp:lastModifiedBy>
  <dcterms:modified xsi:type="dcterms:W3CDTF">2008-12-24T04:50:49Z</dcterms:modified>
  <cp:revision>49</cp:revision>
  <dc:subject/>
  <dc:title>Формы организации методической работы в ИКТ-насыщенной школе.</dc:title>
</cp:coreProperties>
</file>