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58B8-4D80-4A26-962C-95BDF609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C74F-2863-435B-9DDF-CDF9C93B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3205-0EB9-468C-A7C8-82DC573E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8319-344C-4284-A54B-92921124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F78A-98AA-4395-8666-52A9BA9A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C4D5-B272-4B3A-B079-291C833F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CDE0-8262-42E7-AC9B-53D3D512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122B-50D0-4339-ADD3-FBDF2B48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1D68-EE8D-409A-A390-477C1C88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5F92-C636-4405-8CAD-313E3E22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6947-6D8A-4804-8F05-879DBA64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4332-BC25-455F-89BC-C5F8719E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A71C-B299-4656-B06E-E831350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62F8-A6B7-4C8A-B42C-18C8EF33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597F-1844-4F93-A348-DC628A2D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C31D-8D86-48EE-9FA4-C06DD88B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89E6-BCBA-4723-A45D-84DEAB25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A2C3-F425-4579-94EA-894C90B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351D-85DA-45C3-B15C-4D5463F5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A9EE-70F7-43F2-8854-C861009E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4BC5-00CE-4AFC-91DD-F4CDF353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43250-36DA-4D1B-A0B1-64DFF924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929C-6B09-49E4-B6D4-5955A972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A9EF-5DC4-4549-9035-ADDDEE6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1441-D166-4F28-993C-0A85303E6F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0830-CE51-4AD7-A2D6-03D91681E5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13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хнология «Дебаты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8055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мение говорить – это наикратчайший путь к известности … И почти каждый человек может говорить так, что будет приятен и желанен в обществе, если он обладает верой в себя и людей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. Карне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развивают деба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огическое и критическое 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в организации своих мыс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уст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мпатию и терпимость к различным взгляд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ренность в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работать в коман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с концентрироваться на сути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обретается навык публичного вы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успешно вести переговоры и спо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Этапы действий  внутри груп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судить предложенную тему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списо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финиций,  аргументов (7-10) с выделением (1-2) первостепенных и выводом- 10 минут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бор  спикеров для участия в дебатах (2 человека), подготовка их выступления – 5 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91640" y="284040"/>
            <a:ext cx="7488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лгоритм выступления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ветствие слуша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ение команды и самого себ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упление (обоснование актуальности тем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нятий (дефиниций) т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ргумента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веты на вопро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лю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дарность за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проведения дебат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в группе – 1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1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руктивная реч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5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рестные вопросы из аудитории и ответы на них – 4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ительный спич – 1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2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действо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итогов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4.12.1927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81 год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В Ленинграде при Публичной библиотеке создается фонотека для хранения граммофонных пластинок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лжны ли сегодня храниться пластинки в библиоте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4832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12.1781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227 лет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В Сореле (Квебек) зажжена первая в Канаде рождественская елк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песня о ёлке луч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7158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ленькой елочк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6000" y="2715840"/>
            <a:ext cx="4038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 лесу родилась ёлочк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внес больший вклад в литературу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з поэтов, родившихся 24 декабр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ан Рамон ХИМЕНЕС (1881-29.5.1958)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127 лет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испанский поэт, Нобелевский лауреат 195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ник ИВАНОВ (187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130 ле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русский поэт, революционер, идеолог левых эсе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9:27:18Z</dcterms:created>
  <dc:creator>2</dc:creator>
  <dc:description/>
  <dc:language>en-US</dc:language>
  <cp:lastModifiedBy>Администратор</cp:lastModifiedBy>
  <dcterms:modified xsi:type="dcterms:W3CDTF">2008-12-24T04:50:49Z</dcterms:modified>
  <cp:revision>49</cp:revision>
  <dc:subject/>
  <dc:title>Формы организации методической работы в ИКТ-насыщенной школе.</dc:title>
</cp:coreProperties>
</file>