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291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FD8CD-F9D3-4730-9111-C8C40FE1D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81A28-11DC-4B20-9B4A-3523B5C9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6AA17-C1C1-443D-81A0-F4A5050F4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143D6-3367-4E29-A405-C02D8078C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0BB1D-0BCF-4152-B197-F424B6E6E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A455C-07A7-48EF-9885-8A627BCBB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F9F8E-66F3-4736-A4C4-6790054E1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ECBBF-7749-40C8-9DEB-D8831A036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81726-3E4C-4723-8D7A-E54BDD9A5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522D6-4C83-431E-8F7D-31B652E52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60082-5975-44AC-B697-6EE5FDF2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F01A8-35BC-4487-AAB4-7CC032045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5CB42-E1E8-4276-8A3C-B8791C3E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53660-3511-470C-8956-8D2E880E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281F9-9756-4E2F-AC04-1F26A3B3C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7BA71-EE40-4601-80C1-A123C3D60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75D2B-50E8-4418-BBE1-FA3599D3D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D5490-E1AA-479A-81FF-602B06CBB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077AE-C2A0-4C84-A411-86963EC0B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8FC50-4888-4CC0-AC51-D60E2F5C3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E4FFA-1E75-42DF-9481-28B632C16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7F9E0-805B-45B3-B7E8-218CE800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F13CA-D5D2-4853-B782-57C34B9B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4A8DB-F6C3-4D70-B979-DD71F311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00002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00004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000060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000060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000057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00002f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00002f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00002f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002f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46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46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00002f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459DF-9288-417B-9651-961B8C4B8C7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00002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00004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000060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000060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000057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00003b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00003b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00003b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003b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57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57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00003b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BE22F-C262-4A11-9787-2DB8A5AE02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68360" y="2205000"/>
            <a:ext cx="8136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Технология «Дебаты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780552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Умение говорить – это наикратчайший путь к известности … И почти каждый человек может говорить так, что будет приятен и желанен в обществе, если он обладает верой в себя и людей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Д. Карнег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6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Что развивают дебаты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42160" cy="50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Логическое и критическое мышле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Навык в организации своих мысл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Навык устной реч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Эмпатию и терпимость к различным взгляда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Уверенность в себ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пособность работать в команд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пособность с концентрироваться на сути проблем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риобретается навык публичного выступл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пособность успешно вести переговоры и спори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1374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Этапы действий  внутри группы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4960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Обсудить предложенную тему: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сформировать список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дефиниций,  аргументов (7-10) с выделением (1-2) первостепенных и выводом- 10 минут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отбор  спикеров для участия в дебатах (2 человека), подготовка их выступления – 5 мин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91640" y="284040"/>
            <a:ext cx="74883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Алгоритм выступления группы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иветствие слушател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едставление команды и самого себ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ступление (обоснование актуальности темы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пределение понятий (дефиниций) тем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Аргументац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тветы на вопрос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Заключе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Благодарность за внима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хема проведения дебатов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Работа в группе – 15 ми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ыступление представителей 1 групп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нструктивная речь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5 ми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ерекрестные вопросы из аудитории и ответы на них – 4 ми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аключительный спич – 1 ми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ыступление представителей 2 групп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удейство – 5 ми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дведение итогов – 5 ми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68000" y="277920"/>
            <a:ext cx="8218440" cy="40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4.12.1927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(81 год)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- В Ленинграде при Публичной библиотеке создается фонотека для хранения граммофонных пластинок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Должны ли сегодня храниться пластинки в библиотек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4871880"/>
            <a:ext cx="403848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48320" y="4871880"/>
            <a:ext cx="403848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9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4.12.1781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227 лет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В Сореле (Квебек) зажжена первая в Канаде рождественская елка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ая песня о ёлке лучш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68360" y="2715840"/>
            <a:ext cx="40384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«Маленькой елочке 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716000" y="2715840"/>
            <a:ext cx="403884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«В лесу родилась ёлочка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то внес больший вклад в литературу?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из поэтов, родившихся 24 декабря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уан Рамон ХИМЕНЕС (1881-29.5.1958)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(127 лет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- испанский поэт, Нобелевский лауреат 1956 год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зумник ИВАНОВ (1878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(130 лет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русский поэт, революционер, идеолог левых эсер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09:27:18Z</dcterms:created>
  <dc:creator>2</dc:creator>
  <dc:description/>
  <dc:language>en-US</dc:language>
  <cp:lastModifiedBy>Администратор</cp:lastModifiedBy>
  <dcterms:modified xsi:type="dcterms:W3CDTF">2008-12-24T04:50:49Z</dcterms:modified>
  <cp:revision>49</cp:revision>
  <dc:subject/>
  <dc:title>Формы организации методической работы в ИКТ-насыщенной школе.</dc:title>
</cp:coreProperties>
</file>