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B6F76-7078-4767-94B3-41B06D77F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F5C8E-B908-4035-A647-29296498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1DEF4-DEEA-4E5D-A6D6-780AAEDAA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0312D-A95E-4E89-A546-40F761AB2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4E4D-C3E9-443B-B312-D0C9C4348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8A10-6D4D-4FC9-8815-79C79620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78F20-E508-446E-932B-0953F2CC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CCE8-3AFA-4445-88F1-949B1C1E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1F5D-1B13-46FB-85BB-5E835343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6601-0978-4F18-91FF-D8C2E58E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4984-F078-4888-9EBB-88177D43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96D09-BD39-4739-91AB-81BF5E53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68BE-C749-4651-A021-F5B30A8E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FFBD-6D8E-4A45-9512-7FE1C284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5337-DE78-472C-93E9-7E0AA590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3A5D-B46D-4A05-B3A1-763FEB101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8889-DDBA-4A10-93E2-EADFCD12C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4D2AC-885F-4A8E-A6D2-75A8EF05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1AE89-4EB1-4288-88E3-3240C64F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B8225-4DD6-4F51-B706-54F90836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5D507-C224-47DA-B370-5B5B5079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B5DDC-8983-423B-8A18-A588BC63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45493-8F58-4E4C-956A-E993557B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E982A-F0DD-4266-A049-2BFABC6F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00004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00006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00006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000057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8ACD-C2AA-46F4-8709-F56B7E2B3A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00004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00006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00006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000057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00003b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00003b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003b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3b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57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57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00003b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D77F-4101-4815-AA27-59E6C51813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2205000"/>
            <a:ext cx="8136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Технология «Дебаты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780552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Умение говорить – это наикратчайший путь к известности … И почти каждый человек может говорить так, что будет приятен и желанен в обществе, если он обладает верой в себя и людей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. Карнег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6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Что развивают дебаты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42160" cy="50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Логическое и критическое мышл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авык в организации своих мысл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авык устной реч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Эмпатию и терпимость к различным взгляда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Уверенность в себ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пособность работать в команд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пособность с концентрироваться на сути проблем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обретается навык публичного выступл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пособность успешно вести переговоры и спор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1374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Этапы действий  внутри группы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960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Обсудить предложенную тему: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формировать список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дефиниций,  аргументов (7-10) с выделением (1-2) первостепенных и выводом- 10 минут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отбор  спикеров для участия в дебатах (2 человека), подготовка их выступления – 5 мин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91640" y="284040"/>
            <a:ext cx="74883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Алгоритм выступления групп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иветствие слушател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едставление команды и самого себ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ступление (обоснование актуальности темы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пределение понятий (дефиниций) тем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Аргументац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тветы на вопрос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ключ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лагодарность за вним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хема проведения дебатов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абота в группе – 15 м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ыступление представителей 1 групп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нструктивная реч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5 м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ерекрестные вопросы из аудитории и ответы на них – 4 м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ключительный спич – 1 м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ыступление представителей 2 групп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удейство – 5 м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дведение итогов – 5 м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40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4.12.1927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(81 год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- В Ленинграде при Публичной библиотеке создается фонотека для хранения граммофонных пластинок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олжны ли сегодня храниться пластинки в библиотек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4871880"/>
            <a:ext cx="403848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48320" y="4871880"/>
            <a:ext cx="403848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4.12.1781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227 лет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В Сореле (Квебек) зажжена первая в Канаде рождественская елка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ая песня о ёлке лучш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68360" y="2715840"/>
            <a:ext cx="40384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Маленькой елочке 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16000" y="2715840"/>
            <a:ext cx="403884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В лесу родилась ёлочка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то внес больший вклад в литературу?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из поэтов, родившихся 24 декабр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уан Рамон ХИМЕНЕС (1881-29.5.1958)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(127 лет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испанский поэт, Нобелевский лауреат 1956 год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умник ИВАНОВ (1878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(130 лет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русский поэт, революционер, идеолог левых эсер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09:27:18Z</dcterms:created>
  <dc:creator>2</dc:creator>
  <dc:description/>
  <dc:language>en-US</dc:language>
  <cp:lastModifiedBy>Администратор</cp:lastModifiedBy>
  <dcterms:modified xsi:type="dcterms:W3CDTF">2008-12-24T04:50:49Z</dcterms:modified>
  <cp:revision>49</cp:revision>
  <dc:subject/>
  <dc:title>Формы организации методической работы в ИКТ-насыщенной школе.</dc:title>
</cp:coreProperties>
</file>