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C8727-D531-44B0-86C7-3E6E70C05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65005-4D25-497B-8DB4-C2E5C392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77286-4CF4-4C71-81D2-FF86E588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C0A94-7305-40F2-B907-A64C208E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67E6-EF82-4303-9751-DFEE023E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3AF2-4596-4265-BD52-BB4505B2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3323-F14D-4836-896C-1D35F6D3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0463-B2A0-4887-A932-2A0F0288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B455-744E-4290-A5DB-AE62EE6F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41DE-6408-4869-A28D-6A051528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8E27-90FE-4BF8-8155-7B8382FF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A567-E1BB-497C-BC9C-81FD95B7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A7A0-38A8-45A7-933A-7958D444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F180-EFAD-43B1-BCE0-4864BD16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6E37-358D-4A65-B69C-D3E9A7E0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461E-58AA-454C-8FAE-A9244C556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4DAE-48FC-4C54-8157-FDF40A18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E5EFC-4510-4944-9E25-E597D6FC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6C2D7-DC5D-4D3D-B4AD-47C9D3D3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22E9-1042-482B-9C8F-5A16DEE4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F95D0-B9A1-4115-95B8-FABAC954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FB4E5-7406-4A68-BAA4-60E1E4EC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611FC-EE00-4C27-9BC3-5D11B328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BFB70-8757-41DD-B2B1-0F35BB69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00004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AC79-9C11-48DC-92DE-BE1D896E2D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00004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2334-BEC2-4903-9602-1EDBF5C6F0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8136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Технология «Дебаты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780552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Умение говорить – это наикратчайший путь к известности … И почти каждый человек может говорить так, что будет приятен и желанен в обществе, если он обладает верой в себя и людей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. Карнег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6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Что развивают дебат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огическое и критическое мышл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вык в организации своих мыс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вык устной реч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Эмпатию и терпимость к различным взгляда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Уверенность в себ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пособность работать в команд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пособность с концентрироваться на сути пробле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обретается навык публичного выступл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пособность успешно вести переговоры и спор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74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Этапы действий  внутри групп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бсудить предложенную тему: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формировать список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ефиниций,  аргументов (7-10) с выделением (1-2) первостепенных и выводом- 10 минут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тбор  спикеров для участия в дебатах (2 человека), подготовка их выступления – 5 мин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91640" y="284040"/>
            <a:ext cx="74883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Алгоритм выступления групп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ветствие слушате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едставление команды и самого себ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ступление (обоснование актуальности темы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пределение понятий (дефиниций) те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ргументац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тветы на вопрос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ключ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лагодарность за вним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хема проведения дебатов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бота в группе – 15 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ступление представителей 1 групп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структивная реч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5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рекрестные вопросы из аудитории и ответы на них – 4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ключительный спич – 1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ступление представителей 2 групп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удейство – 5 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дведение итогов – 5 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40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4.12.1927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(81 год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- В Ленинграде при Публичной библиотеке создается фонотека для хранения граммофонных пластинок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лжны ли сегодня храниться пластинки в библиотек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4871880"/>
            <a:ext cx="4038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48320" y="4871880"/>
            <a:ext cx="4038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4.12.1781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227 лет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В Сореле (Квебек) зажжена первая в Канаде рождественская елка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ая песня о ёлке лучш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8360" y="2715840"/>
            <a:ext cx="40384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Маленькой елочке 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16000" y="2715840"/>
            <a:ext cx="403884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В лесу родилась ёлочка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то внес больший вклад в литературу?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из поэтов, родившихся 24 декабр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уан Рамон ХИМЕНЕС (1881-29.5.1958)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(127 лет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испанский поэт, Нобелевский лауреат 1956 го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умник ИВАНОВ (1878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130 лет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русский поэт, революционер, идеолог левых эсер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9:27:18Z</dcterms:created>
  <dc:creator>2</dc:creator>
  <dc:description/>
  <dc:language>en-US</dc:language>
  <cp:lastModifiedBy>Администратор</cp:lastModifiedBy>
  <dcterms:modified xsi:type="dcterms:W3CDTF">2008-12-24T04:50:49Z</dcterms:modified>
  <cp:revision>49</cp:revision>
  <dc:subject/>
  <dc:title>Формы организации методической работы в ИКТ-насыщенной школе.</dc:title>
</cp:coreProperties>
</file>