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C8C-99EA-4343-8AA3-A75701CC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270-366B-420E-B189-30C7DD22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16D7-82AD-44D7-BE47-8A281C88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24E7-FC2C-46F6-A507-A50468F4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3D8F-6962-4D03-895D-D38C9486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4010-CD88-4221-B32A-9A1B582C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F5F5-87E8-48A8-B4F4-12F11012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A5D5-7D64-4AAF-A378-2F26EC43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B57C-B93D-4EDE-BA19-8134E939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610F-CFCF-480B-8718-71F3AB81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2124-6045-403A-B7BA-C068E608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039D-DBD1-42CF-A7F4-75F9D8AB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87AC-8764-405F-ADC8-B0EC2E96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2776-8DE5-491D-A0B7-5CC0D13F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942B-EBB8-4848-8A36-D10EE5FC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3E1F-C146-439E-B725-C4F59A66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56DD-2025-4EE4-89EB-33AF93EB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1363-0709-4AA5-8718-A654AF02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30E2-A14F-4D03-8385-8002DB5D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CBA-9104-49BA-808C-2D3AFCB3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AAB-A39E-4F3F-8901-EBDD058B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C30-184F-4F6E-A0B9-FC6B398F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7A4-3CB3-4DBD-BF8F-1AD93A87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2C35-3029-444E-BC73-14EDF781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94F0-DFC9-4AA1-A399-4DEC50B1196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3030-0AB0-4F5E-8234-F1B7533671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аучно-методическое обеспечение концептуальной модели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«Школа методического мастерства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733920" y="480060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Сомова Лариса Владимировна, заведующая информационно-методическим отдело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ородского методического центра по Советскому район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Единая методическая тема района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 2010 – 2015 г.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ринципы выбора единой методической тем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ктуальность темы, значимость для системы образов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реемственность (с предыдущей темой ОУ, с нынешней темой райо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рспективность тем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правляе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иагностич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истем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есурсообеспеч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Как выбрать единую методическую тему ОУ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аботы ОУ по предыдущей теме, выявление проблем образования в О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условий (статус ОУ, цели, задачи ОУ, характеристика контингента учащихся, перспективное планирование т.д.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ализ ресурсов (кадровые, материально-технические, информационные и другие ресурс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18288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1828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0132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Формы организации методической работы над единой темо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Анкетирование учителей для деятельного осмысления целей предстоящей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оздание творческих и проблемных групп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роведение методических недель по единой научно-методической 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абота временных инициативных групп по подготовке к педагогическим и методическим советам, семинара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Самообраз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пытно-экспериментальная раб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онсультирование, анкетирова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 уч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ПК учителей, учащих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ворческие отчеты учителе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ffcc"/>
                </a:solidFill>
                <a:latin typeface="Tahoma"/>
              </a:rPr>
              <a:t>Алгоритм деятельности педагогического коллектива по реализации методической тем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нализ психолого-педагогической литературы по методической теме образовательного учрежд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я педагогического опыта коллектива по подготовке к реализации методической темы (диагностика, выявление проблемных зо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струирование модели реализации методической темы (определение подтем каждого этапа, задач, программы реализации тем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аботка содержания образовательной среды, создание банка валидных диагност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пробация и корректировка иде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едрение в массовую практи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исание передового педагогического опы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Нормативно-правовое обеспечение деятельности методической службы ОУ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кон РФ «Об образовании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Типовое положение об общеобразовательном учрежд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каз Министерства образования РФ №90-М от 16.08.94 (определяет содержательную сферу методической работы в различных областях деятельност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став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ограмма развития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разовательная программа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Годовой план О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Локальные акты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педагог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сове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методическом объедин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творческой группе учи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ложение о научно-практической конференции и друг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16600" y="38088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Маркетин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образовательных услу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07200" y="2895480"/>
            <a:ext cx="225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Управленческо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оординацион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фун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1143000"/>
            <a:ext cx="4876920" cy="0"/>
          </a:xfrm>
          <a:prstGeom prst="line">
            <a:avLst/>
          </a:prstGeom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1143000"/>
            <a:ext cx="0" cy="11430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1320" y="39625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943600" y="29718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49568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95840" y="1219320"/>
            <a:ext cx="175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налит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98720" y="137160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ормиру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76680" y="2133720"/>
            <a:ext cx="12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Информ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01360" y="2057400"/>
            <a:ext cx="16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Диагностик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аттест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68800" y="335268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Проектирово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конструктив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28680" y="480060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Учеб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81120" y="54100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Науч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метод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6040" y="51055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Внедрен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920" y="3276720"/>
            <a:ext cx="188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соци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сихологичес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6172200"/>
            <a:ext cx="3200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Функциональн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Функции методической служб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форм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беспечение педагогов профессиональной информаци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налит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диагностика и анализ учебно-воспитательного процесс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ормирующа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(помощь, участие в разработке инновационных программ, методик, учебно-методических комплект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агностико-аттестацион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выявление, поддержка и распространение управленческого и педагогического опы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оектировочно-конструктивн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проектирование индивидуальной траектории профессионального развития педагог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чеб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методическое сопровождение предметных областе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учно-метод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научно-исследовательской работы ОУ, поддержка экспериментальной работы педагог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недрен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тбор, внедрение и тиражирование педагогических материалов; организация и проведение семинаров, конференций, практикум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ункция социально-педагогической поддерж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организация индивидуального консультирования и профессиональной поддержки педагогов; повышения квалификации педагогических кадров; помощь в проведении профессиональных конкурсов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владения педагогическими знания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педагогами современных педагогических технологий, методик, приемов и способов успешного обучения и воспитан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ривитие у учителей интереса, потребности к формированию и совершенствованию умения заниматься творческой педагогической деятельностью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вышение уровня педагогического мастерства, в том числе педагогической техник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здание условий и выработка у педагогов потребности в самообразован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рмирование и развитие устойчивых профессиональных взглядов и ценност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зучение и использование на практике современных способов диагностирования ученической успешности, методик воспитания, саморазвития, самосовершенствования, самореализац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ддержка и сопровождение педагогов, разрабатывающих и реализующих авторские программы, курсы, методики, пособи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Задачи методической работы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нформационное обеспечение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недрение в практику работы с учащимися и педагогами научной организации труда (НОТ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и поддержка созидательной, конструктивной педагогической среды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 и поддержка экспериментальной и инновационной деятельност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пользование разнообразных стимулов, способов и организационных решений для повышения квалификации педагог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здание условий для зарождения, развития, объективной оценки и широкого использования ценностного педагогического опы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рганизация, стимулирование, содействие общественно-педагогической деятельности педагог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0"/>
            <a:ext cx="6934320" cy="65530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12600" y="38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286000"/>
            <a:ext cx="2514600" cy="228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32200" y="2666880"/>
            <a:ext cx="182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лов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успеш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ущест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методическ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11430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15000" y="1143000"/>
            <a:ext cx="144792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1143000"/>
            <a:ext cx="1524240" cy="1523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0"/>
            <a:ext cx="0" cy="22096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962520" y="4572000"/>
            <a:ext cx="457200" cy="2057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4191120"/>
            <a:ext cx="1981080" cy="9144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867280" y="2743200"/>
            <a:ext cx="2057400" cy="38088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4648320"/>
            <a:ext cx="1143000" cy="182880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057040" y="4114800"/>
            <a:ext cx="1600200" cy="144792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143000" y="3200400"/>
            <a:ext cx="2286000" cy="0"/>
          </a:xfrm>
          <a:prstGeom prst="line">
            <a:avLst/>
          </a:prstGeom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914400"/>
            <a:ext cx="181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блемно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иагностическ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хо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64240" y="838080"/>
            <a:ext cx="155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рганизация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спех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0280" y="2157480"/>
            <a:ext cx="193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управленчес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действ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88120" y="2081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Встреч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лан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3124080"/>
            <a:ext cx="198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Стимулирование в процесс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работы и по результатам е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99"/>
                </a:solidFill>
                <a:latin typeface="Times New Roman"/>
              </a:rPr>
              <a:t>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4724280"/>
            <a:ext cx="1895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Использова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преимущ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микрогруппов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99"/>
                </a:solidFill>
                <a:latin typeface="Times New Roman"/>
              </a:rPr>
              <a:t>раб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7680" y="5257800"/>
            <a:ext cx="1846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сурс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еспеч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образовательн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це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7040" y="5129280"/>
            <a:ext cx="171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Индивидуа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оектир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31440" y="3300480"/>
            <a:ext cx="160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Реализац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ринцип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едагогическ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поддерж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172200"/>
            <a:ext cx="3200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учно-методическое обеспечение мод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иагностический, _____/___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447920"/>
            <a:ext cx="274320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нализ затруднений учителе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стояния УВП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тиворечий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уждающихся в ликвид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1523880"/>
            <a:ext cx="28195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явление проблемы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обоснование ее актуа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грамма реализации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19051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581280"/>
            <a:ext cx="2819520" cy="2590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учение коллективом теор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блемы на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едсовет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етод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ове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аседаниях М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еминар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их оператив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индивидуальной и группов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боте с учи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работе по самообразова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еоретическое исследование проблемы, ____/____ 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6483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3962520"/>
            <a:ext cx="274320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копление теорет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 по еди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етодической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ланирование работы по реализации единой методической темы (этапы работы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актическое исследование проблемы, _____/____ учебный го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447920"/>
            <a:ext cx="3200400" cy="19810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 целью практ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правленности этой работ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водятс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матические педсов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еминары-практику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крытые уроки, внекласс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роприятия,взаимопосещ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ро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1523880"/>
            <a:ext cx="2819520" cy="1828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вершенствование учебн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спитательного процесс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рмирование ППО в рам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колы по теме (проблем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2362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495680"/>
            <a:ext cx="3276720" cy="15242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учно-практическа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нференц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ступления с самообобщение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ыта рабо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ворческие отче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дагогические выстав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581280"/>
            <a:ext cx="636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ведение итогов работы по проблеме, пропаганда ППО, ____/_____учебный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51814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4495680"/>
            <a:ext cx="2743200" cy="14479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стематизация накоплен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териа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ние педагогиче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льманаха по проблем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риса Сомова</cp:lastModifiedBy>
  <dcterms:modified xsi:type="dcterms:W3CDTF">2010-10-26T20:58:55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