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407-BA50-4E28-9319-2C34C026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4795-C15F-4AF6-A93C-F3469A30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6A4-535D-4AA8-8353-036A60BF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4B55-7889-44F6-8713-8A530A33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1A79-0C26-46FB-A168-A4F16309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0A71-FECB-4AF9-83A9-28C1E6F4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E4F8-DFC7-4871-A56F-391E31D2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9D64-5232-41B9-BD9F-2274F426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DC6F-F0A0-47BF-9F91-4898A186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14B7-0CAD-411E-B78A-C828C400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7F0C-C2BB-4CD7-9D08-D36095BA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5C26-728B-4B6A-82D1-5B3B6553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97EA-0E75-4C96-8B17-8EFA4F69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CABD-CA3F-4914-8DE1-B4EBBF1C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B36B-D442-4CE3-81F6-9D550B01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D138-8CA5-4BFA-84D8-1902C4AD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3071-DA77-4A86-94E1-BC989282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531-DAA1-485F-84C2-8B569EA9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26E7-CA65-493D-97C9-92EFF7D8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BEAF-8BEA-4AB2-87DC-D77C5C11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575D-79ED-494E-B786-2C222305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924-B679-4C21-A8B6-B7B3FEF8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04E3-CDBF-41BE-BFB9-7AB7435A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0B69-BCEB-4C0F-8D16-069AE15A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206A-8163-4DDA-80D0-90A7C27670F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45A2-A920-444D-9253-94772956A6A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Научно-методическое обеспечение концептуальной модели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Школа методического мастерств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733920" y="4800600"/>
            <a:ext cx="4952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омова Лариса Владимировна, заведующая информационно-методическим отдело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ородского методического центра по Советскому район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Единая методическая тема района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на 2010 – 2015 г.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ринципы выбора единой методической тем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ктуальность темы, значимость для системы образов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емственность (с предыдущей темой ОУ, с нынешней темой райо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ерспективность т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правляе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иагностич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истем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сурсообеспечен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Как выбрать единую методическую тему ОУ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работы ОУ по предыдущей теме, выявление проблем образования в О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условий (статус ОУ, цели, задачи ОУ, характеристика контингента учащихся, перспективное планирование т.д.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ресурсов (кадровые, материально-технические, информационные и другие ресурс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18288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1828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Формы организации методической работы над единой темо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кетирование учителей для деятельного осмысления целей предстоящей раб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оздание творческих и проблемных груп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ведение методических недель по единой научно-методической 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бота временных инициативных групп по подготовке к педагогическим и методическим советам, семинар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амообраз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ытно-экспериментальная рабо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онсультирование, анкетир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 уч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ПК учителей, учащих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ворческие отчеты учител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Tahoma"/>
              </a:rPr>
              <a:t>Алгоритм деятельности педагогического коллектива по реализации методической темы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ализ психолого-педагогической литературы по методической теме образовательного учреж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ния педагогического опыта коллектива по подготовке к реализации методической темы (диагностика, выявление проблемных зон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струирование модели реализации методической темы (определение подтем каждого этапа, задач, программы реализации темы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работка содержания образовательной среды, создание банка валидных диагност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пробация и корректировка иде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дрение в массовую практи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ние передового педагогического опы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Нормативно-правовое обеспечение деятельности методической службы ОУ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кон РФ «Об образовани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иповое положение об общеобразовательном учрежд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иказ Министерства образования РФ №90-М от 16.08.94 (определяет содержательную сферу методической работы в различных областях деятельност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став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грамма развития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разовательная программа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одовой план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Локальные акт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педагогическом сове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методическом сове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методическом объедин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творческой группе учите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научно-практической конференции и друг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0"/>
            <a:ext cx="6934320" cy="655308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16600" y="38088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Маркетин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образовательных услу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286000"/>
            <a:ext cx="2514600" cy="228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07200" y="2895480"/>
            <a:ext cx="225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правленческ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ординацион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функ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1143000"/>
            <a:ext cx="4876920" cy="0"/>
          </a:xfrm>
          <a:prstGeom prst="line">
            <a:avLst/>
          </a:prstGeom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11430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715000" y="1143000"/>
            <a:ext cx="144792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1143000"/>
            <a:ext cx="152424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143000"/>
            <a:ext cx="0" cy="11430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962520" y="4572000"/>
            <a:ext cx="457200" cy="2057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3962520"/>
            <a:ext cx="1981080" cy="914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943600" y="2971800"/>
            <a:ext cx="2057400" cy="380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495680"/>
            <a:ext cx="1143000" cy="18288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57040" y="4114800"/>
            <a:ext cx="1600200" cy="144792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143000" y="3200400"/>
            <a:ext cx="2286000" cy="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5840" y="121932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Диагностик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аналит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98720" y="13716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Формирую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76680" y="2133720"/>
            <a:ext cx="12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Информ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цио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01360" y="2057400"/>
            <a:ext cx="16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Диагностик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аттест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цио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68800" y="335268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Проектировоч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конструк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8680" y="480060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Учеб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1120" y="541008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Науч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6040" y="5105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Внедрен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4920" y="3276720"/>
            <a:ext cx="188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социаль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психологиче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поддерж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6172200"/>
            <a:ext cx="3200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ункциональн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Функции методической служб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нформацион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беспечение педагогов профессиональной информацие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агностико-аналит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диагностика и анализ учебно-воспитательного процесс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ормирующа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помощь, участие в разработке инновационных программ, методик, учебно-методических комплект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агностико-аттестацион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выявление, поддержка и распространение управленческого и педагогического опыт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ектировочно-конструктив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проектирование индивидуальной траектории профессионального развития педагога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ебно-метод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методическое сопровождение предметных областе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метод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рганизация научно-исследовательской работы ОУ, поддержка экспериментальной работы педагог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недрен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тбор, внедрение и тиражирование педагогических материалов; организация и проведение семинаров, конференций, практикум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ункция социально-педагогической поддержк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рганизация индивидуального консультирования и профессиональной поддержки педагогов; повышения квалификации педагогических кадров; помощь в проведении профессиональных конкурс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адачи методической работ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вышение уровня владения педагогическими знаниям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учение и использование педагогами современных педагогических технологий, методик, приемов и способов успешного обучения и воспита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ивитие у учителей интереса, потребности к формированию и совершенствованию умения заниматься творческой педагогической деятельностью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вышение уровня педагогического мастерства, в том числе педагогической техник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оздание условий и выработка у педагогов потребности в самообразован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рмирование и развитие устойчивых профессиональных взглядов и ценност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учение и использование на практике современных способов диагностирования ученической успешности, методик воспитания, саморазвития, самосовершенствования, самореализац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держка и сопровождение педагогов, разрабатывающих и реализующих авторские программы, курсы, методики, пособ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адачи методической работ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ционное обеспечение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едрение в практику работы с учащимися и педагогами научной организации труда (НОТ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и поддержка созидательной, конструктивной педагогической сред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ганизация и поддержка экспериментальной и инновационной деятельности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ьзование разнообразных стимулов, способов и организационных решений для повышения квалификации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условий для зарождения, развития, объективной оценки и широкого использования ценностного педагогического опы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ганизация, стимулирование, содействие общественно-педагогической деятельности педагог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0"/>
            <a:ext cx="6934320" cy="655308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12600" y="38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2286000"/>
            <a:ext cx="2514600" cy="228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32200" y="2666880"/>
            <a:ext cx="182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Услов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успеш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существ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методиче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11430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715000" y="1143000"/>
            <a:ext cx="144792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1143000"/>
            <a:ext cx="152424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0"/>
            <a:ext cx="0" cy="22096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962520" y="4572000"/>
            <a:ext cx="457200" cy="2057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4191120"/>
            <a:ext cx="1981080" cy="914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867280" y="2743200"/>
            <a:ext cx="2057400" cy="380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648320"/>
            <a:ext cx="1143000" cy="18288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057040" y="4114800"/>
            <a:ext cx="1600200" cy="144792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143000" y="3200400"/>
            <a:ext cx="2286000" cy="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914400"/>
            <a:ext cx="181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блемно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диагностическ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одх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64240" y="838080"/>
            <a:ext cx="155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рганизация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правл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спех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0280" y="2157480"/>
            <a:ext cx="193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Индивидуализац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правленческ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действ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88120" y="20811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Встреч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лан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3124080"/>
            <a:ext cx="1981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Стимулирование в процесс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педагогиче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работы и по результатам е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4724280"/>
            <a:ext cx="1895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Использова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преимуще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микрогруппов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раб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7680" y="5257800"/>
            <a:ext cx="1846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Ресурс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беспеч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бразователь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цес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7040" y="5129280"/>
            <a:ext cx="171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Индивидуа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ект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31440" y="3300480"/>
            <a:ext cx="1604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Реализац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инцип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едагогическ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оддерж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61722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учно-методическое обеспечение мод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ланирование работы по реализации единой методической темы (этапы работы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иагностический, _____/_______ учебный г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447920"/>
            <a:ext cx="274320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нализ затруднений учителе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стояния УВ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явление противоречий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уждающихся в ликвид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1523880"/>
            <a:ext cx="28195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явление проблемы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боснование ее актуа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грамма реализации еди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ой те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19051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581280"/>
            <a:ext cx="2819520" cy="2590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учение коллективом теори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блемы на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едсовет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аседаниях метод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ве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аседаниях М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еминар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их оперативк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индивидуальной и группов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боте с учи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работе по самообразован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3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оретическое исследование проблемы, ____/____ учебный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6483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3962520"/>
            <a:ext cx="274320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копление теорет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атериала по еди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ой теме (проблем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ланирование работы по реализации единой методической темы (этапы работы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актическое исследование проблемы, _____/____ учебный г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447920"/>
            <a:ext cx="3200400" cy="19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 целью практиче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правленности этой работ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водятс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матические педсове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еминары-практику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ые уроки, внекласс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роприятия,взаимопосещ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ро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1523880"/>
            <a:ext cx="281952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вершенствование учебно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спитательного процесс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рмирование ППО в рамк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колы по теме (проблем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2362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495680"/>
            <a:ext cx="3276720" cy="15242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учно-практическ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нференц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тупления с самообобщение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ыта рабо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ворческие отче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дагогические выстав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581280"/>
            <a:ext cx="636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ведение итогов работы по проблеме, пропаганда ППО, ____/_____учебный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5181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4495680"/>
            <a:ext cx="2743200" cy="1447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истематизация накопленн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атериа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дание педагог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льманаха по проблем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 Сомова</cp:lastModifiedBy>
  <dcterms:modified xsi:type="dcterms:W3CDTF">2010-10-26T20:58:55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