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D81-1F30-4EC6-B4FF-65F90851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42C-EACE-4BF9-97EC-9D1C9787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6DB-599B-4434-99CF-5707E266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D9A-D5AA-4DA5-8565-721E7717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B653-7ADC-4512-B997-7A9E5039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A713-DCEA-43DD-8026-C8B2B04F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4270-D202-4B51-A298-964A7FD8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6DD6-A87F-484C-8B93-43AD632D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AA64-04AC-4DED-9D10-7CBF8544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F5BC-04CB-4DDD-B27C-68AE1D68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6B75-04B4-45B6-AB56-A1A3094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3BE-1D00-43B6-860D-776D315E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57AA-1A4C-417E-A6AA-8857E7FA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A27D-5941-4751-B204-9D20F20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D985-232D-4722-82CC-482D0DC2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9700-BFEE-423C-BC83-9BD0AD59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EC90-C877-4558-901F-7EB376B9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EE3-F5ED-4563-9711-E10FCD95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531-A8CF-4797-9981-88FE8222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201-FE1A-4D62-9818-35015F61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DB5-1F9F-4F6B-92EB-3A0440B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632-0F50-4655-81A7-EB32A96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FD6-F7B7-4BD7-BF60-07FFF76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90D-9B68-4E0B-A9B9-33D2A6EE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105B-55A3-491F-8612-C58E0DA4E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53BB-195D-4DE6-91DD-3050D2992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разовательная среда образовательного учрежд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Творческие способности для нас – это 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расположенность к творчеству, свойства, присущие каждому без исключения человеку от рождения и развиваемые в процессе становлен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ыготский Л.С., Э. Фромм, Я.А. Пономарев,  К. и Н. Роджерс, Л.А. Большакова, О,И. Мотков, А.И.Савенков, А.Лоб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Образовательная среда для нас – это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ая сфера всех субъектов образования (педагога, ребёнка, родителя), в которой каждый из них одновременно и её творец и проду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возможностей и жизненных ш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.Т. Шацкий, Е.А. Климов, Г.А. Ковалёв, А.Н.Тубельский, В.А. Ясв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образовательной сред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25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ющие на развитие инициативы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ых (творческих) способностей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здания, размер и пространственная структура внутренних помещений, лёгкость пространственной трансформации при возникшей необходимости, возможность и широта пространственных перемещений 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 жизни (помещения, мебель, оборудование, пособ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, гигиенические условия (микроклимат, чистота, безопас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часть (правила внутреннего распорядка, устав, законы, средства наглядности, рекламы, любые идеи, выраженные в той или иной форме, требования, приказы, советы, пожелания, поручения, сообщения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ическая часть (здоровье, самочувст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, приёмы,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ая и социальная плотность, степень скученности и его влияния на социальное поведение, личностные особенности педагогов и воспитанников, распределение статусов и ролей, половозрастные и национальные особен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пример окружающих, их культура, опыт, образ жизни, деятельность, поведение, взаимоотнош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, организации, группы и их представители, с которыми приходится реально взаимодейств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тройство» группы (своей) и коллективов, с которыми контактирует человек (наличие выделившихся по тем или иным основаниям «лидеров», преуспевающих», «звёзд», отстающих, «отверженных» и т.д.); реальное место человека в данной группе, включённость его в другие группы группировки, уровень его защищённости от различного рода посяга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Типы образовательной среды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902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щие диагностические вопросы для определения типа образовательной сред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Свобода – зависим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Чьи интересы и ценности ставятся на первое место в данной образовательной сре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личности или общества (групп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то к кому подстраивается в процессе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оспитатель к ребенку или ребенок к воспита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ая форма воспитания преимущественно осуществляется в данной образовательной среде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 или коллективная (групповая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Активность – пассив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актикуется ли в данной образовательной среде какое-либо наказание реб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тимулируется ли в данной образовательной среде проявление ребенком  инициатив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Находят ли какой-либо положительный отклик в данной образовательной среде те или иные творческие проявления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минант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лока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истеме ценнос­тей субъек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го процесса. Доминантность описывает образовательную среду по критер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значимое — незначимо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нс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насыщ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й среды условиями, влияниями и возможностями, а такж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центр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х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герентность (согласованность)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армоничность -негармоничность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оказате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и согласова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х локальных образовательных сред, функциональным субъектом которых выступает данная 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обильность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чным эволюцион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­ния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контексте взаимоотношений со средой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бщен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координ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ятельности всех субъектов данной образователь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ознаваемость образовате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а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нательной включё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ё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ех субъект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активность образовательной сре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епень е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ияния на среду обит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стойчив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бильност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Широта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епен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ую образовательную сре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, объектов, процессов и явл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 их многообраз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моциона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н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моционального и рациональ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1T05:01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