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862C-C128-4475-9F5F-096C2AAC4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BDB4-D1D9-414A-99DF-CA73B72A9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4080-7473-4634-9EB7-D7FBFE124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E532-5B68-4BA6-BC6D-B72B2179F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2170C-015E-4EBB-86D2-817D9D3E6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3A3DC-F8FB-4B68-844E-458B95C09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56807-65FD-4F27-ADDD-365E07025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267CA-3DDE-4D7A-91DF-3B20AD71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37997-28C6-467A-9575-C4936FF0A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F8F58-255D-41CC-BF0C-9E202074D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CFF07-30C2-46F8-A718-AF3655CC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5E17-F8B7-4730-A057-A7031F2C7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67A62-8031-4B7E-AF8C-CB8B46FA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457AD-BA2E-48CC-8981-CF106073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A9481-C9E1-459F-9087-FBE34367B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12BD6-9E32-4781-B259-F7AE2E4A4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038A3-037C-4875-BBC2-557B1E970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39EE-C617-4D51-8409-166B48BE4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D35F-9027-42C8-BDCE-CE70DE940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528C-8D2E-4BF5-B987-E43316663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31E0-4AB8-4AC3-B8BE-7733730C5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F656-87D3-4FAA-849A-6051E978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3202-6781-492B-B5C0-7511CE00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66A8-FC9C-4F92-A982-76956346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16286-28FC-4E0F-8EDC-C46D773277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83CD5-F5AF-472A-8CE1-0DC5DBCAD6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14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Образовательная среда образовательного учреждения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Параметры образовательной среды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52578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Творческие способности для нас – это …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расположенность к творчеству, свойства, присущие каждому без исключения человеку от рождения и развиваемые в процессе становления личност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Выготский Л.С., Э. Фромм, Я.А. Пономарев,  К. и Н. Роджерс, Л.А. Большакова, О,И. Мотков, А.И.Савенков, А.Лобок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Образовательная среда для нас – это…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зненная сфера всех субъектов образования (педагога, ребёнка, родителя), в которой каждый из них одновременно и её творец и продук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лекс возможностей и жизненных шан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С.Т. Шацкий, Е.А. Климов, Г.А. Ковалёв, А.Н.Тубельский, В.А. Ясви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860436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руктура образовательной среды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2514600"/>
            <a:ext cx="8425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онент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лияющие на развитие инициативы и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азовых (творческих) способностей лич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странственно-предмет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ологиче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циа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мпоненты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остранственно-предметный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07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мен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итектура здания, размер и пространственная структура внутренних помещений, лёгкость пространственной трансформации при возникшей необходимости, возможность и широта пространственных перемещений  в н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ьные условия жизни (помещения, мебель, оборудование, пособия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гические, гигиенические условия (микроклимат, чистота, безопасно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ая часть (правила внутреннего распорядка, устав, законы, средства наглядности, рекламы, любые идеи, выраженные в той или иной форме, требования, приказы, советы, пожелания, поручения, сообщения,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матическая часть (здоровье, самочувств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мпоненты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хнологический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лемен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00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грам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00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ы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00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тоды, приёмы, техн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00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дагогический сти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мпоненты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оциальный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мен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ранственная и социальная плотность, степень скученности и его влияния на социальное поведение, личностные особенности педагогов и воспитанников, распределение статусов и ролей, половозрастные и национальные особенност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ый пример окружающих, их культура, опыт, образ жизни, деятельность, поведение, взаимоотношения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реждения, организации, группы и их представители, с которыми приходится реально взаимодействовать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стройство» группы (своей) и коллективов, с которыми контактирует человек (наличие выделившихся по тем или иным основаниям «лидеров», преуспевающих», «звёзд», отстающих, «отверженных» и т.д.); реальное место человека в данной группе, включённость его в другие группы группировки, уровень его защищённости от различного рода посягательств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229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Типы образовательной среды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05120" y="609480"/>
            <a:ext cx="59022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920" y="244440"/>
            <a:ext cx="8690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Общие диагностические вопросы для определения типа образовательной среды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Ось «Свобода – зависимос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 Чьи интересы и ценности ставятся на первое место в данной образовательной среде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 личности или общества (группы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 Кто к кому подстраивается в процессе взаимодействи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воспитатель к ребенку или ребенок к воспитателю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 Какая форма воспитания преимущественно осуществляется в данной образовательной среде (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дивидуальная  или коллективная (групповая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Ось «Активность – пассивнос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 Практикуется ли в данной образовательной среде какое-либо наказание ребенк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да/ н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 Стимулируется ли в данной образовательной среде проявление ребенком  инициативы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да/ н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 Находят ли какой-либо положительный отклик в данной образовательной среде те или иные творческие проявления ребенк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да/ н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Параметры образовательной среды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69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Доминантность образовательной сред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начимос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данной локальной среды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системе ценнос­тей субъекто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образовательного процесса. Доминантность описывает образовательную среду по критерию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значимое — незначимое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Интенсивность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епень насыщенно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образовательной среды условиями, влияниями и возможностями, а также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нцентрированнос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х проявл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Когерентность (согласованность) образовательной сред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гармоничность -негармоничность»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Это показатель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епени согласованно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сех локальных образовательных сред, функциональным субъектом которых выступает данная  лич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Мобильность сред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ее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пособность к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рганичным эволюционным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змене­ниям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 контексте взаимоотношений со средой обит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Обобщенность образовательной сред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характеризует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епень координац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деятельности всех субъектов данной образовательной сре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Осознаваемость образовательной среды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казатель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сознательной включённост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неё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всех субъектов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разовательного проце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оциальная активность образовательной среды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степень ее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лияния на среду обита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Устойчивость образовательной сред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ее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абильность во времен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Широта образовательной сред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тепень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ключенност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 данную образовательную среду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убъектов, объектов, процессов и явлен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и их многообраз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Эмоциональность 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отноше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 ней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моционального и рациональног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компонент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4-11T05:01:28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