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5EB-CDB3-417A-AA03-02E21025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E2E-5203-48DE-A1CB-E6EDF96B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E23-66FE-4BAB-8C48-ADE0A90D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CF4-7E2E-4D28-8C41-61E25F5C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D4DA-CFC9-4138-9C23-F579C924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098D-8D24-43A5-8AA5-D42D2EFE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5ECE-46C9-4FD1-8076-9126093F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7FBA-2F9C-43A6-A3C2-5EB3B5EE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5A3D-678D-4FCE-9082-6A0E6AF2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ADDC-B970-4076-A3DB-7FEC9DCA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61EE-750E-4233-8096-62996D31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B1E-9013-4053-8898-0CF86871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BC9A-6803-4836-8EE2-6CA20CE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33F2-0113-445F-8B10-F9215A4B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1823-C012-4F16-8B0F-1DB9DFDE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D24C-C45F-43F1-B3F0-DC2D184D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630E-CA3F-406F-AD83-6D29DB1E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0A7-25F4-494C-9FC1-17033FE3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553-FF51-47FA-A99B-CA9793CD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5EB-D3F9-4B48-BDD3-5EAC3F86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B4C-F8E0-4E8A-B8C4-5492D87B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E22-0644-430A-A0DD-0D130632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DC0-4327-476C-88E2-D177134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4B7-9001-4D38-B618-94753E3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A30F-8A24-49DC-86A4-F3DC529CE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57BB-8701-4BD5-A07D-C1FD6993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разовательная среда образовательного учрежд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Творческие способности для нас – это 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расположенность к творчеству, свойства, присущие каждому без исключения человеку от рождения и развиваемые в процессе становлен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ыготский Л.С., Э. Фромм, Я.А. Пономарев,  К. и Н. Роджерс, Л.А. Большакова, О,И. Мотков, А.И.Савенков, А.Лоб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Образовательная среда для нас – это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ая сфера всех субъектов образования (педагога, ребёнка, родителя), в которой каждый из них одновременно и её творец и проду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возможностей и жизненных ш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.Т. Шацкий, Е.А. Климов, Г.А. Ковалёв, А.Н.Тубельский, В.А. Ясв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образовательной сред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25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ющие на развитие инициативы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ых (творческих) способностей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здания, размер и пространственная структура внутренних помещений, лёгкость пространственной трансформации при возникшей необходимости, возможность и широта пространственных перемещений 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 жизни (помещения, мебель, оборудование, пособ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, гигиенические условия (микроклимат, чистота, безопас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часть (правила внутреннего распорядка, устав, законы, средства наглядности, рекламы, любые идеи, выраженные в той или иной форме, требования, приказы, советы, пожелания, поручения, сообщения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ическая часть (здоровье, самочувст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, приёмы,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ая и социальная плотность, степень скученности и его влияния на социальное поведение, личностные особенности педагогов и воспитанников, распределение статусов и ролей, половозрастные и национальные особен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пример окружающих, их культура, опыт, образ жизни, деятельность, поведение, взаимоотнош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, организации, группы и их представители, с которыми приходится реально взаимодейств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тройство» группы (своей) и коллективов, с которыми контактирует человек (наличие выделившихся по тем или иным основаниям «лидеров», преуспевающих», «звёзд», отстающих, «отверженных» и т.д.); реальное место человека в данной группе, включённость его в другие группы группировки, уровень его защищённости от различного рода посяга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Типы образовательной среды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902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щие диагностические вопросы для определения типа образовательной сред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Свобода – зависим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Чьи интересы и ценности ставятся на первое место в данной образовательной сре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личности или общества (групп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то к кому подстраивается в процессе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оспитатель к ребенку или ребенок к воспита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ая форма воспитания преимущественно осуществляется в данной образовательной среде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 или коллективная (групповая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Активность – пассив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актикуется ли в данной образовательной среде какое-либо наказание реб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тимулируется ли в данной образовательной среде проявление ребенком  инициатив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Находят ли какой-либо положительный отклик в данной образовательной среде те или иные творческие проявления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минант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лока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истеме ценнос­тей субъек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го процесса. Доминантность описывает образовательную среду по критер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значимое — незначимо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нс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насыщ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й среды условиями, влияниями и возможностями, а такж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центр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х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герентность (согласованность)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армоничность -негармоничность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оказате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и согласова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х локальных образовательных сред, функциональным субъектом которых выступает данная 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обильность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чным эволюцион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­ния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контексте взаимоотношений со средой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бщен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координ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ятельности всех субъектов данной образователь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ознаваемость образовате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а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нательной включё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ё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ех субъект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активность образовательной сре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епень е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ияния на среду обит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стойчив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бильност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Широта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епен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ую образовательную сре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, объектов, процессов и явл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 их многообраз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моциона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н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моционального и рациональ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1T05:01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