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08AA-1935-4463-82D5-14647A8EFB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4751-A110-457E-8701-2D3C89CE6C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AB6-A620-4400-9FC1-E70D14A5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D58-1B3A-4D49-B0C5-8ACE9872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9892-12C3-4928-A604-12D81608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34B-468D-42D5-B0D1-F044C24D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C4D-7766-42D0-BE00-1B40212E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357-DA7C-4214-A22B-4D01DC89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90B-3F11-4F65-849D-6B866ACA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4F1-8E1B-4EE2-A5F3-654294E6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828-23D6-4547-AE31-1C484576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418-1A66-49C5-ADE4-67FC06EC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9C9-BFAB-4311-83CA-883A6FDF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3AD-7EB7-4D9E-8A00-FA82E98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9600-FA37-4644-8186-B8A6B8D5827B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7493040" cy="128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547040" cy="146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6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дагогическая лаборатория учителя (в формате презентации на педагогическом совете/ методическом семинаре / М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Это важн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ните, что учебное занятие должно раскрывать основные положения Вашего выступления на этапе «Педагогическая лаборатория учителя», в некоторой степени иллюстрировать 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 пред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4153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этап «Методический семинар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курсные задания в номинации «Педагогический дебют - 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разовательный про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ческий дебют –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минации могут принимать участие учителя-предметники образовательных организаций со стажем работы от 0 до 5 л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культуры проектирования в образовании, видения существующих проблем и путей их решения, умения продуктивно работать в команде и выстраивать конструктивное взаимоде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т конкурсного зад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руппы из 4 конкурсантов (состав определяется жребием) в течение 15 минут проводят обсуждение и выбирают тему образовательного проекта, распределяют зоны ответственности каждого члена команды. Группы получают не менее 1 часа для разработки образовательного проекта и его оформления в электронном и/или другом формате. Для представления образовательного проекта на сцене группа получает 20 минут и в течение 10 минут отвечает на вопросы жю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конкурсного зад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онная и языковая культур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 реалистичность реше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и оригинальность в представлении про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ные мероприятия 2 тура. Педагогическая лаборатория учителя (регламент до 12 минут, включая вопрос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темо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, 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методической т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Лариса Сомова</cp:lastModifiedBy>
  <dcterms:modified xsi:type="dcterms:W3CDTF">2015-12-29T23:25:59Z</dcterms:modified>
  <cp:revision>46</cp:revision>
  <dc:subject/>
  <dc:title>Представление опыта</dc:title>
</cp:coreProperties>
</file>