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4420-3A64-4817-B34F-4B15A39E93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097B-BC5B-4590-9311-FBCFEE3759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1EA-FBB7-443F-9285-7E67EE6A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FA6-8913-4469-A01D-5A57B14C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52E-ED14-4AE3-BD18-9305889D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618B-1068-4214-A03C-E0EA3F4C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9E7-F5C2-43F5-93E7-0E6D9AC1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7EB-421A-40E0-B8CD-CAF22BF9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42A-222B-4855-B770-6ADADA1D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E35-BE5B-4307-AF5A-81729C58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F71-8D4E-46EF-9E66-1A9E8D78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96F-7A6C-43DD-8C74-17575D44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652-7B6C-4E1A-AF5F-B478BC77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1AB-791A-49B9-ACAD-23D6A611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4CA1-7C66-4B03-BA7F-E669C76DD305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7493040" cy="128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547040" cy="1468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6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дагогическая лаборатория учителя (в формате презентации на педагогическом совете/ методическом семинаре / М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Это важн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ните, что учебное занятие должно раскрывать основные положения Вашего выступления на этапе «Педагогическая лаборатория учителя», в некоторой степени иллюстрировать 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 предм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4153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этап «Методический семинар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нкурсные задания в номинации «Педагогический дебют - 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разовательный про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ческий дебют –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минации могут принимать участие учителя-предметники образовательных организаций со стажем работы от 0 до 5 л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культуры проектирования в образовании, видения существующих проблем и путей их решения, умения продуктивно работать в команде и выстраивать конструктивное взаимоде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т конкурсного зад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руппы из 4 конкурсантов (состав определяется жребием) в течение 15 минут проводят обсуждение и выбирают тему образовательного проекта, распределяют зоны ответственности каждого члена команды. Группы получают не менее 1 часа для разработки образовательного проекта и его оформления в электронном и/или другом формате. Для представления образовательного проекта на сцене группа получает 20 минут и в течение 10 минут отвечает на вопросы жю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конкурсного зад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деятельно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онная и языковая культур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 реалистичность решен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и оригинальность в представлении про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ные мероприятия 2 тура. Педагогическая лаборатория учителя (регламент до 12 минут, включая вопрос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темо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, 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методической т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Лариса Сомова</cp:lastModifiedBy>
  <dcterms:modified xsi:type="dcterms:W3CDTF">2015-12-29T23:25:59Z</dcterms:modified>
  <cp:revision>46</cp:revision>
  <dc:subject/>
  <dc:title>Представление опыта</dc:title>
</cp:coreProperties>
</file>