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E184-7DF5-40BC-875D-A950B19638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76EC-3D35-4B37-A7F2-D6F4CA82F9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D10C-200B-4D72-BF6B-AE7616FD76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73AA-2285-4D2E-A455-000289A468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2BF2-BC0C-4585-A737-4003DAAC50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E7C8-7519-47B4-984D-38E146F005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5A6E-40F9-4873-8582-399D1A2859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483E-1B76-47E2-9A69-218552B328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D0AC-1A5B-49A7-B136-19898A8EEF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1B1C-93D6-45C6-8E27-33E44FAFE9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81DF-E3B8-4617-B5AE-5A930D734E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EC6D-891E-4D2E-B6C1-6E9EEBC6CD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7FEF-95F0-49F8-B168-680B535B74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6585-9BAC-47D4-A581-B6C8DA8CEF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82CB-5D13-4C3D-9E85-7671ED4843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E421-393D-46E5-9826-F00F97577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E563-41DD-46C9-8674-E7CD770C44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58A7-3B8F-44D4-A4AC-0DCD2A8729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547D-684C-4478-941F-1CCD27E82E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C10C-9237-480B-8599-68CEBD588F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4440-DD09-4BA6-BF44-5E54972D48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BE5F-5D9F-485B-A35F-B52D6E9531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567-59A4-4F08-823F-5EB76906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415-BF2C-4B91-A30A-1E8FB105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38F-7AD4-465C-BC72-5590BEB7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6CF-1EAD-44E6-9DFF-EAAD0532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6FA-3CA1-42B3-9175-8F9F0B15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C8E-2661-4CB8-84A0-CAA185DA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6A7-2B5F-4D94-AB4E-DAB260EA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90F-F2A3-4A8D-B0AA-FEAD64A1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4A7-84FF-494F-8872-2105683C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666-F669-488E-816F-FE3F846F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854-FB41-45EA-8DDD-F19768B7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B02-77F3-4428-B4EA-F5B25627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A2E4-6DFA-4AF9-864A-7DED6BE2D7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idos.ru/journal/2005/1212.htm" TargetMode="External"/><Relationship Id="rId2" Type="http://schemas.openxmlformats.org/officeDocument/2006/relationships/hyperlink" Target="http://festival.1september.ru/articles/574903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нравственных установок учащихся на уроках филологического цик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Токранов Николай Валерь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учитель русского языка и литературы МБОУ «Средняя школа №111» Советского района г.Каз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EB4D-6CBA-4937-873C-BE13568597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Organization Chart 7"/>
          <p:cNvGrpSpPr/>
          <p:nvPr/>
        </p:nvGrpSpPr>
        <p:grpSpPr>
          <a:xfrm>
            <a:off x="0" y="98280"/>
            <a:ext cx="9143640" cy="6606720"/>
            <a:chOff x="0" y="98280"/>
            <a:chExt cx="9143640" cy="6606720"/>
          </a:xfrm>
        </p:grpSpPr>
        <p:cxnSp>
          <p:nvCxnSpPr>
            <p:cNvPr id="79" name="_s2052"/>
            <p:cNvCxnSpPr>
              <a:stCxn id="80" idx="1"/>
              <a:endCxn id="81" idx="2"/>
            </p:cNvCxnSpPr>
            <p:nvPr/>
          </p:nvCxnSpPr>
          <p:spPr>
            <a:xfrm rot="10800000">
              <a:off x="668124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053"/>
            <p:cNvCxnSpPr>
              <a:stCxn id="83" idx="1"/>
              <a:endCxn id="81" idx="2"/>
            </p:cNvCxnSpPr>
            <p:nvPr/>
          </p:nvCxnSpPr>
          <p:spPr>
            <a:xfrm rot="10800000">
              <a:off x="668124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054"/>
            <p:cNvCxnSpPr>
              <a:stCxn id="85" idx="1"/>
              <a:endCxn id="86" idx="2"/>
            </p:cNvCxnSpPr>
            <p:nvPr/>
          </p:nvCxnSpPr>
          <p:spPr>
            <a:xfrm rot="10800000">
              <a:off x="386748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55"/>
            <p:cNvCxnSpPr>
              <a:stCxn id="88" idx="1"/>
              <a:endCxn id="86" idx="2"/>
            </p:cNvCxnSpPr>
            <p:nvPr/>
          </p:nvCxnSpPr>
          <p:spPr>
            <a:xfrm rot="10800000">
              <a:off x="38674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56"/>
            <p:cNvCxnSpPr>
              <a:stCxn id="90" idx="1"/>
              <a:endCxn id="91" idx="2"/>
            </p:cNvCxnSpPr>
            <p:nvPr/>
          </p:nvCxnSpPr>
          <p:spPr>
            <a:xfrm rot="10800000">
              <a:off x="10540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057"/>
            <p:cNvCxnSpPr>
              <a:stCxn id="81" idx="0"/>
              <a:endCxn id="93" idx="2"/>
            </p:cNvCxnSpPr>
            <p:nvPr/>
          </p:nvCxnSpPr>
          <p:spPr>
            <a:xfrm flipV="1">
              <a:off x="6681960" y="2457360"/>
              <a:ext cx="2880" cy="47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058"/>
            <p:cNvCxnSpPr>
              <a:stCxn id="86" idx="0"/>
              <a:endCxn id="95" idx="2"/>
            </p:cNvCxnSpPr>
            <p:nvPr/>
          </p:nvCxnSpPr>
          <p:spPr>
            <a:xfrm flipV="1" rot="16200000">
              <a:off x="292860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59"/>
            <p:cNvCxnSpPr>
              <a:stCxn id="91" idx="0"/>
              <a:endCxn id="95" idx="2"/>
            </p:cNvCxnSpPr>
            <p:nvPr/>
          </p:nvCxnSpPr>
          <p:spPr>
            <a:xfrm flipH="1" flipV="1" rot="5400000">
              <a:off x="152172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60"/>
            <p:cNvCxnSpPr>
              <a:stCxn id="93" idx="0"/>
              <a:endCxn id="98" idx="2"/>
            </p:cNvCxnSpPr>
            <p:nvPr/>
          </p:nvCxnSpPr>
          <p:spPr>
            <a:xfrm flipV="1" rot="16200000">
              <a:off x="539028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61"/>
            <p:cNvCxnSpPr>
              <a:stCxn id="95" idx="0"/>
              <a:endCxn id="98" idx="2"/>
            </p:cNvCxnSpPr>
            <p:nvPr/>
          </p:nvCxnSpPr>
          <p:spPr>
            <a:xfrm flipH="1" flipV="1" rot="5400000">
              <a:off x="328032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2062"/>
            <p:cNvSpPr/>
            <p:nvPr/>
          </p:nvSpPr>
          <p:spPr>
            <a:xfrm>
              <a:off x="3516840" y="982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Чита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рамот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3"/>
            <p:cNvSpPr/>
            <p:nvPr/>
          </p:nvSpPr>
          <p:spPr>
            <a:xfrm>
              <a:off x="140652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4"/>
            <p:cNvSpPr/>
            <p:nvPr/>
          </p:nvSpPr>
          <p:spPr>
            <a:xfrm>
              <a:off x="562680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нетекстов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н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65"/>
            <p:cNvSpPr/>
            <p:nvPr/>
          </p:nvSpPr>
          <p:spPr>
            <a:xfrm>
              <a:off x="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йти и 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6"/>
            <p:cNvSpPr/>
            <p:nvPr/>
          </p:nvSpPr>
          <p:spPr>
            <a:xfrm>
              <a:off x="28134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грирова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рпрет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67"/>
            <p:cNvSpPr/>
            <p:nvPr/>
          </p:nvSpPr>
          <p:spPr>
            <a:xfrm>
              <a:off x="56268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оцен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сообщени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8"/>
            <p:cNvSpPr/>
            <p:nvPr/>
          </p:nvSpPr>
          <p:spPr>
            <a:xfrm>
              <a:off x="140652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9"/>
            <p:cNvSpPr/>
            <p:nvPr/>
          </p:nvSpPr>
          <p:spPr>
            <a:xfrm>
              <a:off x="4219920" y="434556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формир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е поним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70"/>
            <p:cNvSpPr/>
            <p:nvPr/>
          </p:nvSpPr>
          <p:spPr>
            <a:xfrm>
              <a:off x="4219920" y="576144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лковать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71"/>
            <p:cNvSpPr/>
            <p:nvPr/>
          </p:nvSpPr>
          <p:spPr>
            <a:xfrm>
              <a:off x="703368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содерж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ие 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72"/>
            <p:cNvSpPr/>
            <p:nvPr/>
          </p:nvSpPr>
          <p:spPr>
            <a:xfrm>
              <a:off x="7033680" y="576144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фор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пособов самостоятельного анализ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опросы анк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1. Составляю план                 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2. Выписываю сложные места             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3. Запоминаю весь текст или его части                  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4. Разбираю сложные места при помощи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зрослых или дополнитель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5. Читаю текст несколько раз                                         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6. Составляю таблицу или схему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7. Легко подбираю примеры к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предложенному тек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8. Легко пересказываю текст учебника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своими с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Репрезентативная выборка составила 50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2f2f2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C29D-5075-4D59-AA38-A855AB69C3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иагностическая карта уровней восприятия текста Ф.Абрамова «О чем плачут лошади»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учащихся 7-го класса (по Н.Д.Молдавск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905120"/>
          <a:ext cx="8305920" cy="4227480"/>
        </p:xfrm>
        <a:graphic>
          <a:graphicData uri="http://schemas.openxmlformats.org/drawingml/2006/table">
            <a:tbl>
              <a:tblPr/>
              <a:tblGrid>
                <a:gridCol w="1703520"/>
                <a:gridCol w="2011320"/>
                <a:gridCol w="2293920"/>
                <a:gridCol w="2297160"/>
              </a:tblGrid>
              <a:tr h="33541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тографи-ческое  вос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сюжетно-событийн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основе осмысления композиционных связей без понимания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композиционной основе с ограниченным пониманием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3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80EA-5A93-46ED-8C6A-599F929009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2444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иагностика уровня усвоения учащимися 7-го класса содержания нравственных понятий в ходе анализа текста  Ф.Абрамова «О чем плачут лошади» (по Павловой И.И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600200"/>
          <a:ext cx="8153280" cy="4595760"/>
        </p:xfrm>
        <a:graphic>
          <a:graphicData uri="http://schemas.openxmlformats.org/drawingml/2006/table">
            <a:tbl>
              <a:tblPr/>
              <a:tblGrid>
                <a:gridCol w="2271600"/>
                <a:gridCol w="1604880"/>
                <a:gridCol w="1470240"/>
                <a:gridCol w="1434960"/>
                <a:gridCol w="1371600"/>
              </a:tblGrid>
              <a:tr h="731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емое по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ое 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лубо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ционал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олю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бежд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ж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4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о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и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ум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ьное достои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876E-164D-4D56-B3B5-DB12526DFA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ид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с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речи (устной и письм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ы работы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седа (репродуктивная и эвристиче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ние в виртуальн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C961-EE92-4F84-859E-6DDF4BFF18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хнологии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развития критического мышления через чтение (способность ставить новые вопросы, вырабатывать разнообразные аргументы, принимать независимые продуманные реш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поэтапного формирования умений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формирования «вдумчивого читателя» (инсерт, рафт, «толстые» и «тонкие» вопросы, чтение с пометами, клас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СО, Г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ейс-стади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8C03-2B6B-4DBE-92F5-F0944CCA9D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тер «Образная система в повести А.И.Куприна «Оле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676520" y="182880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иг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533520" y="259092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762120" y="388620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пожертв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5715000" y="175248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отверж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010280" y="2590920"/>
            <a:ext cx="1295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7162920" y="40384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то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2286000" y="495288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029200" y="48769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мира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90920" y="320040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моф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4876920" y="32767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3581280" y="609588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 flipV="1">
            <a:off x="2590920" y="2743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 flipH="1" flipV="1">
            <a:off x="1828440" y="33523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 flipH="1">
            <a:off x="2209320" y="3962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29718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 flipV="1">
            <a:off x="5791320" y="25905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"/>
          <p:cNvSpPr/>
          <p:nvPr/>
        </p:nvSpPr>
        <p:spPr>
          <a:xfrm flipV="1">
            <a:off x="6172200" y="335232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6248520" y="41148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60199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048120" y="5867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5410080" y="5790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оритм формирования навыка «вдумчивого»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а главная мысль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ключевые слова и словосочетания в данном отрыв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связана главная мысль данного абзаца с содержанием предыдущего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чем предположительно пойдет речь в следующем абзаце?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F8BB-0261-45D0-8495-178DEE1324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988320" cy="4775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4495680" y="914400"/>
          <a:ext cx="4586400" cy="32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914400"/>
                    <a:ext cx="458640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299A-6705-4CF8-AAE6-C581F8C07A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228600" y="236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28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1"/>
          <a:srcRect l="30436" t="0" r="22135" b="0"/>
          <a:stretch/>
        </p:blipFill>
        <p:spPr>
          <a:xfrm>
            <a:off x="6094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ый государственный стандарт основного общего образования по русскому языку и литературе определяет главными целями изучения предметов формирование духовно развитой личности, обладающей гуманистическим мировоззрением, чувством патриотизм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Методологической основой разработки и реализации федерального государственного образовательного стандарта общего образования является концепция духовно-нравственного развития и воспитания личности гражданин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881C-8FD3-4451-86C5-AC9CF6B86C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о-музыкальн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уд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17 каби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е нар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й роман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чество бардов -шестидеся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х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рок-исполнител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Жизнь, судьба, эпох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После уроков2"/>
          <p:cNvPicPr/>
          <p:nvPr/>
        </p:nvPicPr>
        <p:blipFill>
          <a:blip r:embed="rId1"/>
          <a:stretch/>
        </p:blipFill>
        <p:spPr>
          <a:xfrm>
            <a:off x="6362640" y="12193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После уроков3"/>
          <p:cNvPicPr/>
          <p:nvPr/>
        </p:nvPicPr>
        <p:blipFill>
          <a:blip r:embed="rId2"/>
          <a:stretch/>
        </p:blipFill>
        <p:spPr>
          <a:xfrm>
            <a:off x="5105520" y="2971800"/>
            <a:ext cx="2590560" cy="194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шкид3"/>
          <p:cNvPicPr/>
          <p:nvPr/>
        </p:nvPicPr>
        <p:blipFill>
          <a:blip r:embed="rId3"/>
          <a:stretch/>
        </p:blipFill>
        <p:spPr>
          <a:xfrm>
            <a:off x="6248520" y="4648320"/>
            <a:ext cx="25905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триотизм для меня - понятие двойственное. С одной стороны, в нём много общественного, с другой, что-то личное, сво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ыть патриотом не значит везде и всюду хвалить свою страну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остоинство – понятие обширное. Нужно быть достойным своей семьи и своей страны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олерантность – это не просто эффектное слово. Это работа на каждый ден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едеральный государственный образовательный стандарт основного общего образования /Министерство образования и науки РФ.- М.: Просвещение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даментальное ядро содержания общего образования /Под ред. В.В.Козлова, А .М. Кондакова .- М.: Просвещение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уторской А.В. Технология проектирования ключевых и предметных компетенций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idos.ru/journal/2005/1212.ht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урьянова А.В. Компетентностный подход в образовании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stival.1september.ru/articles/574903/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левко Г.К. Современные образовательные технологии. Учебное пособие. М.: Народное образование, 1998,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.Мередит, Ч.Темпл, Д.Стил, «Воспитание  вдумчивых  читателей»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.О.Загашева «Заметки на полях. Пример занятия, направленного на развитие критического мышления учащихся на основе стратегии «Условные значки» ( «Библиотека в школе», 2004, №18, с. 10-13)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аткин М.Н. Проблемы современной дидактики. М. Педагогика 19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хмутов М.И. Организация проблемного обучения М. Педагогика 197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256C-A00A-448A-A0DF-3E218F213A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научно-методиче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учно-методической литературе (А.В. Хуторской, В.В.Краевский, А.В.Гурьянова, И.А.Зимняя),  несмотря на наличие нескольких  подходов, приоритетными опре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нностно-смыслов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о-позна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о-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етенции личностного само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82BF-08C9-4A4A-AD88-577CF918ED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и задач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ценностно-смысловых, нравственных установок школьников в образовательном пространстве в  предметной области «Русский язык и литерату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программно-методического сопровождения предметн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изация ценностных установок в соответствии с возрастными особенностями уча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тезауруса нравственных понятий  для введения в учебное  поле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ление эффективных педагогических техник работы с учебным текстом с целью актуализации 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сформированности нравственных установок 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4C40-F19B-4173-A7BA-AB51CB6669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мет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сти к усвоению и осознанию основных нравственных 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сти к пониманию нравственных проблем, поднятых в русской и зарубежной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критического мыш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принятия коллективных и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D9FA-BA07-4D50-8532-AD50E4DE4C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од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еды с учащимися в урочное и внеурочно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ос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литературных предпочтений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творческих работ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нирование аккаунтов в социальных се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4028"/>
          <p:cNvPicPr/>
          <p:nvPr/>
        </p:nvPicPr>
        <p:blipFill>
          <a:blip r:embed="rId1"/>
          <a:stretch/>
        </p:blipFill>
        <p:spPr>
          <a:xfrm>
            <a:off x="6108840" y="4286160"/>
            <a:ext cx="2340000" cy="351000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959A-B50C-454F-9049-557BE09025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ец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Анкетирование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Какую бы тему ты выбрал для работы над домашним сочин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чести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ая эпоха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свободы в поэме М.Ю.Лермонтова «Мцы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: дети выбирают конкретную тему, не подразумевающую проявления собственной позиции  и критичности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77EE-F0F2-4E01-89F6-7EE105DE69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0" y="1065240"/>
          <a:ext cx="8326440" cy="53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5240"/>
                    <a:ext cx="832644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377B-D987-441D-9B42-99E2F368CA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09480" y="990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эмоциональн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остный смысл изучаем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й эмоциональный фон учебных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пер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чувств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CBE5-009D-4538-BBF7-9442CE093B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7:40:06Z</dcterms:created>
  <dc:creator>Николай</dc:creator>
  <dc:description/>
  <dc:language>en-US</dc:language>
  <cp:lastModifiedBy>user</cp:lastModifiedBy>
  <dcterms:modified xsi:type="dcterms:W3CDTF">2012-09-25T04:36:20Z</dcterms:modified>
  <cp:revision>1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