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0134-77C6-46F0-9E3A-52D0FC19C6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3260-3DDD-439B-B121-AABD33532B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8EF2-B35F-433C-82D4-1DA1D4AA63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C90E-537F-441B-AF9A-677CC04326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3E23-2A83-43FA-9ABB-4371AD310A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6573-8FD1-4B38-95D0-D855CDCABF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2733-E33F-4D6F-A897-3955EB2515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5B0D-1F1D-49E5-B79C-4B03849258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33DD-92E7-47A7-9EE5-FA6F98ACCA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FE8A-0D37-40CE-89F3-82667186B2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F115-7B19-47D2-B06D-B8C259A038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113B-4DAC-4733-B33F-A8D9FC47F7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2D21-7FB7-4640-B241-E4A6EFCFD9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02A9-2D17-4FDB-B718-58835A8929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9E41-FABC-4963-8853-1A6D79F5DD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6BE3-C584-4848-81CA-1D88B6FA3C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B0BC-AD99-40FC-BA69-7938111C49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F5C3-00FF-4E05-BBF8-42484B9A8C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D8F6-CFEA-42E4-BD3A-813C9827B1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05D9-7A8E-4E6B-965D-4D2D457434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1F3C-3C6B-4F0C-AE03-C8D344D3C5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2213-620C-44C0-A6FF-51254A6E22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949A-1076-41DC-89C1-CDB0552D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DA55-86E5-4F52-88D7-4D737ED7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131-0048-44F8-8FA2-A57448F8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4BE-AF2C-466C-B1D9-D585C986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54D-2D2D-46E0-B253-88B7E4C5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978-8350-466D-AA67-ABD5B6C1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FC8-6B5C-4A6D-974F-23F67679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720-8587-4D20-BF55-2B97CB7E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0AF2-1C65-4D08-96E7-25EB3573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54B-7806-4C41-A506-A71CEF39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C71-9981-44DB-A9FD-6EF287D1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679-E461-4CF4-9398-232B0FE8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A324-BD26-47A5-AD53-19752FC392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idos.ru/journal/2005/1212.htm" TargetMode="External"/><Relationship Id="rId2" Type="http://schemas.openxmlformats.org/officeDocument/2006/relationships/hyperlink" Target="http://festival.1september.ru/articles/574903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нравственных установок учащихся на уроках филологического цик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Токранов Николай Валерьев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учитель русского языка и литературы МБОУ «Средняя школа №111» Советского района г.Каз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CC24-659B-4122-A7A9-25A7536608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Organization Chart 7"/>
          <p:cNvGrpSpPr/>
          <p:nvPr/>
        </p:nvGrpSpPr>
        <p:grpSpPr>
          <a:xfrm>
            <a:off x="0" y="98280"/>
            <a:ext cx="9143640" cy="6606720"/>
            <a:chOff x="0" y="98280"/>
            <a:chExt cx="9143640" cy="6606720"/>
          </a:xfrm>
        </p:grpSpPr>
        <p:cxnSp>
          <p:nvCxnSpPr>
            <p:cNvPr id="79" name="_s2052"/>
            <p:cNvCxnSpPr>
              <a:stCxn id="80" idx="1"/>
              <a:endCxn id="81" idx="2"/>
            </p:cNvCxnSpPr>
            <p:nvPr/>
          </p:nvCxnSpPr>
          <p:spPr>
            <a:xfrm rot="10800000">
              <a:off x="668124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2053"/>
            <p:cNvCxnSpPr>
              <a:stCxn id="83" idx="1"/>
              <a:endCxn id="81" idx="2"/>
            </p:cNvCxnSpPr>
            <p:nvPr/>
          </p:nvCxnSpPr>
          <p:spPr>
            <a:xfrm rot="10800000">
              <a:off x="668124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2054"/>
            <p:cNvCxnSpPr>
              <a:stCxn id="85" idx="1"/>
              <a:endCxn id="86" idx="2"/>
            </p:cNvCxnSpPr>
            <p:nvPr/>
          </p:nvCxnSpPr>
          <p:spPr>
            <a:xfrm rot="10800000">
              <a:off x="386748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055"/>
            <p:cNvCxnSpPr>
              <a:stCxn id="88" idx="1"/>
              <a:endCxn id="86" idx="2"/>
            </p:cNvCxnSpPr>
            <p:nvPr/>
          </p:nvCxnSpPr>
          <p:spPr>
            <a:xfrm rot="10800000">
              <a:off x="38674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056"/>
            <p:cNvCxnSpPr>
              <a:stCxn id="90" idx="1"/>
              <a:endCxn id="91" idx="2"/>
            </p:cNvCxnSpPr>
            <p:nvPr/>
          </p:nvCxnSpPr>
          <p:spPr>
            <a:xfrm rot="10800000">
              <a:off x="10540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2057"/>
            <p:cNvCxnSpPr>
              <a:stCxn id="81" idx="0"/>
              <a:endCxn id="93" idx="2"/>
            </p:cNvCxnSpPr>
            <p:nvPr/>
          </p:nvCxnSpPr>
          <p:spPr>
            <a:xfrm flipV="1">
              <a:off x="6681960" y="2457360"/>
              <a:ext cx="2880" cy="47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2058"/>
            <p:cNvCxnSpPr>
              <a:stCxn id="86" idx="0"/>
              <a:endCxn id="95" idx="2"/>
            </p:cNvCxnSpPr>
            <p:nvPr/>
          </p:nvCxnSpPr>
          <p:spPr>
            <a:xfrm flipV="1" rot="16200000">
              <a:off x="292860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059"/>
            <p:cNvCxnSpPr>
              <a:stCxn id="91" idx="0"/>
              <a:endCxn id="95" idx="2"/>
            </p:cNvCxnSpPr>
            <p:nvPr/>
          </p:nvCxnSpPr>
          <p:spPr>
            <a:xfrm flipH="1" flipV="1" rot="5400000">
              <a:off x="152172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60"/>
            <p:cNvCxnSpPr>
              <a:stCxn id="93" idx="0"/>
              <a:endCxn id="98" idx="2"/>
            </p:cNvCxnSpPr>
            <p:nvPr/>
          </p:nvCxnSpPr>
          <p:spPr>
            <a:xfrm flipV="1" rot="16200000">
              <a:off x="539028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61"/>
            <p:cNvCxnSpPr>
              <a:stCxn id="95" idx="0"/>
              <a:endCxn id="98" idx="2"/>
            </p:cNvCxnSpPr>
            <p:nvPr/>
          </p:nvCxnSpPr>
          <p:spPr>
            <a:xfrm flipH="1" flipV="1" rot="5400000">
              <a:off x="328032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2062"/>
            <p:cNvSpPr/>
            <p:nvPr/>
          </p:nvSpPr>
          <p:spPr>
            <a:xfrm>
              <a:off x="3516840" y="982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Читатель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рамот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3"/>
            <p:cNvSpPr/>
            <p:nvPr/>
          </p:nvSpPr>
          <p:spPr>
            <a:xfrm>
              <a:off x="140652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4"/>
            <p:cNvSpPr/>
            <p:nvPr/>
          </p:nvSpPr>
          <p:spPr>
            <a:xfrm>
              <a:off x="562680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нетекстов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н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65"/>
            <p:cNvSpPr/>
            <p:nvPr/>
          </p:nvSpPr>
          <p:spPr>
            <a:xfrm>
              <a:off x="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йти и 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66"/>
            <p:cNvSpPr/>
            <p:nvPr/>
          </p:nvSpPr>
          <p:spPr>
            <a:xfrm>
              <a:off x="28134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грирова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рпретир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67"/>
            <p:cNvSpPr/>
            <p:nvPr/>
          </p:nvSpPr>
          <p:spPr>
            <a:xfrm>
              <a:off x="56268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 оцен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сообщени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8"/>
            <p:cNvSpPr/>
            <p:nvPr/>
          </p:nvSpPr>
          <p:spPr>
            <a:xfrm>
              <a:off x="140652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9"/>
            <p:cNvSpPr/>
            <p:nvPr/>
          </p:nvSpPr>
          <p:spPr>
            <a:xfrm>
              <a:off x="4219920" y="434556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формиров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щее поним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70"/>
            <p:cNvSpPr/>
            <p:nvPr/>
          </p:nvSpPr>
          <p:spPr>
            <a:xfrm>
              <a:off x="4219920" y="576144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олковать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71"/>
            <p:cNvSpPr/>
            <p:nvPr/>
          </p:nvSpPr>
          <p:spPr>
            <a:xfrm>
              <a:off x="703368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содержа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ие 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72"/>
            <p:cNvSpPr/>
            <p:nvPr/>
          </p:nvSpPr>
          <p:spPr>
            <a:xfrm>
              <a:off x="7033680" y="576144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форм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способов самостоятельного анализа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опросы анке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1. Составляю план                 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2. Выписываю сложные места             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3. Запоминаю весь текст или его части                         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4. Разбираю сложные места при помощи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зрослых или дополнитель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5. Читаю текст несколько раз                                         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6. Составляю таблицу или схему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7. Легко подбираю примеры к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предложенному тек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8. Легко пересказываю текст учебника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своими сло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Репрезентативная выборка составила 50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2f2f2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E859-B41E-48C2-AD1A-A04B324D13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иагностическая карта уровней восприятия текста Ф.Абрамова «О чем плачут лошади»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учащихся 7-го класса (по Н.Д.Молдавск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905120"/>
          <a:ext cx="8305920" cy="4227480"/>
        </p:xfrm>
        <a:graphic>
          <a:graphicData uri="http://schemas.openxmlformats.org/drawingml/2006/table">
            <a:tbl>
              <a:tblPr/>
              <a:tblGrid>
                <a:gridCol w="1703520"/>
                <a:gridCol w="2011320"/>
                <a:gridCol w="2293920"/>
                <a:gridCol w="2297160"/>
              </a:tblGrid>
              <a:tr h="33541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тографи-ческое  вос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сюжетно-событийн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основе осмысления композиционных связей без понимания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композиционной основе с ограниченным пониманием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3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6758-89EC-46B1-8EDF-804FFDB229F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8600" y="24444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иагностика уровня усвоения учащимися 7-го класса содержания нравственных понятий в ходе анализа текста  Ф.Абрамова «О чем плачут лошади» (по Павловой И.И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600200"/>
          <a:ext cx="8153280" cy="4595760"/>
        </p:xfrm>
        <a:graphic>
          <a:graphicData uri="http://schemas.openxmlformats.org/drawingml/2006/table">
            <a:tbl>
              <a:tblPr/>
              <a:tblGrid>
                <a:gridCol w="2271600"/>
                <a:gridCol w="1604880"/>
                <a:gridCol w="1470240"/>
                <a:gridCol w="1434960"/>
                <a:gridCol w="1371600"/>
              </a:tblGrid>
              <a:tr h="731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яемое по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льное 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глубо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оним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триот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национализ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лектив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удолюб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бежд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ж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4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ро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ви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ум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ьное достои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с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DE8B-0858-4439-9049-EF31ADED13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ид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 с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речи (устной и письм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ы работы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седа (репродуктивная и эвристическ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п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ние в виртуальн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5994-DD94-4396-9192-0A0636289C1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хнологии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развития критического мышления через чтение (способность ставить новые вопросы, вырабатывать разнообразные аргументы, принимать независимые продуманные реш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поэтапного формирования умений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формирования «вдумчивого читателя» (инсерт, рафт, «толстые» и «тонкие» вопросы, чтение с пометами, класт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СО, Г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роблем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ейс-стади 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6EE6-5F8F-4751-91E5-EE795CBC6C2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астер «Образная система в повести А.И.Куприна «Оле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1676520" y="182880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ллиген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533520" y="259092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762120" y="388620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пожертвов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5715000" y="175248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отверж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7010280" y="2590920"/>
            <a:ext cx="12956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7162920" y="40384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стот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2286000" y="495288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5029200" y="487692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мира 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590920" y="3200400"/>
            <a:ext cx="1523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моф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4876920" y="327672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3581280" y="609588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 flipH="1" flipV="1">
            <a:off x="2590920" y="27432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 flipH="1" flipV="1">
            <a:off x="1828440" y="335232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4"/>
          <p:cNvSpPr/>
          <p:nvPr/>
        </p:nvSpPr>
        <p:spPr>
          <a:xfrm flipH="1">
            <a:off x="2209320" y="39625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5"/>
          <p:cNvSpPr/>
          <p:nvPr/>
        </p:nvSpPr>
        <p:spPr>
          <a:xfrm>
            <a:off x="29718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6"/>
          <p:cNvSpPr/>
          <p:nvPr/>
        </p:nvSpPr>
        <p:spPr>
          <a:xfrm flipV="1">
            <a:off x="5791320" y="25905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7"/>
          <p:cNvSpPr/>
          <p:nvPr/>
        </p:nvSpPr>
        <p:spPr>
          <a:xfrm flipV="1">
            <a:off x="6172200" y="335232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6248520" y="411480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60199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048120" y="58672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5410080" y="5790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горитм формирования навыка «вдумчивого»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а главная мысль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ите ключевые слова и словосочетания в данном отрыв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связана главная мысль данного абзаца с содержанием предыдущего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чем предположительно пойдет речь в следующем абзаце?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01A0-F71B-4B0B-A136-2318B77423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6988320" cy="4775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6"/>
          <p:cNvGraphicFramePr/>
          <p:nvPr/>
        </p:nvGraphicFramePr>
        <p:xfrm>
          <a:off x="4495680" y="914400"/>
          <a:ext cx="4586400" cy="32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914400"/>
                    <a:ext cx="4586400" cy="32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6417-7117-4095-9B98-731B4CE878E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228600" y="2362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928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4" descr=""/>
          <p:cNvPicPr/>
          <p:nvPr/>
        </p:nvPicPr>
        <p:blipFill>
          <a:blip r:embed="rId1"/>
          <a:srcRect l="30436" t="0" r="22135" b="0"/>
          <a:stretch/>
        </p:blipFill>
        <p:spPr>
          <a:xfrm>
            <a:off x="60948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льный государственный стандарт основного общего образования по русскому языку и литературе определяет главными целями изучения предметов формирование духовно развитой личности, обладающей гуманистическим мировоззрением, чувством патриотизм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Методологической основой разработки и реализации федерального государственного образовательного стандарта общего образования является концепция духовно-нравственного развития и воспитания личности гражданин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1314-087E-4BAB-841A-817281D207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о-музыкальна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удия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17 кабин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е нар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й роман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орчество бардов -шестидеся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х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е рок-исполнител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Arial"/>
              </a:rPr>
              <a:t>Жизнь, судьба, эпох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После уроков2"/>
          <p:cNvPicPr/>
          <p:nvPr/>
        </p:nvPicPr>
        <p:blipFill>
          <a:blip r:embed="rId1"/>
          <a:stretch/>
        </p:blipFill>
        <p:spPr>
          <a:xfrm>
            <a:off x="6362640" y="12193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После уроков3"/>
          <p:cNvPicPr/>
          <p:nvPr/>
        </p:nvPicPr>
        <p:blipFill>
          <a:blip r:embed="rId2"/>
          <a:stretch/>
        </p:blipFill>
        <p:spPr>
          <a:xfrm>
            <a:off x="5105520" y="2971800"/>
            <a:ext cx="2590560" cy="1941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шкид3"/>
          <p:cNvPicPr/>
          <p:nvPr/>
        </p:nvPicPr>
        <p:blipFill>
          <a:blip r:embed="rId3"/>
          <a:stretch/>
        </p:blipFill>
        <p:spPr>
          <a:xfrm>
            <a:off x="6248520" y="4648320"/>
            <a:ext cx="25905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атриотизм для меня - понятие двойственное. С одной стороны, в нём много общественного, с другой, что-то личное, сво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ыть патриотом не значит везде и всюду хвалить свою страну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остоинство – понятие обширное. Нужно быть достойным своей семьи и своей страны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Толерантность – это не просто эффектное слово. Это работа на каждый день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едеральный государственный образовательный стандарт основного общего образования /Министерство образования и науки РФ.- М.: Просвещение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даментальное ядро содержания общего образования /Под ред. В.В.Козлова, А .М. Кондакова .- М.: Просвещение, 20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уторской А.В. Технология проектирования ключевых и предметных компетенций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idos.ru/journal/2005/1212.ht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урьянова А.В. Компетентностный подход в образовании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estival.1september.ru/articles/574903/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левко Г.К. Современные образовательные технологии. Учебное пособие. М.: Народное образование, 1998, 25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.Мередит, Ч.Темпл, Д.Стил, «Воспитание  вдумчивых  читателей»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.О.Загашева «Заметки на полях. Пример занятия, направленного на развитие критического мышления учащихся на основе стратегии «Условные значки» ( «Библиотека в школе», 2004, №18, с. 10-13)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каткин М.Н. Проблемы современной дидактики. М. Педагогика 19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хмутов М.И. Организация проблемного обучения М. Педагогика 197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9C93-3888-4367-BBA7-8FBF156118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научно-методическ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учно-методической литературе (А.В. Хуторской, В.В.Краевский, А.В.Гурьянова, И.А.Зимняя),  несмотря на наличие нескольких  подходов, приоритетными опреде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нностно-смыслов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екульту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о-познав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о-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етенции личностного самосовершен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E0FF-9DA4-4F44-B94E-B0C9F047C40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 и задачи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ценностно-смысловых, нравственных установок школьников в образовательном пространстве в  предметной области «Русский язык и литерату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программно-методического сопровождения предметн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изация ценностных установок в соответствии с возрастными особенностями уча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тезауруса нравственных понятий  для введения в учебное  поле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явление эффективных педагогических техник работы с учебным текстом с целью актуализации в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сформированности нравственных установок 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F4E4-2199-4234-B375-E9F5CC2E244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мет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ести к усвоению и осознанию основных нравственных по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ести к пониманию нравственных проблем, поднятых в русской и зарубежной лит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критического мыш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принятия коллективных и самостоятельны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4109-212D-4DCE-BBBF-25E28814A0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вод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седы с учащимися в урочное и внеурочное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блю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ос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кет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литературных предпочтений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творческих работ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анирование аккаунтов в социальных се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4028"/>
          <p:cNvPicPr/>
          <p:nvPr/>
        </p:nvPicPr>
        <p:blipFill>
          <a:blip r:embed="rId1"/>
          <a:stretch/>
        </p:blipFill>
        <p:spPr>
          <a:xfrm>
            <a:off x="6108840" y="4286160"/>
            <a:ext cx="2340000" cy="3510000"/>
          </a:xfrm>
          <a:prstGeom prst="rect">
            <a:avLst/>
          </a:prstGeom>
          <a:ln w="0">
            <a:noFill/>
          </a:ln>
        </p:spPr>
      </p:pic>
      <p:sp>
        <p:nvSpPr>
          <p:cNvPr id="6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D0CA-FC57-4873-B0CC-1B22B3326E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разец диагно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Анкетирование</a:t>
            </a: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Какую бы тему ты выбрал для работы над домашним сочин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чести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ческая эпоха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свободы в поэме М.Ю.Лермонтова «Мцы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вод: дети выбирают конкретную тему, не подразумевающую проявления собственной позиции  и критичности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1A28-BE1F-468B-AAC8-FA12024EE3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0" y="1065240"/>
          <a:ext cx="8326440" cy="53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5240"/>
                    <a:ext cx="832644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0756-1D1F-4DF4-BD8B-CF652DA523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09480" y="990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эмоциональной 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чностный смысл изучаем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ый эмоциональный фон учебных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ди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пер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чувств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4820-CD25-4A74-B364-3A738C9FC3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7:40:06Z</dcterms:created>
  <dc:creator>Николай</dc:creator>
  <dc:description/>
  <dc:language>en-US</dc:language>
  <cp:lastModifiedBy>user</cp:lastModifiedBy>
  <dcterms:modified xsi:type="dcterms:W3CDTF">2012-09-25T04:36:20Z</dcterms:modified>
  <cp:revision>1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