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C6D4-1D8A-4C47-96E6-EFBEE5860A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F7E5-1AF5-477E-A85C-87BEA4640D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3B61-A0D5-436C-990F-6A260859D1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81C3-882C-42F7-99DF-7D28522049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F67E6-CD9C-429A-8C4E-F6B150CDB5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ED9C-DC98-43C7-AEAB-C6BD8A4147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E17C-55F0-4F32-8319-5245BB30EB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962B-3C99-4256-89A2-756EC8704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3DEC-D099-417D-8993-E11859DE1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A2F0-B63C-4629-8830-2AD3063464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FD94-F532-407F-BD28-4D6915FD14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B9B-08D0-4976-A66C-1AE712D96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B3FE-6DE0-4DB1-83A2-B60FE0DCB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4FA6-463C-4AAE-819C-8075CF22D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0900-52EE-4168-8BC6-A00E57075A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89871-F8E0-4FB2-91B7-E6CD37A5ED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03C9-D780-46C7-8940-EF3F2A0EA0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9F74-6644-4F09-B8C7-825F895566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0296-74C7-4A64-8A74-E8F276EE76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64B1-A017-470F-A3A3-73B2D32311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2101-F128-436C-9242-C1D1D374E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86A5-03B2-4C25-B954-B00EB5164A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A54-DB97-42DE-8DF4-F87D204A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564D-62D9-4AEF-B207-E4F57CCC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011C-9A29-4369-AE9E-CD765CBD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69A2-D603-4870-A2AD-2A163384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73A9-B121-4CB3-B9BE-8C9B60DD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BDAD-0FB9-4B7F-9334-A2697132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3FE-727E-447D-A855-8F3E0EFE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29E-B0F1-4CCF-AE88-DCCE2A7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1B33-68FB-4F39-AD2F-F616E6F1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F06-99D7-4EC4-9677-E4EC8710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DAB-AA62-4392-B321-8333E9C9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216F-4F4D-4A84-9A51-549B66A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C9D3-A215-47B8-A7AC-5EC4D268B7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idos.ru/journal/2005/1212.htm" TargetMode="External"/><Relationship Id="rId2" Type="http://schemas.openxmlformats.org/officeDocument/2006/relationships/hyperlink" Target="http://festival.1september.ru/articles/574903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9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Формирование нравственных установок учащихся на уроках филологического цикл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Токранов Николай Валерьевич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fbfbf"/>
                </a:solidFill>
                <a:latin typeface="Arial"/>
              </a:rPr>
              <a:t>учитель русского языка и литературы МБОУ «Средняя школа №111» Советского района г.Каза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0B94-1CE0-4D78-93E4-2479C2944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Organization Chart 7"/>
          <p:cNvGrpSpPr/>
          <p:nvPr/>
        </p:nvGrpSpPr>
        <p:grpSpPr>
          <a:xfrm>
            <a:off x="0" y="98280"/>
            <a:ext cx="9143640" cy="6606720"/>
            <a:chOff x="0" y="98280"/>
            <a:chExt cx="9143640" cy="6606720"/>
          </a:xfrm>
        </p:grpSpPr>
        <p:cxnSp>
          <p:nvCxnSpPr>
            <p:cNvPr id="79" name="_s2052"/>
            <p:cNvCxnSpPr>
              <a:stCxn id="80" idx="1"/>
              <a:endCxn id="81" idx="2"/>
            </p:cNvCxnSpPr>
            <p:nvPr/>
          </p:nvCxnSpPr>
          <p:spPr>
            <a:xfrm rot="10800000">
              <a:off x="668124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2053"/>
            <p:cNvCxnSpPr>
              <a:stCxn id="83" idx="1"/>
              <a:endCxn id="81" idx="2"/>
            </p:cNvCxnSpPr>
            <p:nvPr/>
          </p:nvCxnSpPr>
          <p:spPr>
            <a:xfrm rot="10800000">
              <a:off x="668124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2054"/>
            <p:cNvCxnSpPr>
              <a:stCxn id="85" idx="1"/>
              <a:endCxn id="86" idx="2"/>
            </p:cNvCxnSpPr>
            <p:nvPr/>
          </p:nvCxnSpPr>
          <p:spPr>
            <a:xfrm rot="10800000">
              <a:off x="3867480" y="3873600"/>
              <a:ext cx="352080" cy="235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2055"/>
            <p:cNvCxnSpPr>
              <a:stCxn id="88" idx="1"/>
              <a:endCxn id="86" idx="2"/>
            </p:cNvCxnSpPr>
            <p:nvPr/>
          </p:nvCxnSpPr>
          <p:spPr>
            <a:xfrm rot="10800000">
              <a:off x="38674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056"/>
            <p:cNvCxnSpPr>
              <a:stCxn id="90" idx="1"/>
              <a:endCxn id="91" idx="2"/>
            </p:cNvCxnSpPr>
            <p:nvPr/>
          </p:nvCxnSpPr>
          <p:spPr>
            <a:xfrm rot="10800000">
              <a:off x="1054080" y="3872880"/>
              <a:ext cx="352080" cy="944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057"/>
            <p:cNvCxnSpPr>
              <a:stCxn id="81" idx="0"/>
              <a:endCxn id="93" idx="2"/>
            </p:cNvCxnSpPr>
            <p:nvPr/>
          </p:nvCxnSpPr>
          <p:spPr>
            <a:xfrm flipV="1">
              <a:off x="6681960" y="2457360"/>
              <a:ext cx="2880" cy="472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058"/>
            <p:cNvCxnSpPr>
              <a:stCxn id="86" idx="0"/>
              <a:endCxn id="95" idx="2"/>
            </p:cNvCxnSpPr>
            <p:nvPr/>
          </p:nvCxnSpPr>
          <p:spPr>
            <a:xfrm flipV="1" rot="16200000">
              <a:off x="292860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2059"/>
            <p:cNvCxnSpPr>
              <a:stCxn id="91" idx="0"/>
              <a:endCxn id="95" idx="2"/>
            </p:cNvCxnSpPr>
            <p:nvPr/>
          </p:nvCxnSpPr>
          <p:spPr>
            <a:xfrm flipH="1" flipV="1" rot="5400000">
              <a:off x="1521720" y="1989720"/>
              <a:ext cx="472320" cy="1407240"/>
            </a:xfrm>
            <a:prstGeom prst="bentConnector3">
              <a:avLst>
                <a:gd name="adj1" fmla="val 261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2060"/>
            <p:cNvCxnSpPr>
              <a:stCxn id="93" idx="0"/>
              <a:endCxn id="98" idx="2"/>
            </p:cNvCxnSpPr>
            <p:nvPr/>
          </p:nvCxnSpPr>
          <p:spPr>
            <a:xfrm flipV="1" rot="16200000">
              <a:off x="539028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2061"/>
            <p:cNvCxnSpPr>
              <a:stCxn id="95" idx="0"/>
              <a:endCxn id="98" idx="2"/>
            </p:cNvCxnSpPr>
            <p:nvPr/>
          </p:nvCxnSpPr>
          <p:spPr>
            <a:xfrm flipH="1" flipV="1" rot="5400000">
              <a:off x="3280320" y="222120"/>
              <a:ext cx="472320" cy="2110680"/>
            </a:xfrm>
            <a:prstGeom prst="bentConnector3">
              <a:avLst>
                <a:gd name="adj1" fmla="val 2623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2062"/>
            <p:cNvSpPr/>
            <p:nvPr/>
          </p:nvSpPr>
          <p:spPr>
            <a:xfrm>
              <a:off x="3516840" y="982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Читатель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грамот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63"/>
            <p:cNvSpPr/>
            <p:nvPr/>
          </p:nvSpPr>
          <p:spPr>
            <a:xfrm>
              <a:off x="140652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2064"/>
            <p:cNvSpPr/>
            <p:nvPr/>
          </p:nvSpPr>
          <p:spPr>
            <a:xfrm>
              <a:off x="5626800" y="151380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пора н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нетекстово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н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065"/>
            <p:cNvSpPr/>
            <p:nvPr/>
          </p:nvSpPr>
          <p:spPr>
            <a:xfrm>
              <a:off x="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айти и 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_s2066"/>
            <p:cNvSpPr/>
            <p:nvPr/>
          </p:nvSpPr>
          <p:spPr>
            <a:xfrm>
              <a:off x="28134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грирова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нтерпретирова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_s2067"/>
            <p:cNvSpPr/>
            <p:nvPr/>
          </p:nvSpPr>
          <p:spPr>
            <a:xfrm>
              <a:off x="5626800" y="292968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 оцени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сообщение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068"/>
            <p:cNvSpPr/>
            <p:nvPr/>
          </p:nvSpPr>
          <p:spPr>
            <a:xfrm>
              <a:off x="140652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звлеч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информацию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069"/>
            <p:cNvSpPr/>
            <p:nvPr/>
          </p:nvSpPr>
          <p:spPr>
            <a:xfrm>
              <a:off x="4219920" y="434556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формирова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щее пониман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2070"/>
            <p:cNvSpPr/>
            <p:nvPr/>
          </p:nvSpPr>
          <p:spPr>
            <a:xfrm>
              <a:off x="4219920" y="5761440"/>
              <a:ext cx="2109960" cy="939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олковать тек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_s2071"/>
            <p:cNvSpPr/>
            <p:nvPr/>
          </p:nvSpPr>
          <p:spPr>
            <a:xfrm>
              <a:off x="7033680" y="434556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содержа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ие текс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2072"/>
            <p:cNvSpPr/>
            <p:nvPr/>
          </p:nvSpPr>
          <p:spPr>
            <a:xfrm>
              <a:off x="7033680" y="5761440"/>
              <a:ext cx="2109960" cy="943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смыслить 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ценить фор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екст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способов самостоятельного анализа тек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опросы анке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1. Составляю план                 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2. Выписываю сложные места             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3. Запоминаю весь текст или его части                         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4. Разбираю сложные места при помощи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взрослых или дополнительной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5. Читаю текст несколько раз                                          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6. Составляю таблицу или схему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7. Легко подбираю примеры к                                          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предложенному тек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8. Легко пересказываю текст учебника                           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своими слов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2f2f2"/>
                </a:solidFill>
                <a:latin typeface="Arial"/>
              </a:rPr>
              <a:t>Репрезентативная выборка составила 50 челов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2f2f2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AA85-CD4A-45E9-A81C-A49B566FFA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Диагностическая карта уровней восприятия текста Ф.Абрамова «О чем плачут лошади»</a:t>
            </a:r>
            <a:br>
              <a:rPr sz="2500"/>
            </a:b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 учащихся 7-го класса (по Н.Д.Молдавской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905120"/>
          <a:ext cx="8305920" cy="4227480"/>
        </p:xfrm>
        <a:graphic>
          <a:graphicData uri="http://schemas.openxmlformats.org/drawingml/2006/table">
            <a:tbl>
              <a:tblPr/>
              <a:tblGrid>
                <a:gridCol w="1703520"/>
                <a:gridCol w="2011320"/>
                <a:gridCol w="2293920"/>
                <a:gridCol w="2297160"/>
              </a:tblGrid>
              <a:tr h="33541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тографи-ческое  вос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сюжетно-событийной осно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основе осмысления композиционных связей без понимания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уров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ное обобщение на композиционной основе с ограниченным пониманием образа авт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из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270A-4ED9-4A63-9E88-7E8F3AB49DA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8600" y="24444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Диагностика уровня усвоения учащимися 7-го класса содержания нравственных понятий в ходе анализа текста  Ф.Абрамова «О чем плачут лошади» (по Павловой И.И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600200"/>
          <a:ext cx="8153280" cy="4595760"/>
        </p:xfrm>
        <a:graphic>
          <a:graphicData uri="http://schemas.openxmlformats.org/drawingml/2006/table">
            <a:tbl>
              <a:tblPr/>
              <a:tblGrid>
                <a:gridCol w="2271600"/>
                <a:gridCol w="1604880"/>
                <a:gridCol w="1470240"/>
                <a:gridCol w="1434960"/>
                <a:gridCol w="1371600"/>
              </a:tblGrid>
              <a:tr h="731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пределяемое понят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авильное 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глубоко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ним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бал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ним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бал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3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триот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5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тернационализ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лектив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удолюб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0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бежд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ужество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4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еро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96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ви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9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ветствен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уманиз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888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циональное достои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514B-638A-4A54-B2E5-C34EAE5B7D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ид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оварна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с тек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речи (устной и письмен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ы работы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седа (репродуктивная и эвристическ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сп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следова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щение в виртуальн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F9AB-DA6E-402D-AEE7-CF8793B93B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ческий инструмент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хнологии</a:t>
            </a:r>
            <a:r>
              <a:rPr b="0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развития критического мышления через чтение (способность ставить новые вопросы, вырабатывать разнообразные аргументы, принимать независимые продуманные решени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поэтапного формирования умений учи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я формирования «вдумчивого читателя» (инсерт, рафт, «толстые» и «тонкие» вопросы, чтение с пометами, класт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СО, Г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етоды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ейс-стади </a:t>
            </a: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649C-893D-47A0-A245-FA5AD46DFC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ластер «Образная система в повести А.И.Куприна «Олес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1676520" y="182880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иген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533520" y="259092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8"/>
          <p:cNvSpPr/>
          <p:nvPr/>
        </p:nvSpPr>
        <p:spPr>
          <a:xfrm>
            <a:off x="762120" y="388620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пожертвов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5715000" y="1752480"/>
            <a:ext cx="16002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 самоотвержен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бв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"/>
          <p:cNvSpPr/>
          <p:nvPr/>
        </p:nvSpPr>
        <p:spPr>
          <a:xfrm>
            <a:off x="7010280" y="2590920"/>
            <a:ext cx="12956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ш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1"/>
          <p:cNvSpPr/>
          <p:nvPr/>
        </p:nvSpPr>
        <p:spPr>
          <a:xfrm>
            <a:off x="7162920" y="4038480"/>
            <a:ext cx="13716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стот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те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2286000" y="4952880"/>
            <a:ext cx="17524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вил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029200" y="487692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лове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мира прир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2590920" y="3200400"/>
            <a:ext cx="15238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в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имоф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4876920" y="3276720"/>
            <a:ext cx="1371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е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1"/>
          <p:cNvSpPr/>
          <p:nvPr/>
        </p:nvSpPr>
        <p:spPr>
          <a:xfrm>
            <a:off x="3581280" y="6095880"/>
            <a:ext cx="1828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ти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2"/>
          <p:cNvSpPr/>
          <p:nvPr/>
        </p:nvSpPr>
        <p:spPr>
          <a:xfrm flipH="1" flipV="1">
            <a:off x="2590920" y="274320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3"/>
          <p:cNvSpPr/>
          <p:nvPr/>
        </p:nvSpPr>
        <p:spPr>
          <a:xfrm flipH="1" flipV="1">
            <a:off x="1828440" y="335232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2209320" y="3962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5"/>
          <p:cNvSpPr/>
          <p:nvPr/>
        </p:nvSpPr>
        <p:spPr>
          <a:xfrm>
            <a:off x="29718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6"/>
          <p:cNvSpPr/>
          <p:nvPr/>
        </p:nvSpPr>
        <p:spPr>
          <a:xfrm flipV="1">
            <a:off x="5791320" y="25905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7"/>
          <p:cNvSpPr/>
          <p:nvPr/>
        </p:nvSpPr>
        <p:spPr>
          <a:xfrm flipV="1">
            <a:off x="6172200" y="3352320"/>
            <a:ext cx="9907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8"/>
          <p:cNvSpPr/>
          <p:nvPr/>
        </p:nvSpPr>
        <p:spPr>
          <a:xfrm>
            <a:off x="6248520" y="411480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601992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048120" y="5867280"/>
            <a:ext cx="53316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 flipV="1">
            <a:off x="5410080" y="57909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лгоритм формирования навыка «вдумчивого»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а главная мысль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ите ключевые слова и словосочетания в данном отрыв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 связана главная мысль данного абзаца с содержанием предыдущего абза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чем предположительно пойдет речь в следующем абзаце?</a:t>
            </a:r>
            <a:r>
              <a:rPr b="0" lang="ru-RU" sz="28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FB02-74C8-44F5-9F88-A59BF8F7A8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Object 2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6988320" cy="47750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6"/>
          <p:cNvGraphicFramePr/>
          <p:nvPr/>
        </p:nvGraphicFramePr>
        <p:xfrm>
          <a:off x="4495680" y="914400"/>
          <a:ext cx="4586400" cy="32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914400"/>
                    <a:ext cx="4586400" cy="32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D016-7944-44D7-821D-21FDCAD3B51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>
            <a:off x="228600" y="2362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9280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Рисунок 4" descr=""/>
          <p:cNvPicPr/>
          <p:nvPr/>
        </p:nvPicPr>
        <p:blipFill>
          <a:blip r:embed="rId1"/>
          <a:srcRect l="30436" t="0" r="22135" b="0"/>
          <a:stretch/>
        </p:blipFill>
        <p:spPr>
          <a:xfrm>
            <a:off x="609480" y="0"/>
            <a:ext cx="822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уальность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едеральный государственный стандарт основного общего образования по русскому языку и литературе определяет главными целями изучения предметов формирование духовно развитой личности, обладающей гуманистическим мировоззрением, чувством патриотизма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Arial"/>
              </a:rPr>
              <a:t>Методологической основой разработки и реализации федерального государственного образовательного стандарта общего образования является концепция духовно-нравственного развития и воспитания личности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F11A-DCF9-44AA-BB0D-30B4A1B2ED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о-музыкальна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тудия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17 кабине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672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е нар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роман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ворчество бардов -шестидесят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ходные пе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ременные рок-исполнител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c00000"/>
                </a:solidFill>
                <a:latin typeface="Arial"/>
              </a:rPr>
              <a:t>Жизнь, судьба, эпоха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После уроков2"/>
          <p:cNvPicPr/>
          <p:nvPr/>
        </p:nvPicPr>
        <p:blipFill>
          <a:blip r:embed="rId1"/>
          <a:stretch/>
        </p:blipFill>
        <p:spPr>
          <a:xfrm>
            <a:off x="6362640" y="121932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После уроков3"/>
          <p:cNvPicPr/>
          <p:nvPr/>
        </p:nvPicPr>
        <p:blipFill>
          <a:blip r:embed="rId2"/>
          <a:stretch/>
        </p:blipFill>
        <p:spPr>
          <a:xfrm>
            <a:off x="5105520" y="2971800"/>
            <a:ext cx="2590560" cy="1941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шкид3"/>
          <p:cNvPicPr/>
          <p:nvPr/>
        </p:nvPicPr>
        <p:blipFill>
          <a:blip r:embed="rId3"/>
          <a:stretch/>
        </p:blipFill>
        <p:spPr>
          <a:xfrm>
            <a:off x="6248520" y="4648320"/>
            <a:ext cx="259056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межуточная диагнос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Патриотизм для меня - понятие двойственное. С одной стороны, в нём много общественного, с другой, что-то личное, сво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Быть патриотом не значит везде и всюду хвалить свою страну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Достоинство – понятие обширное. Нужно быть достойным своей семьи и своей страны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Толерантность – это не просто эффектное слово. Это работа на каждый день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едеральный государственный образовательный стандарт основного общего образования /Министерство образования и науки РФ.- М.: Просвещение,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даментальное ядро содержания общего образования /Под ред. В.В.Козлова, А .М. Кондакова .- М.: Просвещение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Хуторской А.В. Технология проектирования ключевых и предметных компетенций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idos.ru/journal/2005/1212.htm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урьянова А.В. Компетентностный подход в образовании [Электронный ресурс] // Режим доступа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estival.1september.ru/articles/574903/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елевко Г.К. Современные образовательные технологии. Учебное пособие. М.: Народное образование, 1998,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.Мередит, Ч.Темпл, Д.Стил, «Воспитание  вдумчивых  читателей»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.О.Загашева «Заметки на полях. Пример занятия, направленного на развитие критического мышления учащихся на основе стратегии «Условные значки» ( «Библиотека в школе», 2004, №18, с. 10-13)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каткин М.Н. Проблемы современной дидактики. М. Педагогика 19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Махмутов М.И. Организация проблемного обучения М. Педагогика 1977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CDF81-43A9-4EFC-83D1-926FAF3DD16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з научно-методическ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808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научно-методической литературе (А.В. Хуторской, В.В.Краевский, А.В.Гурьянова, И.А.Зимняя),  несмотря на наличие нескольких  подходов, приоритетными опреде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нностно-смысловые компет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щекульту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чебно-познава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формацио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уникатив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циально-труд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петенции личностного самосовершенств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0119-B788-4ADB-97D6-161AFAF524F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ь и задачи педагогическ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ирование ценностно-смысловых, нравственных установок школьников в образовательном пространстве в  предметной области «Русский язык и литератур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программно-методического сопровождения предметной обла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изация ценностных установок в соответствии с возрастными особенностями учащего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тезауруса нравственных понятий  для введения в учебное  поле учащих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эффективных педагогических техник работы с учебным текстом с целью актуализации в 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сформированности нравственных установок 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A1C2-7514-4B5A-A259-99FBAEBB3F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метные зада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сти к усвоению и осознанию основных нравственных по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вести к пониманию нравственных проблем, поднятых в русской и зарубежной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критического мыш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вить навыки принятия коллективных и самостоятельных реш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42F6-72C9-4CBE-93EE-5A4801E185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водная диагно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седы с учащимися в урочное и внеурочное врем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ос родител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ониторинг литературных предпочтений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ализ творческих работ уча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анирование аккаунтов в социальных сет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24028"/>
          <p:cNvPicPr/>
          <p:nvPr/>
        </p:nvPicPr>
        <p:blipFill>
          <a:blip r:embed="rId1"/>
          <a:stretch/>
        </p:blipFill>
        <p:spPr>
          <a:xfrm>
            <a:off x="6108840" y="4286160"/>
            <a:ext cx="2340000" cy="3510000"/>
          </a:xfrm>
          <a:prstGeom prst="rect">
            <a:avLst/>
          </a:prstGeom>
          <a:ln w="0">
            <a:noFill/>
          </a:ln>
        </p:spPr>
      </p:pic>
      <p:sp>
        <p:nvSpPr>
          <p:cNvPr id="6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D23FE-E72E-495F-AC48-C6DCEA83D08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Образец диагнос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bbe0e3"/>
                </a:solidFill>
                <a:latin typeface="Arial"/>
              </a:rPr>
              <a:t>Анкетирование</a:t>
            </a:r>
            <a:r>
              <a:rPr b="0" lang="ru-RU" sz="32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be0e3"/>
                </a:solidFill>
                <a:latin typeface="Arial"/>
              </a:rPr>
              <a:t>Какую бы тему ты выбрал для работы над домашним сочинен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чести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торическая эпоха в повести А.С. Пушкина «Капитанская доч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ма свободы в поэме М.Ю.Лермонтова «Мцыр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вод: дети выбирают конкретную тему, не подразумевающую проявления собственной позиции  и критичности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5D11-2DCD-43D6-9FC3-22EABE8FEEB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0" y="1065240"/>
          <a:ext cx="8326440" cy="538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5240"/>
                    <a:ext cx="8326440" cy="53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зультаты анкетир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1107-B8E6-4493-9BA8-0933B396A5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609480" y="9907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звитие эмоциональной сф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чностный смысл изучаемого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ожительный эмоциональный фон учебных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ди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пер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чувств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E40A-EF32-4B97-A32D-579C2EE2454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7:40:06Z</dcterms:created>
  <dc:creator>Николай</dc:creator>
  <dc:description/>
  <dc:language>en-US</dc:language>
  <cp:lastModifiedBy>user</cp:lastModifiedBy>
  <dcterms:modified xsi:type="dcterms:W3CDTF">2012-09-25T04:36:20Z</dcterms:modified>
  <cp:revision>1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