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1802-FDCF-4597-A9DF-238217E2C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47F-A661-4775-AB64-88843723A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94C6-EBC3-4115-A653-0F34A837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902B-81D2-45FC-A12D-4169B563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A14F-66B9-4D24-9F2A-BCF7E9AE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ED6C-7032-4EAA-9643-47937762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5FBB-0DCC-4BCA-B8B3-F5E66455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3797-823C-46E9-A0FD-ED5FCFEC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3437-06D5-486E-8C8A-489FD265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BFB0D-DEBC-4F42-B96F-B9E6F452A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86AA-8DF7-42EA-8A39-6E4B2C5F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824-3DF9-48A3-89A5-A379087D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303B-F4DE-4E9F-92DA-55066399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215F-95D0-4FB3-AABC-AA53924B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4164-3949-4BB2-98A0-F43E9975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2977-519C-48EA-861E-3FE10395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77F7-3AD5-438A-8221-C4D922E9C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5D92-C00F-4104-BADA-6986619A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C0AE-4CB6-4041-A8A0-4A988263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EF8-E480-4125-8FA7-C8BAFC50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F3E-4E2C-43E9-B799-D003A973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1A0E-0E76-4C1E-BA8E-D9F2ECC6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1546-4321-4C6C-B0C0-186A92EA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5A8-B5AD-4857-8E5A-6D10DD2D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F9C6-26EB-4AEB-81E9-7862FD80DA0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D7F4-DAE2-4D68-B3B3-79C3313F10B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рофессиональный конкурс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Лучший педагог ДОУ»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как средство развития педагогического мастерства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7760" y="4114800"/>
            <a:ext cx="556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веева М.Г., педагог-психолог ГМЦ г.Каз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манова Н.Г., методист по дошкольному образованию ИМО ГМЦ Советского района, старший воспитатель МАОУ «Прогимназия № 29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9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33520" y="53316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это интерактивная форма обучения и обмена опытом, объединяющая формат тренинга и конференц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 (от английского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master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лучший в какой-либо области +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clas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– 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современная форма проведения обучающего тренинга-семинара для отработки практических навыков по различным методикам и технологиям с целью повышения профессионального уровня и обмена передовым опытом участников, расширения кругозора и приобщения к новейшим областям зна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539640" y="620640"/>
            <a:ext cx="842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Рекомендации по подготовке мастер-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. Выберите ведущую педагогическую идею, которую вы хотите проиллюстрировать на мастер-классе и свяжите ее с тем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2. Определите цели и задачи в связи с темой, которые вы хотите достигнуть на мастер-класс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3. Придумайте проблему, вопрос, парадокс, вводящие в вашу тему занятия и представляющие интерес для «воспитан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4. Подберите технические средства (минимально) и различные формы работы к данным целям и задач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5. Придумайте неожиданные предметы или открытия в обычном удивительного, которые раскрывают ведущую педагогическую иде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6. Включите фантазию, придумайте интересный замысел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7. Составьте подробный план зан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8. Тщательно проверьте технику и работу микрофонов перед началом мастер-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9. Расставьте стулья, столы и доску так, как вам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10. Когда все готово — дайте команду организаторам, что можно нач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684360" y="476280"/>
            <a:ext cx="777528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Рекомендации по проведению мастер-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. Старайтесь говорить не громко и не тихо, но внятно и с разными интонациями (не монотонн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2. Сами говорите только в микрофон и следите, чтобы ученики тоже давали ответы в микрофон, чтобы слышали все в зале. Контролируйте силу своего голоса и голоса учеников по звуку в колонк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3. Нельзя весь мастер-класс читать лекцию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4. Не превращайте мастер-класс только в игру. Одна форма работы на мастер-классе неприемле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5. Проявляйте специфику предмета (иногда к концу урока зрителям и жюри не понятен предмет преподава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6. Это урок не для профессионалов данного направления. Задача — прояснить сложное, затронуть общечеловеческие ценности, проблемы, которые волнуют все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7. Используйте новые информационные технологии только если они органично входят в вашу идею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8. Здоровьесбережение должно стать не надуманным, а органичным элементом ур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9. Не добивайтесь долго того ответа, который вам нужен. А если получили его раньше — не продолжайте двигаться в эту сторон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0. Старайтесь показывать не только себя, но и уче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1. Не бойтесь задавать трудные вопрос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12. Проведите в конце краткий анализ занятия с «ученикам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838080" y="990720"/>
            <a:ext cx="73580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крытый микрофо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собственной позиции по пробл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у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и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684360" y="476280"/>
            <a:ext cx="784836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- это я. Такого, как я, никогда не было и не будет. Есть люди, чем-то похожие на меня, но в точности такого, как я, нет. Мне принадлежит мое тело и все, что оно делает. Мне принадлежит мой голос: тихий или громкий, нежный или резкий. Мне принадлежат мои глаза и все образы, которые они могут увидеть. Это все принадлежит мне, потому что я один выбрал это, это истинно. Это достаточное основание для того, чтобы принять и полюбить себя, заинтересоваться собой. Теперь, когда я принял себя, я могу набраться терпения и мужества, чтобы узнать себя лучше и глубже. Конечно, во мне есть нечто, что вызывает мое недоумение. Но теперь, когда я не боюсь посмотреть в себя, я могу сделать так, чтобы все во мне способствовало достижению моих целей, чтобы полезного и доброго во мне становилось больше и больше. Я могу видеть, слышать, думать, действовать. Значит, во мне есть все, чтобы жить. Чтобы вносить гармонию в мир людей и вещей вокруг меня. Я – это я, и Я – это здорово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785880" y="428760"/>
            <a:ext cx="7858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«Презентация опыта работы, методический семина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Unicode MS"/>
                <a:ea typeface="Times New Roman"/>
              </a:rPr>
              <a:t>Регламент – 15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рактическая значимость и новизна представленного опы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бщая  и профессиональная эруди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Культура публичного вы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3"/>
          <p:cNvSpPr/>
          <p:nvPr/>
        </p:nvSpPr>
        <p:spPr>
          <a:xfrm>
            <a:off x="533520" y="533520"/>
            <a:ext cx="821520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ое мероприятие с детьм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-30 минут (от возрастной группы воспитанник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ая компет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заинтересовать группу детей содержанием и видом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гинальность организации и выбора содержания открытого просмот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удерживать интерес детей в течение меро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сотрудничества детей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сть стиля взаимодействия с деть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активности и инициативности де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а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1600" y="320400"/>
            <a:ext cx="8215200" cy="4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33"/>
                </a:solidFill>
                <a:latin typeface="Garamond"/>
              </a:rPr>
              <a:t>Различия процесса обучения в детском саду, организованного в виде учебной деятельности и через организацию детских видов деятельности</a:t>
            </a:r>
            <a:endParaRPr b="0" lang="en-US" sz="1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990720"/>
          <a:ext cx="8763120" cy="5187960"/>
        </p:xfrm>
        <a:graphic>
          <a:graphicData uri="http://schemas.openxmlformats.org/drawingml/2006/table">
            <a:tbl>
              <a:tblPr/>
              <a:tblGrid>
                <a:gridCol w="4381560"/>
                <a:gridCol w="438156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виде учебной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ез организацию детских видов деятельности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- объект формирующих педагогических воз­действий взрослого человека. Взрослый - главный. Он руководит и управляет ребенком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ебенок и взрослый - оба субъекты взаимодействия. Они равны по значимости. Каждый в равной степени це­нен. Хотя взрослый, конечно, и старше, и опытне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взрослого выше, чем активность ребенка, в том числе и речевая (взрослый "много" говорит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Активность ребенка по крайней мере не меньше, чем активность взрослого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учебная. Главный результат учебной деятельности - решение какой-либо учебной задачи, поставленной перед детьми взрослым. Цель - знания, умения и навыки детей. Актив­ность детей нужна для достижения этой цел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я деятельность - это так называемые детские виды деятельности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Ребенок должен быть активен. Но при этом важно, что­бы его активность не была беспорядочной, хаотичной, а оформлялась во вполне определенные, присущие до­школьнику виды деятельности... общение, игра, пред­метная деятельность, конструирование, изобразитель­ная деятельность, элементарная трудовая деятельность"¹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Сам процесс их выполнения и итоги прежде всего ра­дуют самих детей и окружающих взрослых, не имея при этом каких-либо жестких норм и правил"². </a:t>
                      </a:r>
                      <a:br>
                        <a:rPr sz="1300"/>
                      </a:b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 - подлинная активность (деятельность) детей, а освоение знаний, умений и навыков - побочный эффект этой активност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380880"/>
          <a:ext cx="8229600" cy="5273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учеб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Основная модель организации образовательного процесса - совместная деятельность взрослого и реб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ая форма работы с детьми - занят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Основные формы работы с детьми - рассматривание, наблюдение, беседы, разговоры, экспериментирование и исследования, коллекционирование, чтение, реализация проектов, мастерская и т. д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пря­мые методы обучения (при частичном использовании опосредованн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именяются в основном так называемые опосредованные методы обучения (при частичном использовании прямых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 на занятии, как правило, не связаны с интересом детей к самой учебной деятельности. "Удерживает" детей на занятии авторитет взрослого. Именно поэтому педагогам зачастую приходится "украшать" занятие наглядностью, игровыми приемами, персонажами, чтобы облечь учебный процесс в привлекательную для дошкольников форму. Но ведь "подлинная цель взрослого - вовсе не поиграть, а использовать игрушку для мотивации освоения непривлекательных для детей предметных знаний"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Мотивы обучения, осуществляемого как организация детских видов деятельности, связаны в первую очередь с интересом детей к этим видам 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57200" y="380880"/>
          <a:ext cx="8229600" cy="5211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26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Все дети обязательно должны присутствовать на заняти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Допускаются так называемые свободные "вход" и "вы­ход" детей, что вовсе не предполагает провозглашения анархии в детском саду. Уважая ребенка, его состояние, настроение, предпочтения и интересы, взрослый обязан предоставить ему возможность выбора - участвовать или не участвовать вместе с другими детьми в совместном деле, но при этом вправе потребовать такого же уважения и к участникам этого совместного дел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в значительной степени регламентирован. Главное для взрослого - двигаться по заранее намеченному плану, программе. Педагог часто опирается на подготовленный конспект занятия, в ко­тором расписаны реплики и вопросы взрослого, ответы детей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Образовательный процесс предполагает внесение изменений (коррективов) в планы, программы с учетом потребностей и интересов детей. Конспекты могут ис­пользоваться частично, для заимствования фактического материала (например, интересных сведений о композиторах, писателях, художниках и их произведениях), отдельных методов и приемов и др., но не как "готовый образец" образовательного процесс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838080" y="500040"/>
            <a:ext cx="76201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ешение психолого-педагогических ситуац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формулировать пробл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е возрастных и индивидуальных особенностей участников сит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аргументировать предлагаемые ре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при необходимости адекватно изменять стратегию по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культура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571680" y="500040"/>
            <a:ext cx="74293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стер-клас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ламент 20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бина и оригинальность содерж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ая значим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взаимодействовать с ауд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2206800" y="3139920"/>
            <a:ext cx="6602400" cy="3224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066320"/>
            <a:ext cx="8229600" cy="11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ТАКОЕ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100440" indent="-802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  <a:ea typeface="Times New Roman"/>
              </a:rPr>
              <a:t>МАСТЕР-КЛАСС </a:t>
            </a:r>
            <a:br>
              <a:rPr sz="5000"/>
            </a:b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ЗАРУБА Артур Викторович"/>
          <p:cNvPicPr/>
          <p:nvPr/>
        </p:nvPicPr>
        <p:blipFill>
          <a:blip r:embed="rId2"/>
          <a:stretch/>
        </p:blipFill>
        <p:spPr>
          <a:xfrm>
            <a:off x="457200" y="2819520"/>
            <a:ext cx="22860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илонова Светлана Ринатовна</cp:lastModifiedBy>
  <dcterms:modified xsi:type="dcterms:W3CDTF">2012-12-27T06:08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