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D361-EA9C-4945-B98E-9618944AC2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5F9C-F55D-4375-A599-2F65BACD1A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877C-1936-4A84-826A-D4C9225224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E255-3828-44E0-870B-065F05AB30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DF8B-A5D4-4EF8-9C84-628F9B3888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5601-B60C-490F-852A-8F36B25DF5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FE0F-FBEC-431E-9194-ED2DC7673D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7A19-BB99-4EB2-995F-4473F99642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EAC3-4D27-43A3-A587-55A52734F7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2AB0-4435-4E3F-8002-3137C53381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B3C7-A71D-4E07-8632-F3D90553A2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DE8D-CDE9-4D81-931D-8C50B2457C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03E0-5756-4130-80AE-57B92B8A82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0C10-17DA-4699-9857-5A10B8734E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A961-BB70-4E6F-9EAF-81D9FD3AAF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E9F8-610A-4434-9D92-C721ABC56D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8BF7-7AA8-43AB-BF2B-CDB8D1F6E6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DBB4-74B7-4957-B795-1A498A4C8E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C843-8D89-46CD-828E-BE8BC857A0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0184-ABF5-4CD3-B079-1D850F5341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31E1-CF7E-447A-9D14-14D71054CF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E453-9010-4FFE-8505-BEF8BC4FA5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7AD-95E3-445E-888B-69C2BD6A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455-E25A-4B41-A30A-4986C725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999-2950-4969-8ACC-57780051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C28-161B-4B26-B5CF-80CF8CE2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8A2-044C-46A1-8BA4-FFCA38BC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116-1432-457C-8878-4EACD566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F54-6253-4236-B88A-98C18BAD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B9D2-AFEE-4CE1-886F-D99DF5D0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8A0-33EC-488D-A296-A0C8ED93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E8D-2BA7-4910-8AF2-C81A38B5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673-ED88-4C0E-A9D4-5ABBE4D4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88A-D4FD-4AD1-B34D-D1C6D27B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AC05-6208-4EA3-803E-05DD6D5437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idos.ru/journal/2005/1212.htm" TargetMode="External"/><Relationship Id="rId2" Type="http://schemas.openxmlformats.org/officeDocument/2006/relationships/hyperlink" Target="http://festival.1september.ru/articles/574903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нравственных установок учащихся на уроках филологического цик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Токранов Николай Валерье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учитель русского языка и литературы МБОУ «Средняя школа №111» Советского района г.Каз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4E70-CC61-4BF8-A003-626A294C3D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Organization Chart 7"/>
          <p:cNvGrpSpPr/>
          <p:nvPr/>
        </p:nvGrpSpPr>
        <p:grpSpPr>
          <a:xfrm>
            <a:off x="0" y="98280"/>
            <a:ext cx="9143640" cy="6606720"/>
            <a:chOff x="0" y="98280"/>
            <a:chExt cx="9143640" cy="6606720"/>
          </a:xfrm>
        </p:grpSpPr>
        <p:cxnSp>
          <p:nvCxnSpPr>
            <p:cNvPr id="79" name="_s2052"/>
            <p:cNvCxnSpPr>
              <a:stCxn id="80" idx="1"/>
              <a:endCxn id="81" idx="2"/>
            </p:cNvCxnSpPr>
            <p:nvPr/>
          </p:nvCxnSpPr>
          <p:spPr>
            <a:xfrm rot="10800000">
              <a:off x="668124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2053"/>
            <p:cNvCxnSpPr>
              <a:stCxn id="83" idx="1"/>
              <a:endCxn id="81" idx="2"/>
            </p:cNvCxnSpPr>
            <p:nvPr/>
          </p:nvCxnSpPr>
          <p:spPr>
            <a:xfrm rot="10800000">
              <a:off x="668124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2054"/>
            <p:cNvCxnSpPr>
              <a:stCxn id="85" idx="1"/>
              <a:endCxn id="86" idx="2"/>
            </p:cNvCxnSpPr>
            <p:nvPr/>
          </p:nvCxnSpPr>
          <p:spPr>
            <a:xfrm rot="10800000">
              <a:off x="386748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055"/>
            <p:cNvCxnSpPr>
              <a:stCxn id="88" idx="1"/>
              <a:endCxn id="86" idx="2"/>
            </p:cNvCxnSpPr>
            <p:nvPr/>
          </p:nvCxnSpPr>
          <p:spPr>
            <a:xfrm rot="10800000">
              <a:off x="38674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056"/>
            <p:cNvCxnSpPr>
              <a:stCxn id="90" idx="1"/>
              <a:endCxn id="91" idx="2"/>
            </p:cNvCxnSpPr>
            <p:nvPr/>
          </p:nvCxnSpPr>
          <p:spPr>
            <a:xfrm rot="10800000">
              <a:off x="10540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057"/>
            <p:cNvCxnSpPr>
              <a:stCxn id="81" idx="0"/>
              <a:endCxn id="93" idx="2"/>
            </p:cNvCxnSpPr>
            <p:nvPr/>
          </p:nvCxnSpPr>
          <p:spPr>
            <a:xfrm flipV="1">
              <a:off x="6681960" y="2457360"/>
              <a:ext cx="2880" cy="47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058"/>
            <p:cNvCxnSpPr>
              <a:stCxn id="86" idx="0"/>
              <a:endCxn id="95" idx="2"/>
            </p:cNvCxnSpPr>
            <p:nvPr/>
          </p:nvCxnSpPr>
          <p:spPr>
            <a:xfrm flipV="1" rot="16200000">
              <a:off x="292860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059"/>
            <p:cNvCxnSpPr>
              <a:stCxn id="91" idx="0"/>
              <a:endCxn id="95" idx="2"/>
            </p:cNvCxnSpPr>
            <p:nvPr/>
          </p:nvCxnSpPr>
          <p:spPr>
            <a:xfrm flipH="1" flipV="1" rot="5400000">
              <a:off x="152172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60"/>
            <p:cNvCxnSpPr>
              <a:stCxn id="93" idx="0"/>
              <a:endCxn id="98" idx="2"/>
            </p:cNvCxnSpPr>
            <p:nvPr/>
          </p:nvCxnSpPr>
          <p:spPr>
            <a:xfrm flipV="1" rot="16200000">
              <a:off x="539028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61"/>
            <p:cNvCxnSpPr>
              <a:stCxn id="95" idx="0"/>
              <a:endCxn id="98" idx="2"/>
            </p:cNvCxnSpPr>
            <p:nvPr/>
          </p:nvCxnSpPr>
          <p:spPr>
            <a:xfrm flipH="1" flipV="1" rot="5400000">
              <a:off x="328032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2062"/>
            <p:cNvSpPr/>
            <p:nvPr/>
          </p:nvSpPr>
          <p:spPr>
            <a:xfrm>
              <a:off x="3516840" y="982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Читатель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рамот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3"/>
            <p:cNvSpPr/>
            <p:nvPr/>
          </p:nvSpPr>
          <p:spPr>
            <a:xfrm>
              <a:off x="140652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4"/>
            <p:cNvSpPr/>
            <p:nvPr/>
          </p:nvSpPr>
          <p:spPr>
            <a:xfrm>
              <a:off x="562680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нетекстов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н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65"/>
            <p:cNvSpPr/>
            <p:nvPr/>
          </p:nvSpPr>
          <p:spPr>
            <a:xfrm>
              <a:off x="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йти и 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66"/>
            <p:cNvSpPr/>
            <p:nvPr/>
          </p:nvSpPr>
          <p:spPr>
            <a:xfrm>
              <a:off x="28134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грирова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рпрет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67"/>
            <p:cNvSpPr/>
            <p:nvPr/>
          </p:nvSpPr>
          <p:spPr>
            <a:xfrm>
              <a:off x="56268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оцен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сообщени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8"/>
            <p:cNvSpPr/>
            <p:nvPr/>
          </p:nvSpPr>
          <p:spPr>
            <a:xfrm>
              <a:off x="140652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9"/>
            <p:cNvSpPr/>
            <p:nvPr/>
          </p:nvSpPr>
          <p:spPr>
            <a:xfrm>
              <a:off x="4219920" y="434556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формиров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щее поним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70"/>
            <p:cNvSpPr/>
            <p:nvPr/>
          </p:nvSpPr>
          <p:spPr>
            <a:xfrm>
              <a:off x="4219920" y="576144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олковать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71"/>
            <p:cNvSpPr/>
            <p:nvPr/>
          </p:nvSpPr>
          <p:spPr>
            <a:xfrm>
              <a:off x="703368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содерж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ие 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72"/>
            <p:cNvSpPr/>
            <p:nvPr/>
          </p:nvSpPr>
          <p:spPr>
            <a:xfrm>
              <a:off x="7033680" y="576144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форм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способов самостоятельного анализа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опросы анк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1. Составляю план                 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2. Выписываю сложные места             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3. Запоминаю весь текст или его части                         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4. Разбираю сложные места при помощи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зрослых или дополнитель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5. Читаю текст несколько раз                                         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6. Составляю таблицу или схему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7. Легко подбираю примеры к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предложенному тек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8. Легко пересказываю текст учебника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своими сло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Репрезентативная выборка составила 50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2f2f2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519E-43C5-4FF3-B00B-967B4BE101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иагностическая карта уровней восприятия текста Ф.Абрамова «О чем плачут лошади»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учащихся 7-го класса (по Н.Д.Молдавск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905120"/>
          <a:ext cx="8305920" cy="4227480"/>
        </p:xfrm>
        <a:graphic>
          <a:graphicData uri="http://schemas.openxmlformats.org/drawingml/2006/table">
            <a:tbl>
              <a:tblPr/>
              <a:tblGrid>
                <a:gridCol w="1703520"/>
                <a:gridCol w="2011320"/>
                <a:gridCol w="2293920"/>
                <a:gridCol w="2297160"/>
              </a:tblGrid>
              <a:tr h="33541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тографи-ческое  вос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сюжетно-событийн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основе осмысления композиционных связей без понимания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композиционной основе с ограниченным пониманием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3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3C6A-C5F4-495C-9C17-B5D2292362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8600" y="24444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иагностика уровня усвоения учащимися 7-го класса содержания нравственных понятий в ходе анализа текста  Ф.Абрамова «О чем плачут лошади» (по Павловой И.И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600200"/>
          <a:ext cx="8153280" cy="4595760"/>
        </p:xfrm>
        <a:graphic>
          <a:graphicData uri="http://schemas.openxmlformats.org/drawingml/2006/table">
            <a:tbl>
              <a:tblPr/>
              <a:tblGrid>
                <a:gridCol w="2271600"/>
                <a:gridCol w="1604880"/>
                <a:gridCol w="1470240"/>
                <a:gridCol w="1434960"/>
                <a:gridCol w="1371600"/>
              </a:tblGrid>
              <a:tr h="731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емое по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льное 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глубо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риот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национализ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лектив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удолю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бежд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ж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4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ро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ви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ум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ьное достои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с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8843-9D28-4299-9157-9A779E7412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ид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с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речи (устной и письм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ы работы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седа (репродуктивная и эвристическ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п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ние в виртуальн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9FE9-A22B-467B-B6C8-F98A3999C3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хнологии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развития критического мышления через чтение (способность ставить новые вопросы, вырабатывать разнообразные аргументы, принимать независимые продуманные реш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поэтапного формирования умений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формирования «вдумчивого читателя» (инсерт, рафт, «толстые» и «тонкие» вопросы, чтение с пометами, клас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СО, Г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ейс-стади 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BCF6-213C-4B00-B5A6-2B9E93663F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астер «Образная система в повести А.И.Куприна «Оле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1676520" y="182880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ллиген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533520" y="259092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762120" y="388620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пожертвов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5715000" y="175248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отверж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7010280" y="2590920"/>
            <a:ext cx="1295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7162920" y="40384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стот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2286000" y="495288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029200" y="487692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мира 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590920" y="3200400"/>
            <a:ext cx="1523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моф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4876920" y="327672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3581280" y="609588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H="1" flipV="1">
            <a:off x="2590920" y="2743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 flipH="1" flipV="1">
            <a:off x="1828440" y="33523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4"/>
          <p:cNvSpPr/>
          <p:nvPr/>
        </p:nvSpPr>
        <p:spPr>
          <a:xfrm flipH="1">
            <a:off x="2209320" y="39625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5"/>
          <p:cNvSpPr/>
          <p:nvPr/>
        </p:nvSpPr>
        <p:spPr>
          <a:xfrm>
            <a:off x="29718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6"/>
          <p:cNvSpPr/>
          <p:nvPr/>
        </p:nvSpPr>
        <p:spPr>
          <a:xfrm flipV="1">
            <a:off x="5791320" y="25905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7"/>
          <p:cNvSpPr/>
          <p:nvPr/>
        </p:nvSpPr>
        <p:spPr>
          <a:xfrm flipV="1">
            <a:off x="6172200" y="335232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6248520" y="41148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60199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048120" y="5867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5410080" y="5790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горитм формирования навыка «вдумчивого»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а главная мысль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ите ключевые слова и словосочетания в данном отрыв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связана главная мысль данного абзаца с содержанием предыдущего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чем предположительно пойдет речь в следующем абзаце?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584D-0463-4221-B7F4-271193D87F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6988320" cy="4775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6"/>
          <p:cNvGraphicFramePr/>
          <p:nvPr/>
        </p:nvGraphicFramePr>
        <p:xfrm>
          <a:off x="4495680" y="914400"/>
          <a:ext cx="4586400" cy="32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914400"/>
                    <a:ext cx="458640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44E2-55CF-498E-9A08-D0D42EDB4B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228600" y="2362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928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1"/>
          <a:srcRect l="30436" t="0" r="22135" b="0"/>
          <a:stretch/>
        </p:blipFill>
        <p:spPr>
          <a:xfrm>
            <a:off x="60948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льный государственный стандарт основного общего образования по русскому языку и литературе определяет главными целями изучения предметов формирование духовно развитой личности, обладающей гуманистическим мировоззрением, чувством патриотизм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Методологической основой разработки и реализации федерального государственного образовательного стандарта общего образования является концепция духовно-нравственного развития и воспитания личности гражданин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6BF9-2C47-446B-9854-E1B40CA78D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о-музыкальна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уди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17 кабин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е нар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й роман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орчество бардов -шестидеся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х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рок-исполнител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Arial"/>
              </a:rPr>
              <a:t>Жизнь, судьба, эпох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После уроков2"/>
          <p:cNvPicPr/>
          <p:nvPr/>
        </p:nvPicPr>
        <p:blipFill>
          <a:blip r:embed="rId1"/>
          <a:stretch/>
        </p:blipFill>
        <p:spPr>
          <a:xfrm>
            <a:off x="6362640" y="12193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После уроков3"/>
          <p:cNvPicPr/>
          <p:nvPr/>
        </p:nvPicPr>
        <p:blipFill>
          <a:blip r:embed="rId2"/>
          <a:stretch/>
        </p:blipFill>
        <p:spPr>
          <a:xfrm>
            <a:off x="5105520" y="2971800"/>
            <a:ext cx="2590560" cy="1941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шкид3"/>
          <p:cNvPicPr/>
          <p:nvPr/>
        </p:nvPicPr>
        <p:blipFill>
          <a:blip r:embed="rId3"/>
          <a:stretch/>
        </p:blipFill>
        <p:spPr>
          <a:xfrm>
            <a:off x="6248520" y="4648320"/>
            <a:ext cx="25905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атриотизм для меня - понятие двойственное. С одной стороны, в нём много общественного, с другой, что-то личное, сво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ыть патриотом не значит везде и всюду хвалить свою страну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остоинство – понятие обширное. Нужно быть достойным своей семьи и своей страны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Толерантность – это не просто эффектное слово. Это работа на каждый ден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едеральный государственный образовательный стандарт основного общего образования /Министерство образования и науки РФ.- М.: Просвещение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даментальное ядро содержания общего образования /Под ред. В.В.Козлова, А .М. Кондакова .- М.: Просвещение, 20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уторской А.В. Технология проектирования ключевых и предметных компетенций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idos.ru/journal/2005/1212.ht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урьянова А.В. Компетентностный подход в образовании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estival.1september.ru/articles/574903/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левко Г.К. Современные образовательные технологии. Учебное пособие. М.: Народное образование, 1998,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.Мередит, Ч.Темпл, Д.Стил, «Воспитание  вдумчивых  читателей»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.О.Загашева «Заметки на полях. Пример занятия, направленного на развитие критического мышления учащихся на основе стратегии «Условные значки» ( «Библиотека в школе», 2004, №18, с. 10-13)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каткин М.Н. Проблемы современной дидактики. М. Педагогика 19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хмутов М.И. Организация проблемного обучения М. Педагогика 197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2E88-43D8-495A-AB2A-5C8A86BAFE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научно-методическ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учно-методической литературе (А.В. Хуторской, В.В.Краевский, А.В.Гурьянова, И.А.Зимняя),  несмотря на наличие нескольких  подходов, приоритетными опреде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нностно-смыслов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екульту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о-познав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о-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етенции личностного самосовершен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3A8B-C163-4AD7-BAE7-19E6BB11E6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и задачи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ценностно-смысловых, нравственных установок школьников в образовательном пространстве в  предметной области «Русский язык и литерату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программно-методического сопровождения предметн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изация ценностных установок в соответствии с возрастными особенностями уча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тезауруса нравственных понятий  для введения в учебное  поле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явление эффективных педагогических техник работы с учебным текстом с целью актуализации 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сформированности нравственных установок 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1D39-1508-4C58-B66B-8685F54971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мет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сти к усвоению и осознанию основных нравственных по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сти к пониманию нравственных проблем, поднятых в русской и зарубежной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критического мыш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принятия коллективных и самостоятельны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AAF4-770C-436F-BA5F-71F9BECCA7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вод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еды с учащимися в урочное и внеурочное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блю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ос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ке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литературных предпочтений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творческих работ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нирование аккаунтов в социальных се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4028"/>
          <p:cNvPicPr/>
          <p:nvPr/>
        </p:nvPicPr>
        <p:blipFill>
          <a:blip r:embed="rId1"/>
          <a:stretch/>
        </p:blipFill>
        <p:spPr>
          <a:xfrm>
            <a:off x="6108840" y="4286160"/>
            <a:ext cx="2340000" cy="3510000"/>
          </a:xfrm>
          <a:prstGeom prst="rect">
            <a:avLst/>
          </a:prstGeom>
          <a:ln w="0">
            <a:noFill/>
          </a:ln>
        </p:spPr>
      </p:pic>
      <p:sp>
        <p:nvSpPr>
          <p:cNvPr id="6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037B-1425-4B5E-ACE2-0320C356DA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разец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Анкетирование</a:t>
            </a: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Какую бы тему ты выбрал для работы над домашним сочин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чести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ая эпоха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свободы в поэме М.Ю.Лермонтова «Мцы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вод: дети выбирают конкретную тему, не подразумевающую проявления собственной позиции  и критичности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2C0F-CC14-454A-B6F2-B86DFA2949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0" y="1065240"/>
          <a:ext cx="8326440" cy="53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5240"/>
                    <a:ext cx="832644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1C66-F403-4714-82AB-1313B8B444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09480" y="990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эмоциональн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чностный смысл изучаем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й эмоциональный фон учебных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и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пер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чувств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1CC7-270A-415C-BE68-A1870E2ECD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7:40:06Z</dcterms:created>
  <dc:creator>Николай</dc:creator>
  <dc:description/>
  <dc:language>en-US</dc:language>
  <cp:lastModifiedBy>user</cp:lastModifiedBy>
  <dcterms:modified xsi:type="dcterms:W3CDTF">2012-09-25T04:36:20Z</dcterms:modified>
  <cp:revision>1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