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B0BC-BDF4-4B27-AD97-BF40D92776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AFBC-898B-4F10-A2C5-CEE3353EDD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6B31-1F78-4C65-9A19-40A5699FC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5458-71C2-4307-A77B-74EC545D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76E9-024B-436E-A230-9AFC8C541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0D40-9EF9-45AB-BFED-AAA415F6C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184B-A04C-4311-B106-ED5C0F1F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B516-E551-45DE-9797-011B0F53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297A-BC28-401D-B7F8-351B54EB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C9EC-B761-4D58-ABD3-4451E286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0F4C-4C01-47A4-B509-4D244854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5168-F8E4-4D2E-9FFE-24379DDF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D0D3-157B-4B71-89CA-8B71CDA9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E087-D736-4423-AE45-3104529E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5134-E9D3-41A3-A17D-8915A22EFA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137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9017280" cy="7491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145" descr=""/>
          <p:cNvPicPr/>
          <p:nvPr/>
        </p:nvPicPr>
        <p:blipFill>
          <a:blip r:embed="rId2"/>
          <a:stretch/>
        </p:blipFill>
        <p:spPr>
          <a:xfrm>
            <a:off x="1494000" y="2419200"/>
            <a:ext cx="6418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916280"/>
            <a:ext cx="76327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4360" y="2708280"/>
            <a:ext cx="7632720" cy="5047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84360" y="3357720"/>
            <a:ext cx="7632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5640" y="47401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зывают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рицательные эмо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рможение в восприяти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4360" y="4076640"/>
            <a:ext cx="763272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лияние фона на восприятие презентацио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5DD3-7537-4DF0-B22B-D64788D8E8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28760" y="1643040"/>
            <a:ext cx="85010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воды или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ибли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СТ 7.05-2008 по    оформлению библиографических ссыло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6360" y="333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7120" y="5000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7B24-13AE-4D06-A71C-DE8A99E588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3848-4321-41C7-880F-B621815C4F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правильной работы презентации все вложенные файл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документы, видео, звук и пр.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размещайте в ту же папку, что и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вание папка соответствует  Ф.И.О.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исунки необходимо сжи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42392" t="8858" r="0" b="60162"/>
          <a:stretch/>
        </p:blipFill>
        <p:spPr>
          <a:xfrm>
            <a:off x="714240" y="5357880"/>
            <a:ext cx="4822920" cy="105228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3571920" y="5429160"/>
            <a:ext cx="720720" cy="71928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92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вание образовательного учреждения где выполнялась работа</a:t>
            </a:r>
            <a:br>
              <a:rPr sz="24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(название учреждения по уставу, размер шрифта – не менее 24 пт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4200" y="4643280"/>
            <a:ext cx="8642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Ф.И.О., занимаемая должность, почетные звания, ученая степ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автор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: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учный руководитель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занимаемая должность, почетные звания, ученая степень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размер шрифта – не менее 24 п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89480" y="2643120"/>
            <a:ext cx="7558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Times New Roman"/>
              </a:rPr>
              <a:t>Назв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е менее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28 пт, полужирный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точек, без кавыч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сопроводительного текста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71680" y="642960"/>
            <a:ext cx="79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титульн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15B9-A106-4630-B5FE-425F6AC160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85880" y="150012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щий объём слайда – не более 15 строк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слайдах поля, не менее 1 см с кажд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е слайды начиная со второго имеют нуме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63640" y="1916280"/>
            <a:ext cx="5380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Цели и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размер шрифта – не менее 24 п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28760" y="785880"/>
            <a:ext cx="799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втор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2126-36E2-49CD-90C3-72CE465146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1916280"/>
            <a:ext cx="7777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мер шриф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Допустимый не менее 2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Рекомендуемый 24 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Желательно 3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14680" y="500040"/>
            <a:ext cx="59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500200" y="5429160"/>
            <a:ext cx="3786480" cy="5508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F59E-A1CC-4C89-A5ED-F0CD3839DD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иль оформ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4240" y="4572000"/>
            <a:ext cx="3097440" cy="1944720"/>
          </a:xfrm>
          <a:prstGeom prst="rect">
            <a:avLst/>
          </a:prstGeom>
          <a:solidFill>
            <a:srgbClr val="ffff99">
              <a:alpha val="67000"/>
            </a:srgbClr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72040" y="4572000"/>
            <a:ext cx="3097080" cy="1944720"/>
          </a:xfrm>
          <a:prstGeom prst="rect">
            <a:avLst/>
          </a:prstGeom>
          <a:solidFill>
            <a:srgbClr val="660033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9000-50EE-4725-9AAC-1E42D7DEE8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219640" y="4076640"/>
            <a:ext cx="3097440" cy="1944720"/>
          </a:xfrm>
          <a:prstGeom prst="rect">
            <a:avLst/>
          </a:prstGeom>
          <a:solidFill>
            <a:srgbClr val="ccff33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9640" y="1700280"/>
            <a:ext cx="3097440" cy="1944720"/>
          </a:xfrm>
          <a:prstGeom prst="rect">
            <a:avLst/>
          </a:prstGeom>
          <a:solidFill>
            <a:srgbClr val="3399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4005360"/>
            <a:ext cx="3097080" cy="1944720"/>
          </a:xfrm>
          <a:prstGeom prst="rect">
            <a:avLst/>
          </a:prstGeom>
          <a:solidFill>
            <a:srgbClr val="008000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1773360"/>
            <a:ext cx="3097080" cy="1944720"/>
          </a:xfrm>
          <a:prstGeom prst="rect">
            <a:avLst/>
          </a:prstGeom>
          <a:solidFill>
            <a:srgbClr val="333399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000240" y="2714760"/>
            <a:ext cx="3143520" cy="209520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9360">
            <a:solidFill>
              <a:srgbClr val="e1e1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Часто допускаемые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94200" y="314316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FC6D-9778-4936-A0EC-F4AF8A0EE2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642960" y="1857240"/>
            <a:ext cx="792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 более 2 рисунков на одном слай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льзя совмещать статические и динамические рисунк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33855"/>
          <p:cNvPicPr/>
          <p:nvPr/>
        </p:nvPicPr>
        <p:blipFill>
          <a:blip r:embed="rId1"/>
          <a:stretch/>
        </p:blipFill>
        <p:spPr>
          <a:xfrm>
            <a:off x="5715000" y="3643200"/>
            <a:ext cx="2583000" cy="264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27"/>
          <p:cNvPicPr/>
          <p:nvPr/>
        </p:nvPicPr>
        <p:blipFill>
          <a:blip r:embed="rId2"/>
          <a:stretch/>
        </p:blipFill>
        <p:spPr>
          <a:xfrm>
            <a:off x="1857240" y="4500720"/>
            <a:ext cx="208944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468A-21A6-467F-AFA1-6ED290620D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9831 C -0.08194 0.0805 -0.20503 0.06292 -0.23837 0.03077 C -0.2717 -0.00139 -0.18437 -0.0879 -0.15885 -0.09438 C -0.13333 -0.10086 -0.11458 -0.02336 -0.08542 -0.00763 C -0.05625 0.0081 -0.00833 0.00069 0.0158 0.00023 C 0.03993 -0.00023 0.04167 -0.00717 0.0592 -0.01087 C 0.07674 -0.01457 0.12014 -0.00648 0.12066 -0.02221 C 0.12118 -0.03794 0.075 -0.06685 0.06285 -0.10571 C 0.0507 -0.14458 0.05035 -0.20472 0.04722 -0.25492 C 0.0441 -0.30511 0.06458 -0.41268 0.04358 -0.40736 C 0.02257 -0.40204 -0.06649 -0.27897 -0.07934 -0.22276 C -0.09219 -0.16655 -0.02743 -0.11173 -0.03351 -0.07032 C -0.03958 -0.02892 -0.0776 -0.00162 -0.11545 0.02591 E">
                                      <p:cBhvr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357120" y="2000160"/>
            <a:ext cx="8286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се рисунки име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квозную нумерацию, название, при необходимости сопроводительный текст не более двух ст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00040" y="500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928800" y="564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ис.11. Ядерная (планетарная) модель строения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rcRect l="14286" t="0" r="10715" b="0"/>
          <a:stretch/>
        </p:blipFill>
        <p:spPr>
          <a:xfrm>
            <a:off x="4572000" y="3643200"/>
            <a:ext cx="30002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8D8C-75D4-4ED5-BABA-2B2F075515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1285920"/>
            <a:ext cx="54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 более трех цветов и неограниченное количество оттенков эти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71680" y="3571920"/>
            <a:ext cx="3786120" cy="2857320"/>
            <a:chOff x="571680" y="3571920"/>
            <a:chExt cx="3786120" cy="2857320"/>
          </a:xfrm>
        </p:grpSpPr>
        <p:sp>
          <p:nvSpPr>
            <p:cNvPr id="89" name="Прямоугольник 12"/>
            <p:cNvSpPr/>
            <p:nvPr/>
          </p:nvSpPr>
          <p:spPr>
            <a:xfrm>
              <a:off x="571680" y="3571920"/>
              <a:ext cx="3786120" cy="285732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13"/>
            <p:cNvGrpSpPr/>
            <p:nvPr/>
          </p:nvGrpSpPr>
          <p:grpSpPr>
            <a:xfrm>
              <a:off x="928800" y="3857400"/>
              <a:ext cx="3214800" cy="2356920"/>
              <a:chOff x="928800" y="3857400"/>
              <a:chExt cx="3214800" cy="2356920"/>
            </a:xfrm>
          </p:grpSpPr>
          <p:sp>
            <p:nvSpPr>
              <p:cNvPr id="91" name="Прямоугольник 10"/>
              <p:cNvSpPr/>
              <p:nvPr/>
            </p:nvSpPr>
            <p:spPr>
              <a:xfrm>
                <a:off x="928800" y="3857400"/>
                <a:ext cx="2071800" cy="15001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оугольник 11"/>
              <p:cNvSpPr/>
              <p:nvPr/>
            </p:nvSpPr>
            <p:spPr>
              <a:xfrm>
                <a:off x="2143080" y="4642920"/>
                <a:ext cx="2000520" cy="157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Группа 21"/>
          <p:cNvGrpSpPr/>
          <p:nvPr/>
        </p:nvGrpSpPr>
        <p:grpSpPr>
          <a:xfrm>
            <a:off x="4714920" y="3500280"/>
            <a:ext cx="3786120" cy="2857680"/>
            <a:chOff x="4714920" y="3500280"/>
            <a:chExt cx="3786120" cy="2857680"/>
          </a:xfrm>
        </p:grpSpPr>
        <p:sp>
          <p:nvSpPr>
            <p:cNvPr id="94" name="Прямоугольник 14"/>
            <p:cNvSpPr/>
            <p:nvPr/>
          </p:nvSpPr>
          <p:spPr>
            <a:xfrm>
              <a:off x="4714920" y="3500280"/>
              <a:ext cx="3786120" cy="2857680"/>
            </a:xfrm>
            <a:prstGeom prst="rect">
              <a:avLst/>
            </a:prstGeom>
            <a:solidFill>
              <a:srgbClr val="006600">
                <a:alpha val="7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Группа 20"/>
            <p:cNvGrpSpPr/>
            <p:nvPr/>
          </p:nvGrpSpPr>
          <p:grpSpPr>
            <a:xfrm>
              <a:off x="5000400" y="3785760"/>
              <a:ext cx="3214800" cy="2286000"/>
              <a:chOff x="5000400" y="3785760"/>
              <a:chExt cx="3214800" cy="2286000"/>
            </a:xfrm>
          </p:grpSpPr>
          <p:sp>
            <p:nvSpPr>
              <p:cNvPr id="96" name="Прямоугольник 18"/>
              <p:cNvSpPr/>
              <p:nvPr/>
            </p:nvSpPr>
            <p:spPr>
              <a:xfrm>
                <a:off x="5000400" y="3785760"/>
                <a:ext cx="2000520" cy="14288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оугольник 19"/>
              <p:cNvSpPr/>
              <p:nvPr/>
            </p:nvSpPr>
            <p:spPr>
              <a:xfrm>
                <a:off x="6214680" y="4642920"/>
                <a:ext cx="2000520" cy="1428840"/>
              </a:xfrm>
              <a:prstGeom prst="rect">
                <a:avLst/>
              </a:prstGeom>
              <a:solidFill>
                <a:srgbClr val="216bf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57920" y="857160"/>
            <a:ext cx="250020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0B21-EE3D-4CF4-8B04-C2F929AFF3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5:49:09Z</dcterms:created>
  <dc:creator>RAY</dc:creator>
  <dc:description/>
  <dc:language>en-US</dc:language>
  <cp:lastModifiedBy>Admin</cp:lastModifiedBy>
  <dcterms:modified xsi:type="dcterms:W3CDTF">2011-02-28T19:53:33Z</dcterms:modified>
  <cp:revision>155</cp:revision>
  <dc:subject/>
  <dc:title>Слайд 1</dc:title>
</cp:coreProperties>
</file>