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9BCF-9502-46C5-BECC-CA43A26968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12CD8-7491-47E4-8FE7-EE786AD9EA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028B-5FD5-40B5-9FD6-F035A63921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F2FC5-35F2-45EA-97B3-9915A387AF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Ключевой фигурой исполнения Стандарта, с точки зрения достижения планируемых результатов реализации ООП НОО, является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SimSun"/>
              </a:rPr>
              <a:t>Учитель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0319-97B7-45E3-8F43-5AB3AC67BE4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2060-CC17-4CC5-ABF9-37DFA8B1E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4613-84F0-4225-9AE0-C1A116CB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44B9-D325-4537-92F3-AFF799FC9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5E72-86AC-4AA7-9132-565A89C5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85EC-C0B3-44B5-81E0-A627FD999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25B56-2D52-477A-9157-B77AEDAC4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BF1C2-0A78-4D83-82E7-A3C2A462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C001-BD69-4541-806F-CF59B582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2CD6-EDFE-4985-8724-72206624C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27DE-6429-4B07-B91F-7DABC937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6D73-984B-4AE5-A390-A30CD612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F29B-B6EF-4C51-9183-830C4FB3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13D1D-C65B-48D5-B4DC-DD8A90BA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6557E-87C4-4D89-A241-22037C04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8A68-77F0-4037-A638-5FB7A8A28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2EDE-EA57-44DD-B049-DCA34C9B7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492E9-D55A-48E6-BDB6-CE9846D8B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3B41DA-9FE7-4D21-BA36-13E8D32E6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558319-B2A8-4B6A-8B47-BFB3D30F4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DE3F45-B355-43A4-A16E-A75A6F08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A5FA92-49B9-47FD-9086-7F686F29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03B45B-A857-4291-B6DA-75290079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5A93-ED03-45DB-AA1E-83B695A9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79EF59-90A8-422C-9E07-DA191F83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E5DD33-AF97-456F-992F-AC60C593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D69A81-F4E2-4ADB-AC91-12882339F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922A0F-F70C-437A-8898-BE0706D3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AE67DE-6FD0-4D28-9B0C-372C6483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351F95-D01E-464C-B4FB-6065138BE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DD81E6-EA26-4E5C-99E7-862E9F571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542BB-1237-4AF0-8951-DE2C7AC10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5A118-A66B-4911-8374-6C791B27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087C5-7FA8-48EC-BA76-B3095EEFB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A6BE-33C8-4059-8D8A-0C0B894E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70F56-BE12-43E4-98F8-37BA8EB5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62EB0-51D3-4D0A-A291-D2BDDCEFB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ABBDA-0EB8-4513-AE97-F9A1B0153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F4F19-3E96-4274-96D8-4D9D7E53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99EB0-C42A-4E02-A7A0-628E5B29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A4601-5634-433B-B172-4525D5C7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BFA38-775B-45BA-B4E9-39BBEB7C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8E57F-CC9B-4421-AFD5-6669E8B65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1B20B-ADA7-40AC-831A-A0D4FACC4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6035F-E51F-47FD-89D3-D84C29939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B101-0DC2-4ED8-9929-514637D9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9FD13-2FC7-4D56-B370-498688E38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365608-E973-4506-82D3-2EA6DBF3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89A66-2BBC-4D1C-997B-067798DE5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D54CE-773B-4814-B342-BD6292A2A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3651E-811A-4862-8419-4A8AA42D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CEC52-D19A-4358-AF11-8B578F55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63089-A29A-4DE0-9F2A-A8833646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52EEC-8E19-4463-B67C-BB633766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2A32D-3960-45E9-BD15-97E2C22F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81003-5DFD-4A62-8896-37701023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2196-96CC-43E5-8713-4012BECE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FB0AD-6157-4CA2-BD78-19A021502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E3B3-6005-4342-85C3-97FE4D9D2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01B3-7426-4171-892B-ADEE23D1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AAB8-BBF4-4112-81A5-29C908D06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8789-AB0D-4852-9C18-BED31459FB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AF8D2-F0D1-4A6F-A0FC-999647930389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F63F3-F39D-498F-B4F9-0FA3363CFFD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76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77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91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95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99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03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07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FC72-303C-47AC-B401-E22F1A3882D2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59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60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43E62-3F7D-4FD3-AD97-2534E109C7B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f5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WordArt 4"/>
          <p:cNvSpPr txBox="1"/>
          <p:nvPr/>
        </p:nvSpPr>
        <p:spPr>
          <a:xfrm>
            <a:off x="1619280" y="2205000"/>
            <a:ext cx="6842160" cy="215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ый урок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школе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6" name="AutoShape 5"/>
          <p:cNvSpPr/>
          <p:nvPr/>
        </p:nvSpPr>
        <p:spPr>
          <a:xfrm>
            <a:off x="324000" y="4941720"/>
            <a:ext cx="1979640" cy="16290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63360">
            <a:solidFill>
              <a:srgbClr val="00ff00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6"/>
          <p:cNvSpPr/>
          <p:nvPr/>
        </p:nvSpPr>
        <p:spPr>
          <a:xfrm>
            <a:off x="6516720" y="260280"/>
            <a:ext cx="2340000" cy="172728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0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1f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2"/>
          <p:cNvSpPr txBox="1"/>
          <p:nvPr/>
        </p:nvSpPr>
        <p:spPr>
          <a:xfrm>
            <a:off x="1332000" y="260280"/>
            <a:ext cx="698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ый ур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AutoShape 4"/>
          <p:cNvSpPr/>
          <p:nvPr/>
        </p:nvSpPr>
        <p:spPr>
          <a:xfrm>
            <a:off x="468360" y="1557360"/>
            <a:ext cx="8280360" cy="1224000"/>
          </a:xfrm>
          <a:prstGeom prst="roundRect">
            <a:avLst>
              <a:gd name="adj" fmla="val 35278"/>
            </a:avLst>
          </a:prstGeom>
          <a:gradFill rotWithShape="0">
            <a:gsLst>
              <a:gs pos="0">
                <a:srgbClr val="33cc33"/>
              </a:gs>
              <a:gs pos="50000">
                <a:srgbClr val="c1f0c1"/>
              </a:gs>
              <a:gs pos="100000">
                <a:srgbClr val="33cc3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ременный ур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рок, актуальный для настоящего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5"/>
          <p:cNvSpPr/>
          <p:nvPr/>
        </p:nvSpPr>
        <p:spPr>
          <a:xfrm>
            <a:off x="395280" y="3429000"/>
            <a:ext cx="8424720" cy="2168640"/>
          </a:xfrm>
          <a:prstGeom prst="roundRect">
            <a:avLst>
              <a:gd name="adj" fmla="val 30162"/>
            </a:avLst>
          </a:prstGeom>
          <a:gradFill rotWithShape="0">
            <a:gsLst>
              <a:gs pos="0">
                <a:srgbClr val="ffff66"/>
              </a:gs>
              <a:gs pos="50000">
                <a:srgbClr val="ffffd1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ременный ур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рок действенный, имеющий непосредственное отношение к интересам личности ребенка, его родителей, общества,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6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Oval 2"/>
          <p:cNvSpPr/>
          <p:nvPr/>
        </p:nvSpPr>
        <p:spPr>
          <a:xfrm>
            <a:off x="2482920" y="189000"/>
            <a:ext cx="3565440" cy="172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Моде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3"/>
          <p:cNvSpPr/>
          <p:nvPr/>
        </p:nvSpPr>
        <p:spPr>
          <a:xfrm>
            <a:off x="755640" y="2276640"/>
            <a:ext cx="287964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«традиционн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4"/>
          <p:cNvSpPr/>
          <p:nvPr/>
        </p:nvSpPr>
        <p:spPr>
          <a:xfrm>
            <a:off x="6445080" y="3429000"/>
            <a:ext cx="259092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ятельнос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7"/>
          <p:cNvSpPr/>
          <p:nvPr/>
        </p:nvSpPr>
        <p:spPr>
          <a:xfrm>
            <a:off x="3490920" y="3429000"/>
            <a:ext cx="241128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развива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WordArt 8"/>
          <p:cNvSpPr txBox="1"/>
          <p:nvPr/>
        </p:nvSpPr>
        <p:spPr>
          <a:xfrm>
            <a:off x="2676600" y="4221000"/>
            <a:ext cx="38401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омпонент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31" name="Rectangle 17"/>
          <p:cNvSpPr/>
          <p:nvPr/>
        </p:nvSpPr>
        <p:spPr>
          <a:xfrm>
            <a:off x="539640" y="4654080"/>
            <a:ext cx="3167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триединая цель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план-конспек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преобладающая фронтальная форма обу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методы и приемы обу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типы уроков и друг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9"/>
          <p:cNvSpPr/>
          <p:nvPr/>
        </p:nvSpPr>
        <p:spPr>
          <a:xfrm>
            <a:off x="4140360" y="4655880"/>
            <a:ext cx="4103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ориентация на развитие личности,  ключевые и базовые компетентнос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актический опыт реб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оектирование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азнообразные формы 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типы уроков от характера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21"/>
          <p:cNvSpPr/>
          <p:nvPr/>
        </p:nvSpPr>
        <p:spPr>
          <a:xfrm>
            <a:off x="4788000" y="2276640"/>
            <a:ext cx="2808360" cy="69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ннова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AutoShape 26"/>
          <p:cNvCxnSpPr>
            <a:stCxn id="326" idx="4"/>
            <a:endCxn id="327" idx="0"/>
          </p:cNvCxnSpPr>
          <p:nvPr/>
        </p:nvCxnSpPr>
        <p:spPr>
          <a:xfrm flipH="1">
            <a:off x="2195280" y="1917360"/>
            <a:ext cx="2070720" cy="35964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5" name="AutoShape 27"/>
          <p:cNvCxnSpPr>
            <a:stCxn id="326" idx="4"/>
            <a:endCxn id="333" idx="0"/>
          </p:cNvCxnSpPr>
          <p:nvPr/>
        </p:nvCxnSpPr>
        <p:spPr>
          <a:xfrm>
            <a:off x="4265280" y="1917360"/>
            <a:ext cx="1927800" cy="35964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6" name="AutoShape 28"/>
          <p:cNvCxnSpPr>
            <a:stCxn id="333" idx="4"/>
            <a:endCxn id="329" idx="0"/>
          </p:cNvCxnSpPr>
          <p:nvPr/>
        </p:nvCxnSpPr>
        <p:spPr>
          <a:xfrm flipH="1">
            <a:off x="4696920" y="2968200"/>
            <a:ext cx="1496160" cy="461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7" name="AutoShape 29"/>
          <p:cNvCxnSpPr>
            <a:stCxn id="333" idx="4"/>
            <a:endCxn id="328" idx="0"/>
          </p:cNvCxnSpPr>
          <p:nvPr/>
        </p:nvCxnSpPr>
        <p:spPr>
          <a:xfrm>
            <a:off x="6192720" y="2968200"/>
            <a:ext cx="1548720" cy="461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8" name="AutoShape 31"/>
          <p:cNvCxnSpPr>
            <a:stCxn id="327" idx="4"/>
            <a:endCxn id="331" idx="0"/>
          </p:cNvCxnSpPr>
          <p:nvPr/>
        </p:nvCxnSpPr>
        <p:spPr>
          <a:xfrm flipH="1">
            <a:off x="2123280" y="3068280"/>
            <a:ext cx="72360" cy="158508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9" name="AutoShape 32"/>
          <p:cNvCxnSpPr>
            <a:stCxn id="333" idx="4"/>
            <a:endCxn id="332" idx="0"/>
          </p:cNvCxnSpPr>
          <p:nvPr/>
        </p:nvCxnSpPr>
        <p:spPr>
          <a:xfrm>
            <a:off x="6192360" y="2968200"/>
            <a:ext cx="1080" cy="1685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340" name="Text Box 33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34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35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AutoShape 2"/>
          <p:cNvSpPr/>
          <p:nvPr/>
        </p:nvSpPr>
        <p:spPr>
          <a:xfrm>
            <a:off x="324000" y="1413000"/>
            <a:ext cx="3240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остно ориентирован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3"/>
          <p:cNvSpPr/>
          <p:nvPr/>
        </p:nvSpPr>
        <p:spPr>
          <a:xfrm>
            <a:off x="5580000" y="1484280"/>
            <a:ext cx="3384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формирования компетенций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250920" y="2997360"/>
            <a:ext cx="2449440" cy="15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вное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хся, а не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5"/>
          <p:cNvSpPr/>
          <p:nvPr/>
        </p:nvSpPr>
        <p:spPr>
          <a:xfrm>
            <a:off x="6372360" y="3141720"/>
            <a:ext cx="2520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765e"/>
              </a:gs>
              <a:gs pos="50000">
                <a:srgbClr val="99ffcc"/>
              </a:gs>
              <a:gs pos="100000">
                <a:srgbClr val="47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WordArt 9"/>
          <p:cNvSpPr txBox="1"/>
          <p:nvPr/>
        </p:nvSpPr>
        <p:spPr>
          <a:xfrm>
            <a:off x="250920" y="260280"/>
            <a:ext cx="86248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арактеристика современного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1" name="AutoShape 10"/>
          <p:cNvSpPr/>
          <p:nvPr/>
        </p:nvSpPr>
        <p:spPr>
          <a:xfrm>
            <a:off x="179280" y="4869000"/>
            <a:ext cx="410544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5e2f"/>
              </a:gs>
              <a:gs pos="50000">
                <a:srgbClr val="ffcc66"/>
              </a:gs>
              <a:gs pos="100000">
                <a:srgbClr val="76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ыре компонента содерж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ия, Нав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онально-ценностный опы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5508720" y="4869000"/>
            <a:ext cx="338436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ятельно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2"/>
          <p:cNvSpPr/>
          <p:nvPr/>
        </p:nvSpPr>
        <p:spPr>
          <a:xfrm>
            <a:off x="2557440" y="2133720"/>
            <a:ext cx="3959280" cy="3311280"/>
          </a:xfrm>
          <a:prstGeom prst="sun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6882"/>
            </a:gs>
            <a:gs pos="50000">
              <a:srgbClr val="66ccff"/>
            </a:gs>
            <a:gs pos="100000">
              <a:srgbClr val="34688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Учащийся на современном уро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50920" y="1160280"/>
            <a:ext cx="8229600" cy="51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4"/>
          <p:cNvSpPr/>
          <p:nvPr/>
        </p:nvSpPr>
        <p:spPr>
          <a:xfrm>
            <a:off x="179280" y="981000"/>
            <a:ext cx="8569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50000">
                <a:srgbClr val="e7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ь 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товность к саморазвит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179280" y="1738440"/>
            <a:ext cx="8605800" cy="61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fffff1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амостоятельно делать выбо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адекватный своим способност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6"/>
          <p:cNvSpPr/>
          <p:nvPr/>
        </p:nvSpPr>
        <p:spPr>
          <a:xfrm>
            <a:off x="179280" y="2494080"/>
            <a:ext cx="8569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50000">
                <a:srgbClr val="fff2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тавить перед собой ц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ринимать 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7"/>
          <p:cNvSpPr/>
          <p:nvPr/>
        </p:nvSpPr>
        <p:spPr>
          <a:xfrm>
            <a:off x="179280" y="3286080"/>
            <a:ext cx="856944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66"/>
              </a:gs>
              <a:gs pos="50000">
                <a:srgbClr val="ecffec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амостоятельно находить вых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нестандартной ситу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1"/>
          <p:cNvSpPr/>
          <p:nvPr/>
        </p:nvSpPr>
        <p:spPr>
          <a:xfrm>
            <a:off x="179280" y="4078440"/>
            <a:ext cx="85694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50000">
                <a:srgbClr val="ecf9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проконтролировать себ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свои собственные 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2"/>
          <p:cNvSpPr/>
          <p:nvPr/>
        </p:nvSpPr>
        <p:spPr>
          <a:xfrm>
            <a:off x="179280" y="4870440"/>
            <a:ext cx="85694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ffae7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адекватно оценить свои действ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выявить и скорректировать возникшие затруд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3"/>
          <p:cNvSpPr/>
          <p:nvPr/>
        </p:nvSpPr>
        <p:spPr>
          <a:xfrm>
            <a:off x="179280" y="5734080"/>
            <a:ext cx="85694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99"/>
              </a:gs>
              <a:gs pos="50000">
                <a:srgbClr val="fff2f2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огласовыва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вою позицию с другими людьми,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общать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9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0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0C48-9E87-4295-B4A6-F2D6D5C26E9E}" type="slidenum">
              <a:rPr b="0" lang="ru-RU" sz="1200" spc="-1" strike="noStrike">
                <a:solidFill>
                  <a:srgbClr val="a4c5c8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179280" y="1341360"/>
            <a:ext cx="266400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3205080" y="1341360"/>
            <a:ext cx="251928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7"/>
          <p:cNvSpPr/>
          <p:nvPr/>
        </p:nvSpPr>
        <p:spPr>
          <a:xfrm>
            <a:off x="6194520" y="1341360"/>
            <a:ext cx="269856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8"/>
          <p:cNvSpPr/>
          <p:nvPr/>
        </p:nvSpPr>
        <p:spPr>
          <a:xfrm>
            <a:off x="179280" y="2276640"/>
            <a:ext cx="2664000" cy="10810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амоопреде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утренняя позиция шк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идентифик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уважение и само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9"/>
          <p:cNvSpPr/>
          <p:nvPr/>
        </p:nvSpPr>
        <p:spPr>
          <a:xfrm>
            <a:off x="179280" y="3573360"/>
            <a:ext cx="2664000" cy="100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мыслообразо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тивация (учеб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циальная); границ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бств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ния и «незна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0"/>
          <p:cNvSpPr/>
          <p:nvPr/>
        </p:nvSpPr>
        <p:spPr>
          <a:xfrm>
            <a:off x="179280" y="4797360"/>
            <a:ext cx="2664000" cy="1871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нностна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орально-э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риентац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иентация на выпол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рально-нравственных нор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ность к решению мора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лем на основе децент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своих поступков</a:t>
            </a:r>
            <a:r>
              <a:rPr b="1" lang="ru-RU" sz="1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1"/>
          <p:cNvSpPr/>
          <p:nvPr/>
        </p:nvSpPr>
        <p:spPr>
          <a:xfrm>
            <a:off x="3203640" y="2276640"/>
            <a:ext cx="2663640" cy="1296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гуля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вление сво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ятельность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троль и коррек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ициативность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3203640" y="3716280"/>
            <a:ext cx="2663640" cy="863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ммуника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чевая деятель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выки сотрудни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3"/>
          <p:cNvSpPr/>
          <p:nvPr/>
        </p:nvSpPr>
        <p:spPr>
          <a:xfrm>
            <a:off x="3130560" y="4724280"/>
            <a:ext cx="2809800" cy="2133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информаци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учебными модел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знак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мволических средст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их схем ре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полнение логическ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ераций сравнения,  анализ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бщения, классификац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ановления аналог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ведения под пон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3"/>
          <p:cNvSpPr/>
          <p:nvPr/>
        </p:nvSpPr>
        <p:spPr>
          <a:xfrm>
            <a:off x="6516720" y="2276640"/>
            <a:ext cx="2143080" cy="785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ы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ых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6"/>
          <p:cNvSpPr/>
          <p:nvPr/>
        </p:nvSpPr>
        <p:spPr>
          <a:xfrm>
            <a:off x="6516720" y="3714840"/>
            <a:ext cx="2143080" cy="136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ыт «предметной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ятельности п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учению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образов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римен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ого зн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7"/>
          <p:cNvSpPr/>
          <p:nvPr/>
        </p:nvSpPr>
        <p:spPr>
          <a:xfrm>
            <a:off x="6535800" y="5786280"/>
            <a:ext cx="212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ные и метапредметные действия с учебным материалом</a:t>
            </a:r>
            <a:r>
              <a:rPr b="1" lang="ru-RU" sz="1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36"/>
          <p:cNvSpPr/>
          <p:nvPr/>
        </p:nvSpPr>
        <p:spPr>
          <a:xfrm>
            <a:off x="6588000" y="5786280"/>
            <a:ext cx="2071800" cy="107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27"/>
          <p:cNvSpPr/>
          <p:nvPr/>
        </p:nvSpPr>
        <p:spPr>
          <a:xfrm rot="5400000">
            <a:off x="7200000" y="3104280"/>
            <a:ext cx="647640" cy="576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27"/>
          <p:cNvSpPr/>
          <p:nvPr/>
        </p:nvSpPr>
        <p:spPr>
          <a:xfrm rot="5400000">
            <a:off x="7273440" y="5119560"/>
            <a:ext cx="646200" cy="576360"/>
          </a:xfrm>
          <a:custGeom>
            <a:avLst/>
            <a:gdLst>
              <a:gd name="textAreaLeft" fmla="*/ 100800 w 646200"/>
              <a:gd name="textAreaRight" fmla="*/ 565560 w 6462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TextBox 24" descr=""/>
          <p:cNvPicPr/>
          <p:nvPr/>
        </p:nvPicPr>
        <p:blipFill>
          <a:blip r:embed="rId1"/>
          <a:stretch/>
        </p:blipFill>
        <p:spPr>
          <a:xfrm>
            <a:off x="146160" y="92160"/>
            <a:ext cx="8851680" cy="117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96ab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Object 2"/>
          <p:cNvGraphicFramePr/>
          <p:nvPr/>
        </p:nvGraphicFramePr>
        <p:xfrm>
          <a:off x="179280" y="2246400"/>
          <a:ext cx="8622000" cy="46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246400"/>
                    <a:ext cx="862200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Line 3"/>
          <p:cNvSpPr/>
          <p:nvPr/>
        </p:nvSpPr>
        <p:spPr>
          <a:xfrm flipV="1">
            <a:off x="539640" y="1844280"/>
            <a:ext cx="8604360" cy="432108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japan"/>
          <p:cNvPicPr/>
          <p:nvPr/>
        </p:nvPicPr>
        <p:blipFill>
          <a:blip r:embed="rId3"/>
          <a:stretch/>
        </p:blipFill>
        <p:spPr>
          <a:xfrm>
            <a:off x="7451640" y="2349360"/>
            <a:ext cx="971640" cy="6508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e5e5ff"/>
                </a:solidFill>
                <a:latin typeface="Garamond"/>
              </a:rPr>
              <a:t>Результаты стран, участвовавших в исследованиях </a:t>
            </a:r>
            <a:br>
              <a:rPr sz="3600"/>
            </a:br>
            <a:r>
              <a:rPr b="1" lang="fi-FI" sz="3600" spc="-1" strike="noStrike">
                <a:solidFill>
                  <a:srgbClr val="e5e5ff"/>
                </a:solidFill>
                <a:latin typeface="Garamond"/>
              </a:rPr>
              <a:t>PISA 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89" name="Picture 6" descr="canada"/>
          <p:cNvPicPr/>
          <p:nvPr/>
        </p:nvPicPr>
        <p:blipFill>
          <a:blip r:embed="rId4"/>
          <a:stretch/>
        </p:blipFill>
        <p:spPr>
          <a:xfrm>
            <a:off x="5651640" y="2997360"/>
            <a:ext cx="900000" cy="5061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finland"/>
          <p:cNvPicPr/>
          <p:nvPr/>
        </p:nvPicPr>
        <p:blipFill>
          <a:blip r:embed="rId5"/>
          <a:stretch/>
        </p:blipFill>
        <p:spPr>
          <a:xfrm>
            <a:off x="5796000" y="2637000"/>
            <a:ext cx="900000" cy="5540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latvia"/>
          <p:cNvPicPr/>
          <p:nvPr/>
        </p:nvPicPr>
        <p:blipFill>
          <a:blip r:embed="rId6"/>
          <a:stretch/>
        </p:blipFill>
        <p:spPr>
          <a:xfrm>
            <a:off x="2340000" y="544500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9" descr="south_korea"/>
          <p:cNvPicPr/>
          <p:nvPr/>
        </p:nvPicPr>
        <p:blipFill>
          <a:blip r:embed="rId7"/>
          <a:stretch/>
        </p:blipFill>
        <p:spPr>
          <a:xfrm>
            <a:off x="7308720" y="2133720"/>
            <a:ext cx="890640" cy="595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0" descr="czech republic"/>
          <p:cNvPicPr/>
          <p:nvPr/>
        </p:nvPicPr>
        <p:blipFill>
          <a:blip r:embed="rId8"/>
          <a:stretch/>
        </p:blipFill>
        <p:spPr>
          <a:xfrm>
            <a:off x="6300720" y="3573360"/>
            <a:ext cx="792360" cy="5382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1" descr="UNKG001"/>
          <p:cNvPicPr/>
          <p:nvPr/>
        </p:nvPicPr>
        <p:blipFill>
          <a:blip r:embed="rId9"/>
          <a:stretch/>
        </p:blipFill>
        <p:spPr>
          <a:xfrm>
            <a:off x="6300720" y="2760840"/>
            <a:ext cx="1008000" cy="5014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2" descr="hungary"/>
          <p:cNvPicPr/>
          <p:nvPr/>
        </p:nvPicPr>
        <p:blipFill>
          <a:blip r:embed="rId10"/>
          <a:stretch/>
        </p:blipFill>
        <p:spPr>
          <a:xfrm>
            <a:off x="7740720" y="4149720"/>
            <a:ext cx="865080" cy="5796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3" descr="new_zealand"/>
          <p:cNvPicPr/>
          <p:nvPr/>
        </p:nvPicPr>
        <p:blipFill>
          <a:blip r:embed="rId11"/>
          <a:stretch/>
        </p:blipFill>
        <p:spPr>
          <a:xfrm>
            <a:off x="3059280" y="2997360"/>
            <a:ext cx="1041120" cy="522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4" descr="rs"/>
          <p:cNvPicPr/>
          <p:nvPr/>
        </p:nvPicPr>
        <p:blipFill>
          <a:blip r:embed="rId12"/>
          <a:stretch/>
        </p:blipFill>
        <p:spPr>
          <a:xfrm>
            <a:off x="5219640" y="5445000"/>
            <a:ext cx="757440" cy="5065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5" descr="us"/>
          <p:cNvPicPr/>
          <p:nvPr/>
        </p:nvPicPr>
        <p:blipFill>
          <a:blip r:embed="rId13"/>
          <a:stretch/>
        </p:blipFill>
        <p:spPr>
          <a:xfrm>
            <a:off x="3635280" y="4005360"/>
            <a:ext cx="935280" cy="5698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6" descr="australia"/>
          <p:cNvPicPr/>
          <p:nvPr/>
        </p:nvPicPr>
        <p:blipFill>
          <a:blip r:embed="rId14"/>
          <a:stretch/>
        </p:blipFill>
        <p:spPr>
          <a:xfrm>
            <a:off x="6084720" y="2997360"/>
            <a:ext cx="863640" cy="576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7" descr="italy"/>
          <p:cNvPicPr/>
          <p:nvPr/>
        </p:nvPicPr>
        <p:blipFill>
          <a:blip r:embed="rId15"/>
          <a:stretch/>
        </p:blipFill>
        <p:spPr>
          <a:xfrm>
            <a:off x="1258920" y="4797360"/>
            <a:ext cx="792000" cy="52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8" descr="belgium"/>
          <p:cNvPicPr/>
          <p:nvPr/>
        </p:nvPicPr>
        <p:blipFill>
          <a:blip r:embed="rId16"/>
          <a:stretch/>
        </p:blipFill>
        <p:spPr>
          <a:xfrm>
            <a:off x="5867280" y="4149720"/>
            <a:ext cx="792360" cy="474840"/>
          </a:xfrm>
          <a:prstGeom prst="rect">
            <a:avLst/>
          </a:prstGeom>
          <a:ln w="0">
            <a:noFill/>
          </a:ln>
        </p:spPr>
      </p:pic>
      <p:sp>
        <p:nvSpPr>
          <p:cNvPr id="402" name="Oval 19"/>
          <p:cNvSpPr/>
          <p:nvPr/>
        </p:nvSpPr>
        <p:spPr>
          <a:xfrm rot="2970600">
            <a:off x="7110360" y="1969920"/>
            <a:ext cx="1476360" cy="1225440"/>
          </a:xfrm>
          <a:prstGeom prst="ellipse">
            <a:avLst/>
          </a:prstGeom>
          <a:noFill/>
          <a:ln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20"/>
          <p:cNvSpPr/>
          <p:nvPr/>
        </p:nvSpPr>
        <p:spPr>
          <a:xfrm rot="20862600">
            <a:off x="2627280" y="2349360"/>
            <a:ext cx="4600440" cy="2098800"/>
          </a:xfrm>
          <a:prstGeom prst="ellipse">
            <a:avLst/>
          </a:prstGeom>
          <a:noFill/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8388360" y="1628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99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4586400" y="2895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99cc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3"/>
          <p:cNvSpPr/>
          <p:nvPr/>
        </p:nvSpPr>
        <p:spPr>
          <a:xfrm>
            <a:off x="3635280" y="530064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4"/>
          <p:cNvSpPr/>
          <p:nvPr/>
        </p:nvSpPr>
        <p:spPr>
          <a:xfrm>
            <a:off x="1187280" y="3789360"/>
            <a:ext cx="7737480" cy="2259000"/>
          </a:xfrm>
          <a:custGeom>
            <a:avLst/>
            <a:gdLst/>
            <a:ahLst/>
            <a:rect l="l" t="t" r="r" b="b"/>
            <a:pathLst>
              <a:path w="4874" h="1423">
                <a:moveTo>
                  <a:pt x="88" y="525"/>
                </a:moveTo>
                <a:cubicBezTo>
                  <a:pt x="420" y="510"/>
                  <a:pt x="371" y="502"/>
                  <a:pt x="571" y="533"/>
                </a:cubicBezTo>
                <a:cubicBezTo>
                  <a:pt x="631" y="553"/>
                  <a:pt x="705" y="578"/>
                  <a:pt x="758" y="525"/>
                </a:cubicBezTo>
                <a:lnTo>
                  <a:pt x="3266" y="871"/>
                </a:lnTo>
                <a:lnTo>
                  <a:pt x="4037" y="281"/>
                </a:lnTo>
                <a:cubicBezTo>
                  <a:pt x="4167" y="119"/>
                  <a:pt x="4174" y="84"/>
                  <a:pt x="4298" y="0"/>
                </a:cubicBezTo>
                <a:cubicBezTo>
                  <a:pt x="4356" y="7"/>
                  <a:pt x="4404" y="15"/>
                  <a:pt x="4459" y="33"/>
                </a:cubicBezTo>
                <a:cubicBezTo>
                  <a:pt x="4476" y="39"/>
                  <a:pt x="4510" y="50"/>
                  <a:pt x="4510" y="50"/>
                </a:cubicBezTo>
                <a:cubicBezTo>
                  <a:pt x="4583" y="26"/>
                  <a:pt x="4543" y="31"/>
                  <a:pt x="4629" y="42"/>
                </a:cubicBezTo>
                <a:cubicBezTo>
                  <a:pt x="4674" y="56"/>
                  <a:pt x="4711" y="87"/>
                  <a:pt x="4756" y="101"/>
                </a:cubicBezTo>
                <a:cubicBezTo>
                  <a:pt x="4810" y="138"/>
                  <a:pt x="4799" y="104"/>
                  <a:pt x="4823" y="177"/>
                </a:cubicBezTo>
                <a:cubicBezTo>
                  <a:pt x="4829" y="194"/>
                  <a:pt x="4834" y="211"/>
                  <a:pt x="4840" y="228"/>
                </a:cubicBezTo>
                <a:cubicBezTo>
                  <a:pt x="4843" y="237"/>
                  <a:pt x="4849" y="254"/>
                  <a:pt x="4849" y="254"/>
                </a:cubicBezTo>
                <a:cubicBezTo>
                  <a:pt x="4855" y="319"/>
                  <a:pt x="4859" y="385"/>
                  <a:pt x="4874" y="449"/>
                </a:cubicBezTo>
                <a:cubicBezTo>
                  <a:pt x="4865" y="556"/>
                  <a:pt x="4839" y="745"/>
                  <a:pt x="4739" y="813"/>
                </a:cubicBezTo>
                <a:cubicBezTo>
                  <a:pt x="4715" y="848"/>
                  <a:pt x="4685" y="867"/>
                  <a:pt x="4646" y="881"/>
                </a:cubicBezTo>
                <a:cubicBezTo>
                  <a:pt x="4619" y="921"/>
                  <a:pt x="4615" y="902"/>
                  <a:pt x="4578" y="923"/>
                </a:cubicBezTo>
                <a:cubicBezTo>
                  <a:pt x="4560" y="933"/>
                  <a:pt x="4527" y="957"/>
                  <a:pt x="4527" y="957"/>
                </a:cubicBezTo>
                <a:cubicBezTo>
                  <a:pt x="4031" y="1095"/>
                  <a:pt x="3533" y="1224"/>
                  <a:pt x="3039" y="1370"/>
                </a:cubicBezTo>
                <a:cubicBezTo>
                  <a:pt x="3030" y="1373"/>
                  <a:pt x="3042" y="1390"/>
                  <a:pt x="3036" y="1397"/>
                </a:cubicBezTo>
                <a:cubicBezTo>
                  <a:pt x="3026" y="1409"/>
                  <a:pt x="2975" y="1418"/>
                  <a:pt x="2960" y="1423"/>
                </a:cubicBezTo>
                <a:cubicBezTo>
                  <a:pt x="2904" y="1411"/>
                  <a:pt x="2932" y="1414"/>
                  <a:pt x="2875" y="1414"/>
                </a:cubicBezTo>
                <a:lnTo>
                  <a:pt x="635" y="1370"/>
                </a:lnTo>
                <a:lnTo>
                  <a:pt x="0" y="916"/>
                </a:lnTo>
                <a:lnTo>
                  <a:pt x="88" y="525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25"/>
          <p:cNvSpPr/>
          <p:nvPr/>
        </p:nvSpPr>
        <p:spPr>
          <a:xfrm rot="19042200">
            <a:off x="5651280" y="3499920"/>
            <a:ext cx="1771560" cy="1078200"/>
          </a:xfrm>
          <a:prstGeom prst="ellipse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7212960" y="3195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99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2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2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dfe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ff00"/>
                </a:solidFill>
                <a:latin typeface="Arial"/>
              </a:rPr>
              <a:t>Характеристика класте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"/>
          <p:cNvSpPr/>
          <p:nvPr/>
        </p:nvSpPr>
        <p:spPr>
          <a:xfrm>
            <a:off x="287280" y="981000"/>
            <a:ext cx="4103640" cy="2916360"/>
          </a:xfrm>
          <a:prstGeom prst="roundRect">
            <a:avLst>
              <a:gd name="adj" fmla="val 311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мало времени на самостоятельный эксперимент учащихся, основное время выделяется на лекции, проверку выполнения домашних заданий, на повторное объяснение пройденного материала и контроль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4"/>
          <p:cNvSpPr/>
          <p:nvPr/>
        </p:nvSpPr>
        <p:spPr>
          <a:xfrm>
            <a:off x="4608360" y="1125360"/>
            <a:ext cx="4104000" cy="2519640"/>
          </a:xfrm>
          <a:prstGeom prst="roundRect">
            <a:avLst>
              <a:gd name="adj" fmla="val 311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лекции, очень мало времени на самостоятельный эксперимент учащихся и проверку выполнения домашних заданий, другие формы работы имеют средне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287280" y="4041720"/>
            <a:ext cx="4103640" cy="2484360"/>
          </a:xfrm>
          <a:prstGeom prst="roundRect">
            <a:avLst>
              <a:gd name="adj" fmla="val 3113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самостоятельный эксперимент учащихся и лекции, мало времени на проверку выполнения домашних заданий и контроль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608360" y="3868560"/>
            <a:ext cx="4104000" cy="2656080"/>
          </a:xfrm>
          <a:prstGeom prst="roundRect">
            <a:avLst>
              <a:gd name="adj" fmla="val 311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самостоятельный эксперимент учащихся, очень мало времени на лекции и объяснение изученного ранее материала, контроль и проверка выполнения домашних заданий имеют среднее знач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312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260"/>
                            </p:stCondLst>
                            <p:childTnLst>
                              <p:par>
                                <p:cTn id="31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4760"/>
                            </p:stCondLst>
                            <p:childTnLst>
                              <p:par>
                                <p:cTn id="32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260"/>
                            </p:stCondLst>
                            <p:childTnLst>
                              <p:par>
                                <p:cTn id="3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1"/>
          <p:cNvSpPr/>
          <p:nvPr/>
        </p:nvSpPr>
        <p:spPr>
          <a:xfrm>
            <a:off x="571680" y="952920"/>
            <a:ext cx="813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«Качество системы образования не может быть выше уровня работающих в ней учител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ahoma"/>
              </a:rPr>
              <a:t>Роль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ahoma"/>
              </a:rPr>
              <a:t>хорошего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ahoma"/>
              </a:rPr>
              <a:t>учителя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ahoma"/>
              </a:rPr>
              <a:t>в системе образования больше, чем сумма всех других факторов, вместе вз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SimSun"/>
              </a:rPr>
              <a:t>Доклад МакКинзи: «Уроки анализа лучших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SimSun"/>
              </a:rPr>
              <a:t>образовательных систем ми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09:58:03Z</dcterms:created>
  <dc:creator>sol</dc:creator>
  <dc:description/>
  <dc:language>en-US</dc:language>
  <cp:lastModifiedBy>Роза Искандеровна</cp:lastModifiedBy>
  <dcterms:modified xsi:type="dcterms:W3CDTF">2012-02-05T13:50:05Z</dcterms:modified>
  <cp:revision>124</cp:revision>
  <dc:subject/>
  <dc:title>Заголовок слайда отсутствует</dc:title>
</cp:coreProperties>
</file>