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869-E33D-48FC-AB9C-5201B818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B07-5ED7-4183-8B95-A81E4C18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9E65CB-8AE2-45A3-9700-D57EEC99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3A99BE-B7B9-4705-BC95-1D6A55C5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51729A-73FA-4B06-835F-2F86D9D9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D951D0-5BCF-4161-B932-3F30885E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71C673-0568-426C-A7F4-37FAF929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C8B67B-EB4E-4BCE-A409-CFDCB638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3F0CFD-FDC9-4F73-BF62-031EC0BD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78B9B0-6651-4E94-91A8-3B166253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DF6996-BDBD-4A18-B6FC-71095B2E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03F-C77A-45EF-9F18-C1E6D7B5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151-78D7-4D7F-8E22-507E6707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5EB87-1023-4F14-8FC3-D025C673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439F7-CE9D-43C8-B7CC-59D797AD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400B6-64FA-46D0-ABDF-33AB0B05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C257D-6E48-4BC1-89F9-C6FDA378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C6DB1-9CF9-417D-B182-8101EEDA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5BB8A-714F-4C00-B51D-CEB74CE4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B9880-E458-463F-8272-DB955D5A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94F-A440-4787-9C0F-287799E2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659FB-6FD6-453F-A68A-5FF159FD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28681-B502-4459-999B-A12A43B8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FA69F-165F-447D-BFFB-39DD4E37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B4260-CF7D-4E03-927C-1B1CEDC3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784B4-A0D8-45B9-9354-8E1FBF21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2B389-0E8B-4F19-9FC8-3BD41F82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4F08-C1CB-4C07-AAE1-4E0D6684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7BF6-2689-4023-9EB8-BDD03BE7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42995-8C92-4D12-A4B4-16690472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89EF-9672-4B85-88A7-55FA5C5C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248-A4B9-481B-B4A7-580CE308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7E6D-5566-4F66-AF0D-D053C93C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F7735-9DF7-401F-9ECC-079DA68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825B-5D5A-41BB-BCD4-757B8AAF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8551-866E-46B6-B229-CEBD3AF9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0B1A-F2E6-4FEA-BB14-180B63C7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03973-DF9B-4056-A562-715C2EEC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3CB73-15CC-4E2B-9124-C032F60E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30B31C-49E7-4D58-9AE6-CF502152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053CA-5764-4A67-9C83-CED7C48B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973AC9-2DEF-474A-9100-DCA4A557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116-1DF2-489A-B631-E6A768D9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D3DBB2-901E-4FFC-914E-D64DAACF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0B714-34AC-4191-9B2B-4B445E82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62608-C81C-40AE-9AB6-4BFB05B9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45550A-1189-4E8C-A113-28513A47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1AE41-6E97-4A53-B45E-F5A1A5B6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7391F-D0B3-4725-B10E-5AF3DF61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69F03-765C-4461-83E8-1822C1A8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3FDABD-8E9C-4839-A497-C05F6E19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7A4154-1FCD-438D-ADE9-2EE3E43B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4AE1B-17E7-412E-95AF-AF0A8537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426-8334-436F-99B8-63D9E996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CFCD1-C71F-4C30-A4D3-A04C6001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5D3A9-74FF-4697-8007-7EC9937D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016EF-8388-4EFC-B19D-807C9310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245C0-E965-4583-8796-72FC345F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4FE4F-97F9-41C3-8346-246A2506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37E6-E010-43E1-89C4-CDCE82C4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576B0-EF3E-450B-ABB6-81C29350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1E2D0-5C86-48B2-A37F-6F13A56D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076E0-555D-4D83-925C-78FDAA82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A81A5-859A-4E61-AB65-82867E03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DA8-3EE4-45C7-9E1D-4205C8CC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8921D-360B-43F1-BE07-7C1ED025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B7F28-2BBF-4E03-B69D-0103E7CB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3D73B-8CA6-4EA3-B655-A6D4AC2B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077B3-FFEC-4031-980F-D45CBC83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4B85F-F314-4BC1-A7E9-F751FD4E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BB360-750A-45DB-8CA1-DBDDA398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1F29B-7B31-4A3B-AF82-34FFFDE4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72483-BD77-415A-B0CB-2FA513F6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AF27C-3504-46E7-9334-AD1406C6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9DFCB-2826-4416-9512-7B3A689E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BBC-802C-4A6B-AF04-F2BDB810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3F865-37AB-4EDD-AAA5-9EFFE098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8DFC4-07B6-420B-A9F5-859709F4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FDFD2-2670-49B9-8ABC-BCE395A0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9C373-7475-4B46-B2D9-01B3BD4A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0597D-DB1E-45D4-8029-0B314318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CD673-9327-4682-9B0D-14DCDAC5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BC639-7F90-43CE-8F40-2DF19C14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0378D-7AE2-4E3A-8CFF-89A5B4B8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53C97-81E1-41F1-8EB7-9FEFD790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FC50C-9AF6-47C4-B8B9-435478E8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435-886A-4282-9678-B8363134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9ACEA-CB8D-4EFE-951F-58AE31FC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6494A-750D-449B-BDF2-E6FED0ED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26C76-C23B-4738-AD53-9282F26C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056C5-A54B-43E9-99BF-74C49E4E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629FB-ED06-4DDE-8ABC-A8C4192B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AD53D4-2A43-43A0-BD88-4F6EF4E8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0FB600-373A-49F0-A8F1-B6B96FF0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33971E-BCBE-4E12-A493-9D013138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9E9E36-5F3C-4517-9C45-B136837F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484645-3373-449A-89C1-7A0D752A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CCD-B0F2-4E58-99A0-175CE92D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B005A-257F-44A0-BC07-43D1BB4D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F2D7A4-DA1B-4AF0-9B5A-CD4530A3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D72FA7-C0B2-4473-8289-030AE785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27280D-8E9A-4F37-B7E3-61C1FB7B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D948EC-7141-4511-A727-66CD18BB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0EBA2D-65E4-4B4A-ABF3-75D6C660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9D61F1-0519-474E-8383-5B93FD02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261D9D-0EC3-415C-9ED8-019D78FA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3A94FC-0B4D-40A0-8752-51FABC6A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D8C5E0-E060-4960-8A3B-85DB0390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FBE3-DC88-41E8-8742-DCF67438C700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2666-8004-4584-BD99-6F306AB34DAA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4B5C-5764-4CA3-871A-2864436C4615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EBA8-F512-4DE2-8DEA-1F923402A8A2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C1A6-C2D1-4AA2-BF21-C24C71534BC6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E636-A5EB-4618-A768-49F34BE06B7C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79FF-8325-462B-AAA1-059B67FDAA2A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759F-4232-460C-9A7C-6994979CF9B3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0D1A-C811-42BE-85D4-7BCF7C8C79C0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14360" y="189000"/>
            <a:ext cx="8553600" cy="2468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979280" y="2565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аяхметова Р.И., директор Городского методического центр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Каким был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темп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рока? Поддерживался ли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интерес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чащихся к уроку на всем его протяжении? Как была организована смена видов деятельности учащихся на уроке? Как был организован учебный материал, что было дано в виде «готовых знаний», до чего «додумались» сами учащиеся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511200" y="-17136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Ответить на вопрос, как в ходе урока была организована опора на предыдущие знания, жизненный опыт учащихся и насколько актуальным для них был учебный материал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5840" y="1646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Очень важным для урока является та его сторона, которая связана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с контролем за деятельностью учащихся</a:t>
            </a: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Надо постараться оценить, как э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работа была организована на уроке, как контролировалась домашняя рабо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чащихся? Весь ли труд учеников был проверен? Насколько быстро и эффективно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это было сделано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4200" y="164628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ставить перед собой вопрос и постараться ответить на него: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как задавалось домашнее задание</a:t>
            </a:r>
            <a:r>
              <a:rPr b="1" lang="en-US" sz="3300" spc="-1" strike="noStrike">
                <a:solidFill>
                  <a:srgbClr val="ffffff"/>
                </a:solidFill>
                <a:latin typeface="Cambria"/>
              </a:rPr>
              <a:t>?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Был ли инструктаж детальным и четким? Было ли проверено, как учащиеся его записали? Продумана ли его проверка?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ытаться охарактеризовать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психологическую атмосферу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рока, степень доброжелательности, взаимной заинтересованности всех участников урока, характер их общения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tt-RU" sz="3200" spc="-1" strike="noStrike">
                <a:solidFill>
                  <a:srgbClr val="ffffff"/>
                </a:solidFill>
                <a:latin typeface="Cambri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маловажным являет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настроение учителя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менилось ли оно по сравнению с тем, каким оно было до него? В чем причи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х изменений? Что теперь, после того, как урок прошел, целесообразно бы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 изменить в нем? Что можно поставить себе в плюсы, а что в минусы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511200" y="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Педагогическая профессия по природе своей профессия творческая. Но что такое творчески работающий учитель? Понятие это довольно емкое. Если на это попытаться ответить коротко, то можно ответить так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творчески работающий учитель— это человек, обладающий в первую очередь высокой педагогической культур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4284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Одним из слагаемых такой культуры является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аналитическое мастерство. 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Умение анализировать свою собственную деятельность—важное качество любого человека, тем более оно важно для учителя как человека творческого. Любое творчество нередко представля</a:t>
            </a:r>
            <a:r>
              <a:rPr b="0" lang="ru-RU" sz="2700" spc="-1" strike="noStrike">
                <a:solidFill>
                  <a:srgbClr val="eaf0f6"/>
                </a:solidFill>
                <a:latin typeface="Arial"/>
              </a:rPr>
              <a:t>ет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 собой перестройку уже сложившейся деятельности, ломку старых устоявшихся представлений, переход деятельности в новое качество. А это невозможно без анализа накопленного опыта. Учитель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должен уметь анализировать свою деятельность, но в первую очередь урок как основную ее форму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f0f6"/>
                </a:solidFill>
                <a:latin typeface="Cambria"/>
              </a:rPr>
              <a:t>Первое, что должен сделать учитель, анализирующий свой урок,—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его место в теме и в общем курсе</a:t>
            </a:r>
            <a:r>
              <a:rPr b="1" lang="ru-RU" sz="3200" spc="-1" strike="noStrike">
                <a:solidFill>
                  <a:srgbClr val="e8d19d"/>
                </a:solidFill>
                <a:latin typeface="Cambria"/>
              </a:rPr>
              <a:t>,</a:t>
            </a:r>
            <a:r>
              <a:rPr b="0" lang="ru-RU" sz="32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а также задать себе вопрос,</a:t>
            </a:r>
            <a:br>
              <a:rPr sz="3200"/>
            </a:b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насколько ясным стало это место для учащихся 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пытать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соотнести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оставленные цели урока для учащихся и для учителя с достигнутыми на уроке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 определить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чины успеха или неудач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164628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уровень формирования на уроке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нани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логичность подачи материала, научность, доступность, трудность, нестандартность) и умений (соответствие путей формирования специальных умений общепринятым умениям, прочность отработанных умений, степень их автоматизм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тветить на вопрос, что нового дал данный урок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развития ума, памяти, внимания, умения слушать товарищей, высказывать свои мысли и отстаивать свою точку зрения, для формирования интереса к данному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46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d19d"/>
                </a:solidFill>
                <a:latin typeface="Arial"/>
              </a:rPr>
              <a:t>5.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Подумать, насколько оптимально был выстроен урок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Соответствовал ли он вашим интересам, темпераменту, уровню учебной подготовки и развития учащихся, специфике класса? Адекватна ли была организация деятельности учащихся обучающим, развивающим и воспитывающим целям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646280"/>
            <a:ext cx="8786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робовать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оценить степень активности учащихся на уроке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Сколько раз и кто из них выступал на уроке, почему молчали остальные, как стимулировалась их работа, насколько были продуманы их действия при подготовке к уроку, что из этою получилось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ри этом надо руководствоваться непреложным правилом недопустимости оценки личности ученика при оценке его работы, сравнения его с другими учащимися, данного класса с другими классами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4:04Z</dcterms:created>
  <dc:creator>rinat</dc:creator>
  <dc:description/>
  <dc:language>en-US</dc:language>
  <cp:lastModifiedBy>Роза Искандеровна Шаяхметова</cp:lastModifiedBy>
  <dcterms:modified xsi:type="dcterms:W3CDTF">2009-12-17T20:42:36Z</dcterms:modified>
  <cp:revision>21</cp:revision>
  <dc:subject/>
  <dc:title>Как анализировать свой собственный урок  (Самоанализ урока)</dc:title>
</cp:coreProperties>
</file>