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EFEB-C41C-485D-B217-4D2B4C979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7C13-20B7-4785-AEB9-A25BC215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A0BC14-5FCE-47FE-A6A5-E9CE7BF8B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51BA1C-DA83-4E4D-90F1-796F458A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018F13-C89D-486A-BAF8-EBA85423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6A0B02-60FE-4894-89CB-D3339C9D6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2F75F7-DD55-4445-84FF-AA1AF28E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492F3C6-8F33-41A3-82B0-E9260CB9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A78771F-A330-40C7-BE80-958B2AD94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B8AEE7-DBA7-45C2-8CC9-1B4800AF5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20843E-03F4-4908-BC99-C7E650CDD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43C5-C503-4CB2-85A2-369CAA606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190-CB04-4BE1-A02A-3A286090A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9BAFD3-37C3-4390-89D3-57203E4C0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2E18EC-171E-4A14-BF84-8BFBF7A9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B0B810-1EF0-4114-8D8A-CBC01AF4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B54CE8-F925-4F55-80CE-9057955C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E9820-D8C1-4D77-813F-122FF316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7A65A-0E38-4C81-9553-82662C7A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59AFFC-C84B-4EE9-82BD-6171EA3D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1FB5-5C2D-4852-8E72-BA7722AB1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B31AC-0616-497A-B9A4-876165F9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4AD47-4D09-4A68-B5F4-A14B807F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EADAE-0C76-44E0-A48A-500EE38C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DD08D-6E69-4A96-9084-AF87B4C6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FF492-6B4B-49F8-9873-FCD4505A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C911D-6211-467A-8278-033D13649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78E30-87EC-42FF-8289-379A64A9B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D9F87-9782-418E-8AC9-DFE38831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024AD-48DA-4578-952F-1D614DB6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612F7-F934-47A3-A39C-4F1FE126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1F87-7998-4FB9-BAE1-94DEF8D3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C45C8-E3CD-463D-AA17-20EE1D565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2568-346C-408E-A652-E2F85720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81725-8E83-415E-8708-6D4BD247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D7103-E948-4474-90BE-A5FAF001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F95A3-C564-4C53-8E59-09E4C2C4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C356C-ED5C-4B33-9FD6-C5396063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D8A63-3AD5-4052-BEB0-934D55295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49B5B8-C96B-4941-BB41-A61FAF80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7C22BB-3DAA-40FA-A097-1BE140B1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5C5B11-A48B-486C-A375-71FBD0B0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4842-EB27-4194-A678-694F6C86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A3DFB6-728F-4540-9E9E-A0C137D3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5BDB0B-10D2-4BA0-85CB-FDF50DE0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0ED934-69D9-4442-B229-F593F2D2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E6574C-0FCA-42FC-B61E-B5E5FE9F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04A0AC-B395-4F51-BE39-6701411B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F854F-082C-4875-A0A1-2D5A39F7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34C882-1401-4DE5-BF35-24479BE62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E6E50-6037-4C2B-AB44-09703B54E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25821C-DB4B-4CAB-8F37-4691F1BDF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9F58A-4AB2-420B-BF3A-861C1AB2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F9F-4411-4865-BE23-2D9ED680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C25B4-D79B-47FA-95AF-3886BC9E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52DF8-4004-4320-8B0A-204D95E5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454F7-F55A-4E42-AEF5-01F53BDA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282AF-38D2-4D80-B928-B564A3DE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DC8BF-496F-4ED4-97C1-1FCB0F3B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1E74D-0927-4EED-B2EA-4E20D732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55608-8EAD-4E6A-959B-EAB82F53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4AE31-4DE0-434A-ABE9-EB70EA3B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94647-101C-4BA1-A3F8-46651CDE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844F4-CE88-4C17-A8C0-581998C0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8B1-47EB-4EE2-958A-251BCCEB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8CB7A-33EA-4381-A086-54656A234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6839C-D51C-4F9A-8822-7CF01092E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F65BF-5D49-4B14-BADB-D0266572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E022D-399D-492E-B972-4D72CE7AA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69463-B19D-4D91-B532-C4F7E220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545BF-FEEF-46E8-9E8F-66EA26EE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3C550-C109-44C9-95A1-DC980289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A8ED5-6BBD-462D-B62B-6C82D55C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E9003-956D-4D54-8904-FAA215F1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62B97-B36B-438F-A664-4B04A584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BB8-7429-42EB-BC0B-E6663A50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8ABBD-CA9A-474C-B132-8E90BDA85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0533F-681B-48D0-841C-47FD7730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DD460-C6E5-419C-BFB4-CEBA1591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322AC-5306-417C-B25F-B922A757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77E2A-D480-457E-86F0-1ECD07BA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ECB14-E8C8-46CB-9D40-2C20C808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0C6DA-7EAA-483B-8C1B-382030F4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7A8056-8EF0-4E26-8F00-0C423583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BC7E4-7F75-4231-AFBB-8770980BA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625241-29D1-45FA-9796-D87B2870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B86-0645-4EBE-8EC9-A07216A2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D598B-5A5E-4DF8-98D6-6524DEEA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F54A1-0BDD-4B0C-9277-83935AAA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C35EC-A5A0-45D4-8596-991EEF4D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69B94-AFCB-4183-80F4-A790ED8C1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31EA0-8CD6-4019-A31C-8CF5C2A8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099C71C-E999-4CC1-BD98-E3198043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17CC48-D619-4E6A-B20F-A7197457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E4140F-86DB-4DF1-8210-9EF7DF37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9BC6EB-BB14-4CED-84D9-62B73C091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94A7CB-795E-4FDD-A551-381D68B3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88E9-40F1-4D98-8A46-880541A3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41DEB7-B0D4-4A59-9B84-7A07C449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F9F52EE-ACF9-4C37-BFCA-A7A21B32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CAA251-D2AE-4980-BB3F-D7026FE9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72C867-ACD7-4534-87BE-61B8DDFE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84B7B9F-F7AC-460E-80FC-1E870711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3B0679-76CD-43B5-9113-95E52AC57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25FC521-5519-486E-8381-7E722531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F426E5-32AD-4513-BA3F-DE82D95C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DCC45F-EED6-4032-B4CB-36DA3119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8CBDFB-E9A3-4234-9616-D5AEC6ED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E083-594E-4380-80D6-19D49204363A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B07E-4A2F-4AA1-9FBB-4173C3282F7C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07E4-1577-45EB-8FB1-F65196643399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8B58-483E-477B-8C38-7D433E19F04A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2530-B740-4A71-A587-9AD94BEC90EF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1E8D8-EE81-4DD3-9EDE-78B2B7964589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57B4-8CF1-44D0-BAB0-A61CDFC7D7E8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94b6d2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88FD-BBCB-467F-8D8B-C124D316D8BD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ddc9d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fddc9d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dd8047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5ab8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c0b5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b5b1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e0d3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0B0C-202C-4F90-9950-CE02ED00BB4F}" type="slidenum">
              <a:rPr b="0" lang="ru-RU" sz="1600" spc="-1" strike="noStrike">
                <a:solidFill>
                  <a:srgbClr val="e0d3ba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414360" y="189000"/>
            <a:ext cx="8553600" cy="24685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1979280" y="256536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Шаяхметова Р.И., директор Городского методического центр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Каким был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темп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рока? Поддерживался ли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интерес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 учащихся к уроку на всем его протяжении? Как была организована смена видов деятельности учащихся на уроке? Как был организован учебный материал, что было дано в виде «готовых знаний», до чего «додумались» сами учащиеся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1" name="Заголовок 1" descr=""/>
          <p:cNvPicPr/>
          <p:nvPr/>
        </p:nvPicPr>
        <p:blipFill>
          <a:blip r:embed="rId2"/>
          <a:stretch/>
        </p:blipFill>
        <p:spPr>
          <a:xfrm>
            <a:off x="511200" y="-17136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Ответить на вопрос, как в ходе урока была организована опора на предыдущие знания, жизненный опыт учащихся и насколько актуальным для них был учебный материал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285840" y="164628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80080" indent="-280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Очень важным для урока является та его сторона, которая связана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с контролем за деятельностью учащихся</a:t>
            </a:r>
            <a:r>
              <a:rPr b="1" lang="en-US" sz="3000" spc="-1" strike="noStrike">
                <a:solidFill>
                  <a:srgbClr val="ffffff"/>
                </a:solidFill>
                <a:latin typeface="Cambria"/>
              </a:rPr>
              <a:t>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Надо постараться оценить, как э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работа была организована на уроке, как контролировалась домашняя работа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чащихся? Весь ли труд учеников был проверен? Насколько быстро и эффективно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это было сделано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5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214200" y="1646280"/>
            <a:ext cx="8715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10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ставить перед собой вопрос и постараться ответить на него: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как задавалось домашнее задание</a:t>
            </a:r>
            <a:r>
              <a:rPr b="1" lang="en-US" sz="3300" spc="-1" strike="noStrike">
                <a:solidFill>
                  <a:srgbClr val="ffffff"/>
                </a:solidFill>
                <a:latin typeface="Cambria"/>
              </a:rPr>
              <a:t>?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Был ли инструктаж детальным и четким? Было ли проверено, как учащиеся его записали? Продумана ли его проверка? 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ытаться охарактеризовать </a:t>
            </a:r>
            <a:r>
              <a:rPr b="1" lang="en-US" sz="3300" spc="-1" strike="noStrike">
                <a:solidFill>
                  <a:srgbClr val="e8d19d"/>
                </a:solidFill>
                <a:latin typeface="Cambria"/>
              </a:rPr>
              <a:t>психологическую атмосферу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урока, степень доброжелательности, взаимной заинтересованности всех участников урока, характер их общения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ffffff"/>
                </a:solidFill>
                <a:latin typeface="Arial"/>
              </a:rPr>
              <a:t>11. </a:t>
            </a:r>
            <a:r>
              <a:rPr b="0" lang="tt-RU" sz="3200" spc="-1" strike="noStrike">
                <a:solidFill>
                  <a:srgbClr val="ffffff"/>
                </a:solidFill>
                <a:latin typeface="Cambria"/>
              </a:rPr>
              <a:t>Н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емаловажным являет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настроение учителя</a:t>
            </a:r>
            <a:r>
              <a:rPr b="1" lang="ru-RU" sz="32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62440" indent="-26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Изменилось ли оно по сравнению с тем, каким оно было до него? В чем причин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этих изменений? Что теперь, после того, как урок прошел, целесообразно был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бы изменить в нем? Что можно поставить себе в плюсы, а что в минусы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9" name="Заголовок 1" descr=""/>
          <p:cNvPicPr/>
          <p:nvPr/>
        </p:nvPicPr>
        <p:blipFill>
          <a:blip r:embed="rId2"/>
          <a:stretch/>
        </p:blipFill>
        <p:spPr>
          <a:xfrm>
            <a:off x="511200" y="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28480"/>
            <a:ext cx="8229600" cy="51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Педагогическая профессия по природе своей профессия творческая. Но что такое творчески работающий учитель? Понятие это довольно емкое. Если на это попытаться ответить коротко, то можно ответить так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 </a:t>
            </a:r>
            <a:r>
              <a:rPr b="0" lang="ru-RU" sz="2800" spc="-1" strike="noStrike">
                <a:solidFill>
                  <a:srgbClr val="eaf0f6"/>
                </a:solidFill>
                <a:latin typeface="Cambria"/>
              </a:rPr>
              <a:t>творчески работающий учитель— это человек, обладающий в первую очередь высокой педагогической культурой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14200" y="14284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Одним из слагаемых такой культуры является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аналитическое мастерство. 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Умение анализировать свою собственную деятельность—важное качество любого человека, тем более оно важно для учителя как человека творческого. Любое творчество нередко представля</a:t>
            </a:r>
            <a:r>
              <a:rPr b="0" lang="ru-RU" sz="2700" spc="-1" strike="noStrike">
                <a:solidFill>
                  <a:srgbClr val="eaf0f6"/>
                </a:solidFill>
                <a:latin typeface="Arial"/>
              </a:rPr>
              <a:t>ет</a:t>
            </a:r>
            <a:r>
              <a:rPr b="0" lang="ru-RU" sz="2700" spc="-1" strike="noStrike">
                <a:solidFill>
                  <a:srgbClr val="eaf0f6"/>
                </a:solidFill>
                <a:latin typeface="Cambria"/>
              </a:rPr>
              <a:t> собой перестройку уже сложившейся деятельности, ломку старых устоявшихся представлений, переход деятельности в новое качество. А это невозможно без анализа накопленного опыта. Учитель </a:t>
            </a:r>
            <a:r>
              <a:rPr b="0" i="1" lang="ru-RU" sz="2700" spc="-1" strike="noStrike">
                <a:solidFill>
                  <a:srgbClr val="eaf0f6"/>
                </a:solidFill>
                <a:latin typeface="Cambria"/>
              </a:rPr>
              <a:t>должен уметь анализировать свою деятельность, но в первую очередь урок как основную ее форму.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268560" indent="-268560">
              <a:buClr>
                <a:srgbClr val="94b6d2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Заголовок 1" descr=""/>
          <p:cNvPicPr/>
          <p:nvPr/>
        </p:nvPicPr>
        <p:blipFill>
          <a:blip r:embed="rId1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f0f6"/>
                </a:solidFill>
                <a:latin typeface="Cambria"/>
              </a:rPr>
              <a:t>Первое, что должен сделать учитель, анализирующий свой урок,—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его место в теме и в общем курсе</a:t>
            </a:r>
            <a:r>
              <a:rPr b="1" lang="ru-RU" sz="3200" spc="-1" strike="noStrike">
                <a:solidFill>
                  <a:srgbClr val="e8d19d"/>
                </a:solidFill>
                <a:latin typeface="Cambria"/>
              </a:rPr>
              <a:t>,</a:t>
            </a:r>
            <a:r>
              <a:rPr b="0" lang="ru-RU" sz="32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514440" indent="-514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а также задать себе вопрос,</a:t>
            </a:r>
            <a:br>
              <a:rPr sz="3200"/>
            </a:br>
            <a:r>
              <a:rPr b="0" lang="ru-RU" sz="3200" spc="-1" strike="noStrike">
                <a:solidFill>
                  <a:srgbClr val="eaf0f6"/>
                </a:solidFill>
                <a:latin typeface="Cambria"/>
              </a:rPr>
              <a:t>насколько ясным стало это место для учащихся после урока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2285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опытаться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соотнести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поставленные цели урока для учащихся и для учителя с достигнутыми на уроке 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и определить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причины успеха или неудачи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57120" y="164628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3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пределить уровень формирования на уроке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знаний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(логичность подачи материала, научность, доступность, трудность, нестандартность) и умений (соответствие путей формирования специальных умений общепринятым умениям, прочность отработанных умений, степень их автоматизма)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3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8d19d"/>
                </a:solidFill>
                <a:latin typeface="Arial"/>
              </a:rPr>
              <a:t>4.</a:t>
            </a:r>
            <a:r>
              <a:rPr b="1" lang="ru-RU" sz="3600" spc="-1" strike="noStrike">
                <a:solidFill>
                  <a:srgbClr val="e8d19d"/>
                </a:solidFill>
                <a:latin typeface="Cambria"/>
              </a:rPr>
              <a:t>Ответить на вопрос, что нового дал данный урок</a:t>
            </a:r>
            <a:r>
              <a:rPr b="0" lang="ru-RU" sz="3600" spc="-1" strike="noStrike">
                <a:solidFill>
                  <a:srgbClr val="e8d19d"/>
                </a:solidFill>
                <a:latin typeface="Cambri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для развития ума, памяти, внимания, умения слушать товарищей, высказывать свои мысли и отстаивать свою точку зрения, для формирования интереса к данному предмету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5" name="Заголовок 1" descr=""/>
          <p:cNvPicPr/>
          <p:nvPr/>
        </p:nvPicPr>
        <p:blipFill>
          <a:blip r:embed="rId2"/>
          <a:stretch/>
        </p:blipFill>
        <p:spPr>
          <a:xfrm>
            <a:off x="450720" y="12600"/>
            <a:ext cx="86328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64628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8d19d"/>
                </a:solidFill>
                <a:latin typeface="Arial"/>
              </a:rPr>
              <a:t>5.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Подумать, насколько оптимально был выстроен урок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Соответствовал ли он вашим интересам, темпераменту, уровню учебной подготовки и развития учащихся, специфике класса? Адекватна ли была организация деятельности учащихся обучающим, развивающим и воспитывающим целям урока?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142920" y="1646280"/>
            <a:ext cx="87868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опробовать </a:t>
            </a:r>
            <a:r>
              <a:rPr b="1" lang="en-US" sz="3600" spc="-1" strike="noStrike">
                <a:solidFill>
                  <a:srgbClr val="e8d19d"/>
                </a:solidFill>
                <a:latin typeface="Cambria"/>
              </a:rPr>
              <a:t>оценить степень активности учащихся на уроке.</a:t>
            </a:r>
            <a:r>
              <a:rPr b="0" lang="en-US" sz="3600" spc="-1" strike="noStrike">
                <a:solidFill>
                  <a:srgbClr val="e8d19d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Сколько раз и кто из них выступал на уроке, почему молчали остальные, как стимулировалась их работа, насколько были продуманы их действия при подготовке к уроку, что из этою получилось?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При этом надо руководствоваться непреложным правилом недопустимости оценки личности ученика при оценке его работы, сравнения его с другими учащимися, данного класса с другими классами.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450720" y="-115920"/>
            <a:ext cx="863280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10:44:04Z</dcterms:created>
  <dc:creator>rinat</dc:creator>
  <dc:description/>
  <dc:language>en-US</dc:language>
  <cp:lastModifiedBy>Роза Искандеровна Шаяхметова</cp:lastModifiedBy>
  <dcterms:modified xsi:type="dcterms:W3CDTF">2009-12-17T20:42:36Z</dcterms:modified>
  <cp:revision>21</cp:revision>
  <dc:subject/>
  <dc:title>Как анализировать свой собственный урок  (Самоанализ урока)</dc:title>
</cp:coreProperties>
</file>