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FFC0-44E5-4A6D-AFA5-4D015F2B2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180C-7101-4861-8303-C82D1B42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E3EE75-3C5B-4AB2-9BB7-AE545C47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5D2512-D644-4265-BFE4-64244270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379C0C-46DD-47F3-85C8-F389FBEB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CAE6AB-7C03-4F8B-B4C3-ABE0D7FB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25DF9A-E5DD-40CC-9521-7C16A0B0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23F079-D7A6-494C-A076-D824C7A9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D36A046-00A7-41F5-B4D6-1793029F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923A7C-65C4-4D57-8AA0-ABDC7B6C6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7BDF44-C11D-4AA3-B716-C079E4E68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5F52-729B-437B-B362-8CEAA78A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EBF7-2D84-4738-B423-83EA78F8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00B3F-54B9-414F-84E1-17CC2A27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80BC68-C017-42A2-9074-D06564AA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60E3A-F81E-4BB6-9FCE-CC1A18AE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7F0A4-9B3B-4AB5-ABEA-D9172714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8A0D5E-74A3-49A1-98FA-D92716F9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59A127-D245-4CD5-B446-DFAA599E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5B2F6-8E0C-45F0-83CD-D88D2500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C1EA-2047-42F3-B2B7-068B98D9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5BB62-BA54-4076-B81F-A6D28F7D2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22521C-967F-45D6-9B08-2C5696F6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66567-96F1-40D8-852D-02EC8EE5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D846D-C1C8-4FA2-B6BC-6D9BEB90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025768-A02A-4BF5-860D-03232454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31CD5-A928-4B3F-975C-72C4F25F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BA413-7304-4634-8631-CFAE4E70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8E7CC-F4F1-4456-976E-D5AFD9AD8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069BA-1292-4294-9BFA-5CE437A74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F1C54-5905-4B69-BA21-0469FCD8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8673-F45E-40F4-BFBC-349DAC571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EBCA2-1B1E-4164-BDF6-752A73CD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CEDCC-D53C-4425-ADF9-1C1E5CC3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C8CED-E535-44CF-A7E6-964F9DA9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28B5B-067D-476F-8673-62CD4FB7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DDEE4-D976-4785-8E1E-E415BAA0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F0F83-B651-4B8D-9B63-43305B444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DF8F8-AFCC-4D0E-AD8D-5F22529F6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D8D184-3A7C-4D76-955E-44D519047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3B4F59-ECEA-4DE1-A36B-CFFFEF4E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9ABDCC-DB2D-40C6-9A51-DF599CA4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6975-C891-4CC2-80DF-A31E69BC5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677FBD-17BB-4358-A18F-6CB701127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A1233C-E2FA-421B-BD1C-8CA99AA6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B5E73E-C439-4F3B-A9D5-0F4E15AF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3C96A7-D21B-4BD3-A249-A6029081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419AD2-0945-4AD4-8BF3-7D9D0E67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A955A4-621E-47A9-BDDC-D14DA8B7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CBD364-B1C3-4773-A356-D6778D5F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007996-B26C-4DD7-8E01-64E1DF52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E1C406-A137-4BD7-B0EA-9B6047A0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C726A4-2938-461B-B448-78806C01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DD6B-0EE4-44A8-8ACD-33C3175A7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2C48D-0749-4D99-AFF5-5B42AB52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69656-B7C3-4D0C-8723-F900E094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4DF4D4-A59A-4F30-BA39-017EFD1F4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67E92-FCC9-4B96-8AF0-F0298429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5F9A4-2996-457E-AD30-3765F4D9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984E7-7932-4F44-B342-6EF27D47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E90B1-EF49-47E2-9F5A-9E786473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CEF52-AA94-48AB-81C5-1C634C69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91A1E-37F5-48B8-8523-B4BD3D1F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135C8-AA57-46BF-8EB0-CEDECDF8E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BAB9-8062-4626-94D8-EB4C67FE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0C459-F80E-4C49-BC17-E7BC20EC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7E326-C516-44BC-992C-2A65F3DC9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E856E-0623-4D55-810A-C712778F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06BD2-BACC-406C-B37F-0F776FF8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05212-C337-4A37-93C2-F8EE1BA13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732E0-A807-426D-A7CB-9385F95B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A4853-BC12-475F-A0DF-387FB2ED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EFDBA-E4AE-4201-9BAB-3B206DEE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D6473-0D94-4321-AE3E-C13D3CC4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77CD2D-1B9F-456E-957E-86229230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C31C-3DA9-4204-A4C4-8074E0B6D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1E3EE-0987-4505-B2A2-14688414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A37BE-BA25-49E5-A916-824F60508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3521A-5D3B-4234-92F3-55380CEDD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865C4-AA14-4F8B-A58D-5367E672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5732B-CDCA-4366-AEA6-B148648E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A254BD-46F8-446F-9194-04A4A765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E9FF4-C7ED-4046-ADFF-06CA585F4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4A2FA3-5417-4920-B5B7-1303F52F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0F3A58-19A6-41D1-B66C-9BCEDEAC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2B05B-CC59-4944-994E-4670B193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30B-B50C-42B9-B9E4-078BCFC3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872B48-B8CB-4C93-9CB1-A659F619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8DA50-31E2-4AFD-9E9D-12A35D10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6C5A6-343A-4092-9AAE-0AB5CBE40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72E74-8DF5-4CDA-B92A-004FB8706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C887A-EDED-490C-8E09-0C6023B9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3F978C-3F00-41C4-8407-4CDC2914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BD7C70-1D28-4520-A5BA-6187D3EE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0085EE-045F-4EA6-8038-5865B260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42F7ED-B22D-4869-82B8-904631BB8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4D89C5-FDEA-45F8-8B46-D2F007CD5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EAFC-A19C-46E5-BCAF-A6613617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03D551-4EF0-4AE9-A2E8-AB0E898F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F5DA28-8278-43B9-B5F7-24B093B8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C28A0C-807B-40A3-B3A9-AB33A02F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804EF4-B6F9-4E32-98F6-6C35E8F6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088FB4-5158-415B-8E92-0EFCAD36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9BCD82-259D-4DA6-8D26-669465385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138A40-CB83-4859-B844-F5C52F96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ECB246-66B2-4116-82B0-4F313D82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807FE9-FB5D-4773-9866-C495034B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27E171-5CAB-4582-958D-C5A4BB24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D7F7-DAC5-4BB1-8354-58AC2967C6FA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0879-3119-45AF-A471-6BB0C7AAE85D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DC867-9DDC-401A-B68D-D40CD058BBDC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961E-2D32-416D-B8AC-7657F5C6B95E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C93F-027E-4063-B309-C1327B639E7E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9ADC-CD2C-42BC-BD87-C6C4D25F94D1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52F3-5A4A-434C-B577-70887E46DF58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3184-C7B1-4EFD-9825-E5810859658B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AACAB-6C88-4F54-8F11-DDE2098FF417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414360" y="189000"/>
            <a:ext cx="8553600" cy="2468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979280" y="256536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аяхметова Р.И., директор Городского методического центр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Каким был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темп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урока? Поддерживался ли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интерес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учащихся к уроку на всем его протяжении? Как была организована смена видов деятельности учащихся на уроке? Как был организован учебный материал, что было дано в виде «готовых знаний», до чего «додумались» сами учащиеся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511200" y="-17136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Ответить на вопрос, как в ходе урока была организована опора на предыдущие знания, жизненный опыт учащихся и насколько актуальным для них был учебный материал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85840" y="164628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Очень важным для урока является та его сторона, которая связана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с контролем за деятельностью учащихся</a:t>
            </a: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Надо постараться оценить, как эта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работа была организована на уроке, как контролировалась домашняя работа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учащихся? Весь ли труд учеников был проверен? Насколько быстро и эффективно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это было сделано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5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214200" y="1646280"/>
            <a:ext cx="8715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ставить перед собой вопрос и постараться ответить на него: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как задавалось домашнее задание</a:t>
            </a:r>
            <a:r>
              <a:rPr b="1" lang="en-US" sz="3300" spc="-1" strike="noStrike">
                <a:solidFill>
                  <a:srgbClr val="ffffff"/>
                </a:solidFill>
                <a:latin typeface="Cambria"/>
              </a:rPr>
              <a:t>?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Был ли инструктаж детальным и четким? Было ли проверено, как учащиеся его записали? Продумана ли его проверка? 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пытаться охарактеризовать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психологическую атмосферу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урока, степень доброжелательности, взаимной заинтересованности всех участников урока, характер их общения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62440" indent="-26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tt-RU" sz="3200" spc="-1" strike="noStrike">
                <a:solidFill>
                  <a:srgbClr val="ffffff"/>
                </a:solidFill>
                <a:latin typeface="Cambria"/>
              </a:rPr>
              <a:t>Н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емаловажным являет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настроение учителя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зменилось ли оно по сравнению с тем, каким оно было до него? В чем причин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этих изменений? Что теперь, после того, как урок прошел, целесообразно был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бы изменить в нем? Что можно поставить себе в плюсы, а что в минусы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9" name="Заголовок 1" descr=""/>
          <p:cNvPicPr/>
          <p:nvPr/>
        </p:nvPicPr>
        <p:blipFill>
          <a:blip r:embed="rId2"/>
          <a:stretch/>
        </p:blipFill>
        <p:spPr>
          <a:xfrm>
            <a:off x="511200" y="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Педагогическая профессия по природе своей профессия творческая. Но что такое творчески работающий учитель? Понятие это довольно емкое. Если на это попытаться ответить коротко, то можно ответить так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творчески работающий учитель— это человек, обладающий в первую очередь высокой педагогической культурой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14200" y="142848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Одним из слагаемых такой культуры является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аналитическое мастерство. 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Умение анализировать свою собственную деятельность—важное качество любого человека, тем более оно важно для учителя как человека творческого. Любое творчество нередко представля</a:t>
            </a:r>
            <a:r>
              <a:rPr b="0" lang="ru-RU" sz="2700" spc="-1" strike="noStrike">
                <a:solidFill>
                  <a:srgbClr val="eaf0f6"/>
                </a:solidFill>
                <a:latin typeface="Arial"/>
              </a:rPr>
              <a:t>ет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 собой перестройку уже сложившейся деятельности, ломку старых устоявшихся представлений, переход деятельности в новое качество. А это невозможно без анализа накопленного опыта. Учитель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должен уметь анализировать свою деятельность, но в первую очередь урок как основную ее форму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f0f6"/>
                </a:solidFill>
                <a:latin typeface="Cambria"/>
              </a:rPr>
              <a:t>Первое, что должен сделать учитель, анализирующий свой урок,—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его место в теме и в общем курсе</a:t>
            </a:r>
            <a:r>
              <a:rPr b="1" lang="ru-RU" sz="3200" spc="-1" strike="noStrike">
                <a:solidFill>
                  <a:srgbClr val="e8d19d"/>
                </a:solidFill>
                <a:latin typeface="Cambria"/>
              </a:rPr>
              <a:t>,</a:t>
            </a:r>
            <a:r>
              <a:rPr b="0" lang="ru-RU" sz="32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а также задать себе вопрос,</a:t>
            </a:r>
            <a:br>
              <a:rPr sz="3200"/>
            </a:b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насколько ясным стало это место для учащихся 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пытать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соотнести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поставленные цели урока для учащихся и для учителя с достигнутыми на уроке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и определить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ичины успеха или неудач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1" name="Заголовок 1" descr=""/>
          <p:cNvPicPr/>
          <p:nvPr/>
        </p:nvPicPr>
        <p:blipFill>
          <a:blip r:embed="rId2"/>
          <a:stretch/>
        </p:blipFill>
        <p:spPr>
          <a:xfrm>
            <a:off x="450720" y="12600"/>
            <a:ext cx="86328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57120" y="164628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3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уровень формирования на уроке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знаний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(логичность подачи материала, научность, доступность, трудность, нестандартность) и умений (соответствие путей формирования специальных умений общепринятым умениям, прочность отработанных умений, степень их автоматизма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4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тветить на вопрос, что нового дал данный урок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ля развития ума, памяти, внимания, умения слушать товарищей, высказывать свои мысли и отстаивать свою точку зрения, для формирования интереса к данному предмету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450720" y="12600"/>
            <a:ext cx="86328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64628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d19d"/>
                </a:solidFill>
                <a:latin typeface="Arial"/>
              </a:rPr>
              <a:t>5.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Подумать, насколько оптимально был выстроен урок.</a:t>
            </a:r>
            <a:r>
              <a:rPr b="0" lang="en-US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Соответствовал ли он вашим интересам, темпераменту, уровню учебной подготовки и развития учащихся, специфике класса? Адекватна ли была организация деятельности учащихся обучающим, развивающим и воспитывающим целям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2920" y="1646280"/>
            <a:ext cx="8786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пробовать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оценить степень активности учащихся на уроке.</a:t>
            </a:r>
            <a:r>
              <a:rPr b="0" lang="en-US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Сколько раз и кто из них выступал на уроке, почему молчали остальные, как стимулировалась их работа, насколько были продуманы их действия при подготовке к уроку, что из этою получилось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ри этом надо руководствоваться непреложным правилом недопустимости оценки личности ученика при оценке его работы, сравнения его с другими учащимися, данного класса с другими классами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0:44:04Z</dcterms:created>
  <dc:creator>rinat</dc:creator>
  <dc:description/>
  <dc:language>en-US</dc:language>
  <cp:lastModifiedBy>Роза Искандеровна Шаяхметова</cp:lastModifiedBy>
  <dcterms:modified xsi:type="dcterms:W3CDTF">2009-12-17T20:42:36Z</dcterms:modified>
  <cp:revision>21</cp:revision>
  <dc:subject/>
  <dc:title>Как анализировать свой собственный урок  (Самоанализ урока)</dc:title>
</cp:coreProperties>
</file>