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2BD-10DF-4394-9F2E-24316CB1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6B3-BE65-4B20-8040-DFE74533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290816-2E95-4554-B4F5-CFC26FF0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8A800C-3D8A-4838-80CF-9D7A1804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29A944-15B6-4542-91FE-4A002EF1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23CB28-4679-42A0-9FAC-59112909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FC8C93-E604-489D-A930-9EB9A82C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3791DE-C0E9-4DF0-A274-BCA799C5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27E869-E840-4AE6-80C5-70D4A6AB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60F87-C809-467B-B0CD-E3698BF1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D94FF-C2D7-4EEE-85C4-4A5F929A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140-DC41-42F3-A70A-AEF6A464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A36-5267-4CDA-A19C-E648F8A0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B5D1A-57DE-41B0-B002-49BA3952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F858C-D956-4519-AF3B-703A00D9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35A01-B239-49D0-9A3D-A2C2016D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D598F-18CF-41A7-B7B0-E49E9BC1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3E861-99F3-4485-910B-45150F86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FD519-4BA5-4D0F-BD5F-EE3CC353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C31A5-A68C-405B-AC5E-31AE4C06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28A-DB4C-4979-9FB0-ACFCD994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DA99D-00D6-441B-8090-48AC0C07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DEEB1-D4DC-41C6-93F5-90A9E9C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4699F-50A5-4DCE-9231-5F35BFC7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3830B-AEC5-4757-A1B8-2AF5D6D7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0145D-E469-4461-B77E-1888EEA3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6E279-A410-4313-9713-3B962C4D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6B57-DD86-4B82-8991-13AB2BF0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3BB9-C284-4E8C-886E-A370B4B3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8353-9C62-47CE-B1EC-C0156E60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74C26-A009-499F-B6CC-417BACAB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BA3-082B-41A0-879B-A857D4D3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072C-C83C-4168-ADFB-98C3A690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958A-8786-4BFC-B347-1DAAA70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ADD38-1ECD-4128-A26A-D724D6D5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4B555-D418-41AF-A93A-B73C7E77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8E121-1F84-44FB-9997-6DDC421E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E9AB-9379-44CB-AF61-897D157B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D93C-0C51-4CDC-A6A0-24933B72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EB3B7-0456-4DFB-A469-193FEF40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4079C-01BC-411F-B83F-D0815E3D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A44BA-7D6F-4458-8227-F878F103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D91-2A08-4998-BA03-9F7A1D2C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68FE5-8BA8-4C93-BDA9-85E9B97D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87478-5608-426F-9982-5A4B8090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13552-CBB6-49EB-85B2-DD3A27DE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89A20-A36F-45B8-AF01-FE10CF4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7643AC-1905-4566-9554-AAE69B93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13C8D-BCB5-43E9-AB93-80CFAC9E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0BE14-7794-4047-ACDD-9867836D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19BF4-F9AA-4C03-9839-0B6AD1EC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69D2E-8D24-4D58-A1CB-D94B61E7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22FB3-9B44-4269-A183-0C0EBC60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111-7C93-440E-A8C3-3DD7294C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32B90-8343-42BE-9C5A-B9272D7C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19056-2A3D-4417-8EF5-8300BE30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70E09-D00E-432C-AC10-A573572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703AE-4C96-4683-9B6A-B8F9E36B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87DA7-220F-4218-B8C2-6CF03196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11257-8253-4F4F-B42A-7E16BE2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CB382-A602-4D83-8F87-F9705F7F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0E7F-173B-4EA4-A685-0D262B47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EAB0D-86D4-4547-BE7E-15A5AF15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A2128-BEF5-4F33-B1D8-B6666D34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63A-1B9B-490A-8809-B953368F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F75BD-0E54-44AC-949A-D3707CDE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97DB7-EAF6-441C-BACB-F457E5BE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8CED8-836F-46B5-B7EF-5A064E51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D6A41-E1DD-4C8F-A62E-0E2C36FD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F6119-EF4A-461F-8E79-0B58C56F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F2CE1-DE1D-46DD-B8D8-25D49872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09521-1035-4978-8EE7-B60558F3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7078-CF47-4E4E-A44A-F33C5BA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CA354-1E77-40CF-92CF-AED12D26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0B5AA-956F-4110-9116-5B63EB28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11E-74A7-46D5-81FC-FE36990B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AC306-BE94-4BCE-AD93-080F4E0D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A703F-56F7-4571-A042-C7F924BB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1DB73-F12B-4079-9774-5160291A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00C8C-A741-407D-B681-74B844E7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4A5DB-028C-44AB-A53B-13DE4FBF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3953B-1E1B-4CF6-B903-0B6AD982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FF481-57D3-4C51-97AF-3DE7D313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0FA87-D2BF-4DD2-9664-03802AB3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AD23D-5CE7-44FB-ABCA-0758C12C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BF22F-892E-43B7-BC34-B0DB2E0F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8C1-17AF-4540-AFFE-8502C8BF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0FB85-7353-43F7-8B87-FC6C1A45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24C22-D856-4C79-AF12-D3AE815C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C247F-FAA0-452B-AD85-BAE58042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BE984-BC96-4606-A9AE-49263BF4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722F0-B02D-41EA-A4A8-D0AD444D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E3B69-64E1-47E7-9C2D-EF6F8219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87469-4E44-473B-A0FC-6A709A38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FD6569-4019-4A2A-8A6C-C245D2E6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A03F94-E8A4-43E9-8945-238EFE50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A9493C-6877-4C58-A211-6348CD5A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B61-CA99-4468-AF65-3416C141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7FB98F-C8B0-42BF-83C4-F40E1701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5AC4E0-D944-4EE8-BC85-116FB326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9A595B-E8C3-4B05-80C7-E8E1C112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E6E92-0B6C-4213-B957-EB9D55F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82A6E2-952C-4B5E-80E9-80AD833F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C8FC3-0ECA-4BAB-AE22-DD06AB5E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34A664-7F78-464A-8FAA-A5F08335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A44AD3-1735-4969-A2F9-1BCC53D1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BC5CAB-182B-4C00-921E-33293AE5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279AAA-5153-4300-AEED-253F9CF1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17A4-03F1-4F50-8A3F-569E0BCF7BD0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12C3-6B5E-4AC5-B22D-7CA54D533A94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AF09-0D0C-4DA2-989F-001A07C6DB19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DD4D-1164-4967-AF01-55831FDF0CC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843A-3A5D-4CF7-98AC-C895E9915FF1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42EE-DC51-4D00-9911-1C61F4611B81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F4B6-41C2-48F2-AAA2-58752305A834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3FBC-30DD-45B1-A6AF-D360EDD9769B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E40D-52E9-477D-BAAD-BEDEE91A15D7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14360" y="189000"/>
            <a:ext cx="855360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511200" y="-17136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en-US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511200" y="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Роза Искандеровна Шаяхметова</cp:lastModifiedBy>
  <dcterms:modified xsi:type="dcterms:W3CDTF">2009-12-17T20:42:36Z</dcterms:modified>
  <cp:revision>21</cp:revision>
  <dc:subject/>
  <dc:title>Как анализировать свой собственный урок  (Самоанализ урока)</dc:title>
</cp:coreProperties>
</file>