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F48-0FCB-40EC-9C47-99DDAAC7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044-ABE6-44D0-87C2-8056954F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8E8934-41C7-4808-9883-E9667666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FD5E2C-373B-49DB-B10B-06875268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3D1598-1DB8-4F23-BBE2-956113EE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612B79-B86C-427E-835E-DD1C22C6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0133E9-84EC-4102-8A70-CBCC6B45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EB38F6-0FAD-4386-9F6F-5BFDB510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60DBBE-40E1-45E6-9655-9DBBCB3A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9A2B81-19C2-4EB5-88FA-D050184E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71DA84-B418-4BE3-B6D9-0B4EF538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15F-6907-4E10-908E-AC5422F7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DAC-AD16-4055-862E-39C9E446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6113D-9A99-409E-8F1E-D5113028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8BEC0-C49C-4777-B13A-39775AD9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5A52A-3474-408C-9008-0C54C997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C407C-CBB9-4386-BF65-69465F3B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C3261-913B-45A6-B8F3-A4EA230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E26F4-E9F5-44E4-8A1A-B7184160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79981-3DFF-4EC1-AE9B-94CF2921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69E-5F30-47E7-9907-352FD26E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2200F-D6DD-4B9A-A9D4-93AD04D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9FACF-F269-4043-8EF4-B20D195F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B37F7-880F-4759-AB76-223577EA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07D88-F1F8-4783-BF24-D82DE6E5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05BBB-DA55-40B5-A379-CA00FE40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6B4A-C968-4B79-8416-173B178F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D4C1-29B2-46BB-8B8E-4A57BF3F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03DE-5B1F-4BDE-B983-4267595F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269C-9B90-4A77-B512-AC0753EE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D394-74D7-4AAD-9F80-E7FA5D0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39C-A661-444A-83FE-60DB1529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F5A0-35A0-4D82-A246-C722B3E0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F8BD-890B-4F7E-84FA-C2638511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7BD2-A519-4219-A2FC-9ED83517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2720-745C-4CB7-9736-1B7D7AE6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F580-1CA4-4AEF-B652-6163481D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9150-6758-4B87-868E-BBCAA1D2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D3FB-0F82-4B71-8EF6-B92B2B93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3E77A-03EA-447F-B71F-E532F4C3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B4655-A807-42AF-A2E3-FABB402A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4DE57-CA60-4814-9779-00671858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252-AF24-407B-98A6-201F0D03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33979-88F7-4069-BE09-4C5A6838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8A6C4-E6FA-4516-A94F-F98698FD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E7ECD7-3BFB-45AF-A1E6-215C94D8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4F06D-6C99-411B-BBA3-21B6DF5F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E0B0B-4E3F-4500-84A4-D77DE296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A93F4-602B-42A9-A459-F51190B2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A8311-8D3C-46A2-99D3-FFA22F2D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6DE302-958C-48D3-B4FB-05DCD073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57B2D-EFF5-4CEF-A6DE-D714E6E6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9E423-4206-4BD4-8F64-A15DD34E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B07-F732-4193-8253-612E00FB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3731-171C-4590-9CD4-6C8E603B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BEF18-19AF-4563-8747-217D8EEA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F269-CA39-4774-9C84-DB790551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E66D7-8195-4E06-A9E0-C86A085B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39F45-C8CC-4EB9-B1E8-54DDF221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6A64A-C7DA-4459-B2E2-5AD77583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4E93B-CBCA-4B46-8DF6-3ADE1AFD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8D7F1-A05A-416B-962D-066D611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DB62-76F4-41DA-89D6-ABC5142D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5DD53-9121-4C2A-BAC5-8D7A0D7A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025-E0CB-439D-A696-D5683B8E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35BDA-2730-4717-9304-970ABC8B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E33B9-C5A5-4D21-AD6F-F60FC73C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0A507-1CDA-4C43-B70F-AF845669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520FE-CA40-477A-8712-1F8ECF50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B4A5A-CC15-467A-B7D5-F5F351D2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69933-1BAB-4E59-B1CC-080E394D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9B805-2F74-41FC-B36D-0E329BBB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4A56A-99D6-43D4-B450-0A8868DD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DFC97-E6E1-42D7-BF4D-F85BAB6B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51802-E1FC-47C9-8E68-EADDD6B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FFC-6EF5-4319-BF41-2E90EEAF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9B6F3-BDB9-4B65-A952-5E9769E2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A33D7-A38D-4144-8C15-6B161387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D9B94-2BE3-4AAB-849F-E2FE99DB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CBE3D-2761-4E5A-812C-90893B1A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B3DAD-279A-4D07-8ECB-688743B1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8DB6E-DC1A-4251-B09D-3D2B8865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AE5BB-45B5-45EF-AFE7-9DE91F95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646B3-17E0-408D-94C5-1AC4D0E5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28BBB-F531-4666-BB7A-9B2174B0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AB5CF-6E43-4571-8B90-F133EF0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E10-D56F-44C2-A4FE-2CECC82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7B16-5229-49BC-A7E6-74153031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69999-B510-4A24-A029-620726FE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06B2-4DA8-4499-8C4E-F3971924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F23E0-E723-40BD-9EF5-D51DBA02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DD26E-C05E-46C2-9C50-95504D8B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ADC75C-DD26-4CA6-ADD5-55575A42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DB4F83-6F37-4F72-A77D-CC78B70B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21625-A64D-47CD-ACEF-CA5B29F9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4B74E-57D8-4A4C-BDD5-3C00F2A5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817A31-256D-4E55-94BA-EFB97FBE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336-62F1-4AFD-8CBF-EF0B85F5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007291-C3CE-42DB-AE06-C1EB40EE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93660-4BF9-4D1B-8AA9-3F81FF7F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B41478-DB6D-4172-A8C8-70A515BE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2A1262-5338-4DBA-81ED-796D7893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2A0D4A-AAA2-4784-888A-282DB880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4B227-EDB1-4DF6-B815-F11095E6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C29B4-7F24-480E-B1FE-C488A577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0D9579-54B4-4F71-828D-24D38717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043A06-B278-43E5-87B2-43A456A0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8AA3EE-B02E-4C3D-998E-AD03CB36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F27D-7978-42E0-A24B-1B956A716B79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CFD2-A04C-4448-8092-3FD11C50AF6B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6C3B-04FE-46CE-9129-06A8A56F5EA9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2DC3-44BA-4790-9583-CCD53FFDEC1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1BDB-88DD-4FD5-A91A-8F0F4916230B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874D-DCB3-45CF-9DED-BF59227ADF17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41FD-8F38-4A0D-9B4F-5B131866A2F5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AAA7-ACBE-48FE-AED4-500E76F82C7C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1EEE-4DBD-43A4-AB93-18F423D2338B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14360" y="189000"/>
            <a:ext cx="855360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511200" y="-17136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en-US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511200" y="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Роза Искандеровна Шаяхметова</cp:lastModifiedBy>
  <dcterms:modified xsi:type="dcterms:W3CDTF">2009-12-17T20:42:36Z</dcterms:modified>
  <cp:revision>21</cp:revision>
  <dc:subject/>
  <dc:title>Как анализировать свой собственный урок  (Самоанализ урока)</dc:title>
</cp:coreProperties>
</file>