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668-FDB6-4734-8F94-762DA5FA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B7F-65BC-47C1-99E7-3B9E5F4F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B87B25-499E-43B0-8537-83CF51FD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2A48B4-0314-45E8-920D-62AD59AA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36448A-982F-45CA-ABF4-D035C851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6A4200-BCA8-49A4-A8A8-DCB24DD7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B6013E-DBEF-4DE7-A34D-6ED0E50E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F35D8B-3D2F-44F5-A1B1-EE707867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365506-21E2-48E8-97DC-FA9DC640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1071B6-3A7B-4B6F-9943-24AE580E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71D539-985C-42B8-84D3-1375CAED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0CE-BCC0-45C6-8E9D-B90146A8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6B3-5AFC-4527-8E54-2EAAE449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69137-61A1-4400-A6BA-A6C319D0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696B5-5A9C-4CD2-B79C-A7E313FC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1520E-8F50-4313-A3D6-A597C84C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72CE9-1789-4A99-A6D3-02622D27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8F7D6-5E4F-4094-A70E-12534F42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09F8C-4C07-4996-A630-D5F7BB83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21D2A-6A25-4874-A250-20A92621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913-28D4-4A79-8B09-2387E7A6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DE1EF-750F-48EA-8436-AA6FF3CD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BD5C8-B243-4478-BE75-CBD623B3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F1DF9-DA45-431A-A90F-0DA19171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E7D13-FAEA-4618-8CFD-B9D418D6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F94EC-6C03-4409-B2F9-626BC0F3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99F73-A9AD-41D2-BCB6-C4AD485D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F6D4B-8E90-4844-A1F0-3F137F62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8445D-07A9-4178-9AED-2B744152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2A06F-E65D-4641-8A18-EB475EC0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8744A-A7BE-4FDF-8E77-3222CECD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705-E4CB-4664-A0BC-4C61420E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EE2F8-38B6-4258-B97E-495246C1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0EA6A-F9C1-4B28-98FF-09E218FB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BA879-5963-47D0-9CAD-AB42466C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43FF0-BDC0-4E51-9CF8-C0202D99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B29EB-9EA3-4A01-82CD-2B05812B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CBDC4-DC37-4024-AC51-14C5087B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A85AA-CB6C-4D68-8BE3-B9FD315B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9F1508-7AB6-41F6-A0B4-5FC1991A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67D51F-5694-458B-BF73-DC86B3EA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B64E10-503A-43C7-97D6-EAB6F0E9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8B4-AC1D-49B4-AB79-7273754A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798D5-9D1A-43BE-B6E9-C6CFC166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59E7D4-FBBE-4467-AC82-32C22FF7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83EEE-6C4B-4282-8FEF-021EC528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2DE4E6-DF08-4F20-A4BB-1A1CEB94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CAD65D-DEFC-4A7B-8FC6-0F1C736B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3958C-D59B-4647-9FDA-22F67663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834709-5F87-49C3-A5E2-8A75DC6B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5AEE37-47DB-47C5-9F1E-F952D70A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4BD8B-DD1F-4ADA-88FC-35DA2DCA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BF9B1-770E-48C0-801F-E9583433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AD1-214F-4BD2-BAE0-9D36F34D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0EA49-A06A-4A92-8F87-F5C590F0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C8A69-644A-4994-B7B3-D767DC75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32D5D-D5D8-4AB7-86DF-0EA10908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BF98F-E196-44FB-AAA1-07796841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CB8D9-3162-4A2C-ADB6-550F6FE6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1E99C-AC55-4D20-B26F-51F6A3E1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A61FB-6AFF-467F-8884-1B637B8F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04192-7AAC-48C3-9AFF-D2C660BA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6F690-4925-4534-9A9B-59825060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A2040-1A06-4393-8141-A848BF92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963-4212-4B23-B896-66591F2B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B0F23-198F-4AD9-A594-DC186C46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F4A53-D435-4B3D-88C1-E087A9A8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EDCD2-DB40-4614-BF5D-34432CA5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54EA4-9B07-4001-B1A6-C1165755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67C5E-1099-492C-A5EE-876B68C3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5C090-8640-45BD-AA1F-DD38704A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6F380-141A-42CB-AB73-B6668A61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DC8D5-D7E2-496F-BDBD-330AB76D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58A27-73DA-4588-8A65-BED948D0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B9CDD-ADE5-4E77-8321-5C83C82B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B88-B574-4F85-B1FD-D7905181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60933-C8FC-44BA-9327-5C6BB8E1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7FE2A-BE1A-40F2-AF96-B664F55E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B413A-AD0D-4AD2-9999-0600DC01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83D6D-5C9A-4FBF-8935-954015AC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1588C-F108-4AB4-AE22-3AE1808A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394C2-45D6-4200-968D-565772D8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C5251-33C5-4D23-BDFB-E572D1B9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15A03-E1BA-4A1E-B1E9-023E55F1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A2DCA-DAF7-44A9-A786-4D378C41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26124-9383-4456-8959-822ECB39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F0D-D529-4D53-872B-4DE1CDDC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79CEE-DD50-4EFA-B3F1-5FCD8D71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9EA4C-72C3-42F4-8845-1B67A031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168C1-1735-41FF-AFF8-FE1EDB88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061C6-6B51-48EA-AE45-F819F374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0E891-B19B-4BA9-A949-9A0B7259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08A563-6814-4BF0-97D1-2DB9D64F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26DB66-571F-4649-9ADF-FF47C1E2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504C79-2BBC-47E4-9922-7CB56C2C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2D7659-2309-4987-9F31-BC87E610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B4B052-5D87-43D2-954B-40AF584D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BB2-8E35-4260-87FE-28E4D35E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9E06FC-7149-4BD8-B031-AC01288A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7C20FD-C194-49FF-A2F5-D8E6F66B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E28BDB-51C0-4FC9-A305-D5FFD08E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9FFC96-743C-42FC-B563-C77886B8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03EE46-7D48-4930-97ED-641461DA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FF6B7A-92D2-4401-B8FB-097E6EA0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350B00-B543-4921-9613-EF208BC0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6FC13C-C3B4-4813-B7A4-BFA365E2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6140D9-82C8-4FAA-BBD7-52F12668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788E58-4852-4DB8-BBB2-0BC55E55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605A-BC38-47D7-B470-98FC87CBEF4B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6332-1110-4848-BF1B-6A8B23BF7B26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EB41-6073-4178-AC43-89B5B7223B96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0BBA-0765-4C85-B578-22092387F761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699C-F563-46B0-B9D6-2C4B9E029EB3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453E-7955-42E9-BF82-9A9CBEF3A62B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77B6-0055-4E7C-9893-0B6253493276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8FFE-A09D-4DAB-83AB-56C674959D9E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BC40-E2AC-4618-8D5F-7687BEB8F446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414360" y="189000"/>
            <a:ext cx="8553600" cy="2468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979280" y="256536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аяхметова Р.И., директор Городского методического центр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Каким был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темп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рока? Поддерживался ли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интерес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чащихся к уроку на всем его протяжении? Как была организована смена видов деятельности учащихся на уроке? Как был организован учебный материал, что было дано в виде «готовых знаний», до чего «додумались» сами учащиеся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511200" y="-17136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Ответить на вопрос, как в ходе урока была организована опора на предыдущие знания, жизненный опыт учащихся и насколько актуальным для них был учебный материал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85840" y="164628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Очень важным для урока является та его сторона, которая связана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с контролем за деятельностью учащихся</a:t>
            </a: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Надо постараться оценить, как э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работа была организована на уроке, как контролировалась домашняя рабо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чащихся? Весь ли труд учеников был проверен? Насколько быстро и эффективно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это было сделано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14200" y="1646280"/>
            <a:ext cx="8715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ставить перед собой вопрос и постараться ответить на него: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как задавалось домашнее задание</a:t>
            </a:r>
            <a:r>
              <a:rPr b="1" lang="en-US" sz="3300" spc="-1" strike="noStrike">
                <a:solidFill>
                  <a:srgbClr val="ffffff"/>
                </a:solidFill>
                <a:latin typeface="Cambria"/>
              </a:rPr>
              <a:t>?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Был ли инструктаж детальным и четким? Было ли проверено, как учащиеся его записали? Продумана ли его проверка?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ытаться охарактеризовать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психологическую атмосферу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рока, степень доброжелательности, взаимной заинтересованности всех участников урока, характер их общения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tt-RU" sz="3200" spc="-1" strike="noStrike">
                <a:solidFill>
                  <a:srgbClr val="ffffff"/>
                </a:solidFill>
                <a:latin typeface="Cambria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емаловажным являет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настроение учителя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зменилось ли оно по сравнению с тем, каким оно было до него? В чем причин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х изменений? Что теперь, после того, как урок прошел, целесообразно был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ы изменить в нем? Что можно поставить себе в плюсы, а что в минусы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511200" y="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Педагогическая профессия по природе своей профессия творческая. Но что такое творчески работающий учитель? Понятие это довольно емкое. Если на это попытаться ответить коротко, то можно ответить так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творчески работающий учитель— это человек, обладающий в первую очередь высокой педагогической культуро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14200" y="14284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Одним из слагаемых такой культуры является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аналитическое мастерство. 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Умение анализировать свою собственную деятельность—важное качество любого человека, тем более оно важно для учителя как человека творческого. Любое творчество нередко представля</a:t>
            </a:r>
            <a:r>
              <a:rPr b="0" lang="ru-RU" sz="2700" spc="-1" strike="noStrike">
                <a:solidFill>
                  <a:srgbClr val="eaf0f6"/>
                </a:solidFill>
                <a:latin typeface="Arial"/>
              </a:rPr>
              <a:t>ет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 собой перестройку уже сложившейся деятельности, ломку старых устоявшихся представлений, переход деятельности в новое качество. А это невозможно без анализа накопленного опыта. Учитель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должен уметь анализировать свою деятельность, но в первую очередь урок как основную ее форму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f0f6"/>
                </a:solidFill>
                <a:latin typeface="Cambria"/>
              </a:rPr>
              <a:t>Первое, что должен сделать учитель, анализирующий свой урок,—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его место в теме и в общем курсе</a:t>
            </a:r>
            <a:r>
              <a:rPr b="1" lang="ru-RU" sz="3200" spc="-1" strike="noStrike">
                <a:solidFill>
                  <a:srgbClr val="e8d19d"/>
                </a:solidFill>
                <a:latin typeface="Cambria"/>
              </a:rPr>
              <a:t>,</a:t>
            </a:r>
            <a:r>
              <a:rPr b="0" lang="ru-RU" sz="32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а также задать себе вопрос,</a:t>
            </a:r>
            <a:br>
              <a:rPr sz="3200"/>
            </a:b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насколько ясным стало это место для учащихся 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пытать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соотнести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поставленные цели урока для учащихся и для учителя с достигнутыми на уроке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и определить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чины успеха или неудач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57120" y="164628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уровень формирования на уроке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наний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(логичность подачи материала, научность, доступность, трудность, нестандартность) и умений (соответствие путей формирования специальных умений общепринятым умениям, прочность отработанных умений, степень их автоматизм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тветить на вопрос, что нового дал данный урок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ля развития ума, памяти, внимания, умения слушать товарищей, высказывать свои мысли и отстаивать свою точку зрения, для формирования интереса к данному предмету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646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d19d"/>
                </a:solidFill>
                <a:latin typeface="Arial"/>
              </a:rPr>
              <a:t>5.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Подумать, насколько оптимально был выстроен урок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Соответствовал ли он вашим интересам, темпераменту, уровню учебной подготовки и развития учащихся, специфике класса? Адекватна ли была организация деятельности учащихся обучающим, развивающим и воспитывающим целям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2920" y="1646280"/>
            <a:ext cx="8786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робовать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оценить степень активности учащихся на уроке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Сколько раз и кто из них выступал на уроке, почему молчали остальные, как стимулировалась их работа, насколько были продуманы их действия при подготовке к уроку, что из этою получилось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ри этом надо руководствоваться непреложным правилом недопустимости оценки личности ученика при оценке его работы, сравнения его с другими учащимися, данного класса с другими классами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4:04Z</dcterms:created>
  <dc:creator>rinat</dc:creator>
  <dc:description/>
  <dc:language>en-US</dc:language>
  <cp:lastModifiedBy>Роза Искандеровна Шаяхметова</cp:lastModifiedBy>
  <dcterms:modified xsi:type="dcterms:W3CDTF">2009-12-17T20:42:36Z</dcterms:modified>
  <cp:revision>21</cp:revision>
  <dc:subject/>
  <dc:title>Как анализировать свой собственный урок  (Самоанализ урока)</dc:title>
</cp:coreProperties>
</file>