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A29F-D16D-4937-9F8F-CFA1592DCE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7225-0E42-40C8-91E3-E1BD7AF09B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C580-CCD8-4E84-B183-9334165B3E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A19-E2C4-4027-9862-DE4230E8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266-426F-4636-ACAE-5BA15744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B5DB-E87D-4690-9DC4-4DAAB67C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50D0-52CC-4346-87D8-5CB2AF6C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3E3B-351C-435C-938D-65FBB577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7B0B-FEC9-48F1-82C9-68685BDB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5C3-DFC4-44EB-AA43-08104D6C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9D9E-356D-4363-8C43-E6927E91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3A06-96D3-4F53-99E3-A3EB42B0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8F14-20A1-4EF9-818E-ECFF70D4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9F6C-AAF1-4D24-BAE2-B115567F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9FF-A6C2-44FF-82ED-014FECA8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5952-CD09-46FF-A386-7A14CEA263BE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.M.Pahomova@gmai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сероссийский конкурс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Учитель года России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Рекомендации при подготовке к конкурс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E.M.Pahomova@gmail.c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53520" cy="1279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дготовке выступления  и  в самом выступлен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пределении собственных концептуальных пози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выделении в собственном педагогическом опыте наиболее ценных составля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азательности актуальности и новизны применяемых методов, способов, технологий обучения и воспитания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чествен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 логичном представлении  собствен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 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мпетент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самоанали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ного учебного занятия в соответствии с представленны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предмета разговора, т.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О ЧЁМ ВЫ ХОТИТ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РАССКАЗАТЬ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объёма информации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Вы хотите рассказать свою педагогическую биографию или представить на обсуждение 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f497d"/>
                </a:solidFill>
                <a:latin typeface="Verdana"/>
              </a:rPr>
              <a:t>ЧТО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формы представления своего опыта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Помним: жанр конкурса – это не защита диссертации, но и не бурный поток сознан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На построении логики выступ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ЧТО? Откуда взялось?  Кем придума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ЧЕГО (достижения какого результата) использует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КАК разрабатывалось и приобретало практические очертания и технологические конструк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жет именно здесь сказать о взаимодействии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ути взаимодействия ( С КЕМ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Условия реализа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И постоянно помним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образования – одно из основных требован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учебных занятий – один из основных критериев конкурсны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зада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3870720" y="3244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Мероприятия 2-ого тур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Разговор с учащимис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Беседа с родителя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Verdana"/>
              </a:rPr>
              <a:t>Найдите слова-синони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ефлекс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содержания, использованных технологий и достигнутых результатов поставленным целя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замысла и реально развернувшейся учебной ситу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точность анализа учебного занятия и рефлексии своей деятельнос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ремятся увидеть члены жюр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содержанием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оригинальность раскрытия темы учебного занят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успешной работы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снованность использованных методов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предметность 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онкурсные задания – 2013 год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етодическое объединени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еминар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азговор с учащими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седа с родителям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5717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Беседа с учащимис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(регламент до 20 минут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Формат: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суждение с учащимися актуального для них вопроса в режиме импров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писок возможных вопросов для обсуждения , возрастной и количественный состав группы учащихся определяются участниками финала конкурса на установочном семинар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кретный вопрос для обсуждения  выбирают учащиеся на основе списка возможных вопросов непосредственно перед началом и представитель учащихся называет вопрос, выбранный групп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ритерии оценивания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убина и воспитательная ценность организованного обсуждени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создавать и поддерживать атмосферу взаимоуважения и толерантност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организовывать взаимодействие учащихся между собо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слушать, слышать и понимать позиции учащихся, адекватно и педагогически целесообразно реагировать на них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включить каждого учащегося в обсуждение и формирование вывод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Разговор с родителя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ритерии оцениван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выявить и сформулировать педагогическую проблему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найти и предложить пути реш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взаимодействовать с коллегами и родителям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в принятии коллективного реш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Мероприятия 3-го тур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5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ученического, педагогического, родительского сообществ и общественности, отражающего значение преподаваемого предмета для формирования мировоззрения и общекультурных компетен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Verdana"/>
              </a:rPr>
              <a:t>Что такое мастер-класс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ребования к участнику конкурса: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41536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убо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етод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дакт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готов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;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нания психолого-педагогических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еоретических оснований представляемого опыта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нимани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ременных концепций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1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вести ревизию своего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2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пределить тему представляемого опыта, сформулировать е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3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ставить план свое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4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написать текст выступ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5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отнести свое выступление с предъявляемыми в условиях конкурса критериям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6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- подготовить компьютерную презентацию к своему выступлению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7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трепетировать выступление перед публикой (зеркало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мерный (возможный) план выступл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Что? Зачем? Как? Что получа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 опыта (проблема из противоречий в образован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, задачи, которые ставите для решения пробле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ления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я (сотрудничеств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и, методики, используемые в работе (найти «изюминку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 (прогнозируемый и реаль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е педагогическое кре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и прав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ические ц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хема 3" descr=""/>
          <p:cNvPicPr/>
          <p:nvPr/>
        </p:nvPicPr>
        <p:blipFill>
          <a:blip r:embed="rId1"/>
          <a:stretch/>
        </p:blipFill>
        <p:spPr>
          <a:xfrm>
            <a:off x="517680" y="176040"/>
            <a:ext cx="8418240" cy="144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785880" y="1844280"/>
            <a:ext cx="785808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«Методическое объединение</a:t>
            </a: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 (семинар)</a:t>
            </a: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Verdana"/>
              </a:rPr>
              <a:t>ил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представление  педагогического  опыта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(по  идее конкурса  -  инновационного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Желаю успехов всем участникам конкурса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3" descr="j0301252"/>
          <p:cNvPicPr/>
          <p:nvPr/>
        </p:nvPicPr>
        <p:blipFill>
          <a:blip r:embed="rId1"/>
          <a:stretch/>
        </p:blipFill>
        <p:spPr>
          <a:xfrm>
            <a:off x="2209680" y="2674800"/>
            <a:ext cx="40388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ческий семинар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егламент до 12 минут, включая вопрос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Формат: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стное представление конкурсантом своего профессионального опыта как опыта, сформировавшегося при взаимодействии с коллегами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лями различных предметов, педагогами и специалистами образовательных учреждений    разных типов и видов, родителями учеников, общественными организациями, работниками   науки, культуры, сферы здравоохранения, представителями других сфе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и оценива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   выявлять и применять инновационные идеи в своей  профессиональной деятельности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взаимодействовать с аудиторией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эффективность внедрения инноваций в педагогическую практику, ценность педагогических социальных системных  эффектов, эффективность представленных форм взаимодействия, практическая значимость представленных форм трансляции опыта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широта кругозора, психолого-педагогическая и методическая грамотность, понимание государственной стратегии в области образования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логичность изложения материала, связная устная речь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мение взаимодействовать с аудитори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эмоциональное воздействие на аудиторию, культура использования ИКТ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хема 3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7505640" cy="117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400" spc="-1" strike="noStrike">
                <a:solidFill>
                  <a:srgbClr val="1f497d"/>
                </a:solidFill>
                <a:latin typeface="Verdana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6:24:41Z</dcterms:created>
  <dc:creator>Пахомова</dc:creator>
  <dc:description/>
  <dc:language>en-US</dc:language>
  <cp:lastModifiedBy>Гузалия Гилязовна Ибатуллина</cp:lastModifiedBy>
  <dcterms:modified xsi:type="dcterms:W3CDTF">2012-12-18T11:54:58Z</dcterms:modified>
  <cp:revision>35</cp:revision>
  <dc:subject/>
  <dc:title>Представление опыта</dc:title>
</cp:coreProperties>
</file>