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581-4061-497F-ACA0-5AF7D4FB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E5D-3F97-4569-85E7-D1FCC3F3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BE1A3C-D0DC-4A29-B992-5E85D37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A2968B-A0C4-4F8D-82CE-91A4311F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D42C77-BA5A-4FB3-B243-AD54CE32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F46D7D-C2B9-4E87-B9AB-84172C2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E64849-8B76-4A59-AB34-3F5E3389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26B780-0E8E-4A7E-85B3-01E305B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3C116F-D8A5-4385-8696-64665BDB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AEE496-BE54-474A-B073-AFBE7D99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BD4D89-D059-4BA0-91BF-484D6A74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F6B-A15A-416E-97C7-9E2E08CC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7E6-F9B2-479A-9253-10204235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1A466-AEF5-4D46-9084-64BF9F88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C0B57-3000-4CF1-926A-314DC424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1F33B-F39C-4982-ACC4-A52E4A54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2B10D-A096-4F3D-95E4-7EFE1007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D127C-D96E-492A-B27D-B1489D6E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F2014-A0CE-4116-8D4A-BC57907E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EE4E8-FE11-4E43-9011-6B5D6172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67F-0D95-45D0-8B1C-54BAE10D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E9A8E-B080-4AF0-B18D-F9097F3B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DD390-C0F2-454E-BB6D-4842BA79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48966-49E9-4E62-9F73-46F493E0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A3E84-8C35-497A-85DF-51EC9F85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29AD0-9EF9-4BA2-9F28-86EF9920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A750-37B8-4ED9-BC6E-15C67E95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81C76-0AB9-4CAD-9826-EE5E01A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01FC-831F-45DA-A67D-7D4C8AFE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3C79-EC4B-4C5B-B6EF-5BC96B38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B6B3-E967-481F-8399-0D1C047A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B2A-EE95-4F00-A706-89DBFAFD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B55D-8638-4275-81B9-7A1F9CDC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FCB9-50AE-42DF-82D9-A35A79C8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1AA16-E56B-41BC-9DAF-3AE4483D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7ABC-FFCE-4FFE-A68E-C1D6B3D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6680-A1B6-4A58-9653-CE778A15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95DF-2E4F-4332-A19E-38D88B05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20EF-035D-46B5-BEAF-8E4E7029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F23FC2-11FD-4549-A6A4-A075D9C8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3A047-8FD4-476E-81D7-FE151F79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38FE9-B6CF-4D14-B5B6-C9832287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D8B-BB15-46AE-A9EB-059A8D38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F61EC-0A20-4081-9E91-338415ED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E4C94-CA64-40C2-A9F0-A72FFD6B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44166-1802-4BFE-B063-723E0F01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8AA85-98F3-4F69-A515-C999232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8E7CF-1800-4DF0-8DD4-262B579C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F03B9-51E2-4968-9B9C-8B5CC5BC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A0C2D-7FBE-4A90-829E-33E34629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1BDD4-D204-4D5B-B5B5-ED39C398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BDFAB-0770-434A-9E31-AA5261CF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074C-4B4E-42A4-8C7E-4A8A51B9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0B4-F0EC-4013-894E-51F2B1CF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67F18-8AAC-4D1B-809B-69390A48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F89E9-9192-43B5-BC78-A32C675D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BEC1C-1200-4DCF-B69C-CF84D3D7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A8D7-8236-4213-9FD0-1114C714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74341-B580-43C8-8A6F-82A31AB9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C7F1D-1017-406F-8C2D-CD4C812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9D96E-592E-4C21-B5AC-752D2082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2E673-32A9-45E6-B332-7F1478CF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2FEA-584F-4986-93AA-CB54252C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643AB-2B3C-4B5E-B01C-E17C4112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372-A6C0-4152-BAE8-D50E74FD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2F088-3F65-415D-ABD5-71569DCA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B65BF-E091-439F-A556-4967A879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FC678-5A7B-421E-B75F-35260581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65AF9-3CA9-4D2F-A376-4DA747DB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70124-F7E5-4B9A-B972-D793DFF8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0DC1A-E40F-42F9-B70B-052AC3CD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B8697-B941-4560-A170-9FBEEF67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9E515-46AD-496B-8303-C327FE4F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5AC47-72A2-4FFB-A9D3-BAE3709C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A9AD0-82B6-47A6-982F-D49E4075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4B7-5E3B-49FC-97B7-F7F04DAA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148E1-0C2D-446E-8DDD-06E184BE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DB94C-D92A-4206-AE4F-00F5A33D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4A525-0D0B-4262-85C7-EB85D083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1CC3A-4C95-4D5A-96DE-0F7295CE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ED2C1-F539-42EA-A5A6-D241D1D2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04A12-43E4-4F27-9AB3-CED8322D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D52CA-F865-4D35-BA21-E7E7BEA3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2ADA-13AB-4652-9C18-B2749ED0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B2848-60A7-4577-8E32-6CE3F446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5734A-C7D5-4B83-81D4-F4CC3E97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0DE-083F-4BC3-B073-B9A06799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58A87-A99F-48AD-8CC9-5E5A5AB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56B62-4D18-4CDC-8147-47AB1D98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71D6B-BEFB-4DE1-A0EB-B0B3447F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B38A9-4152-41AC-A714-D0B163BA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ECCDA-638B-4F65-9C7D-81FABDDD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8FC65-96AB-4E1D-8415-91673FEA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21F678-F0BD-4321-92CE-F693B90D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3091FD-4490-405B-8AB6-D571EEA1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9F675A-2E9A-42A1-B347-ACAF367C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64ABCF-B6D7-495F-A839-BA59D262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B34-69DC-4E44-A6CE-13D7D2BE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A6FDC-B6D5-444C-A9A6-AA688A4A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93B654-605D-4803-AF5A-D1F75C8A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FBB0C-7A56-485E-9BF6-4604B9DD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3E9CB1-9C5E-4F97-AAB9-7A696FC4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92D9EF-B792-4BF8-9E77-BFA20DE3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82A39-BD69-4BC2-A46A-DF864BF9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349E7-B529-4ECF-A467-C42BF05D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AB5782-3CB9-4D03-B91D-5A36AE7C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2863DA-A18F-4810-9F2A-1DC4CBAB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A10B7E-D4E9-41C6-85C7-9CEED955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8953-E34B-42A2-A2A9-2294DE44936D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4805-852F-495E-90EB-CA7885835305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A621-ABB7-46F9-A1E0-17B960A3B5A7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628-116C-47FB-A2E8-653821DA2D99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F195-382D-42A1-AFA4-86B5FD2E4F0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1143-24A9-41AE-B76A-233BC84DCD1D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06CD-CB31-4952-9823-309B32613E2F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05B5-BB5C-4840-8660-9D1EA55A32E7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1AEB-0DBE-4B48-A5B5-484F9B17C01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14360" y="189000"/>
            <a:ext cx="855360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511200" y="-17136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en-US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511200" y="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Роза Искандеровна Шаяхметова</cp:lastModifiedBy>
  <dcterms:modified xsi:type="dcterms:W3CDTF">2009-12-17T20:42:36Z</dcterms:modified>
  <cp:revision>21</cp:revision>
  <dc:subject/>
  <dc:title>Как анализировать свой собственный урок  (Самоанализ урока)</dc:title>
</cp:coreProperties>
</file>