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DD73-A4EF-431D-90A8-321293709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E3B6-4FCA-4E06-85A1-DA9F1261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CEC3-D116-4AB9-8B49-17C6F87D1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F640-D4E6-421C-B74F-0829FCD55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0CC4-C9D4-4CF7-8F69-5B6EE5FF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E024-A16D-4742-B68E-CE84BA93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D740-8093-4EAF-B257-9E0C4FF7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2005-0608-4CF8-911A-96B8F314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77DB-30FA-4610-95FC-80908442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2B94-22B3-4CC4-B229-44CD7ADF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A589-C619-494A-9ADE-F4DA07EF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C92E-1CBC-4B95-9043-325FEE32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189000"/>
          <a:ext cx="9144000" cy="79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9000"/>
                    <a:ext cx="91440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b9ad9"/>
              </a:gs>
              <a:gs pos="100000">
                <a:srgbClr val="1d52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7640" y="-3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5943240" y="6508440"/>
            <a:ext cx="28954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3428640" y="653688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4928-29E4-431A-A1CF-EBA3FEB3D0FD}" type="slidenum">
              <a:rPr b="1" lang="en-US" sz="1000" spc="-1" strike="noStrike">
                <a:solidFill>
                  <a:srgbClr val="1d528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6014880"/>
            <a:ext cx="13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5843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Рекомендации по разработке компетентностно – ориентированных заданий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28600" y="5181120"/>
            <a:ext cx="8686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Verdana"/>
              </a:rPr>
              <a:t>И. И. Миронова, методист ГМЦ</a:t>
            </a: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924360" y="5877000"/>
            <a:ext cx="1371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ем отличаются КОЗ от традиционных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Они базируются на знаниях и умениях, но требуют умения применять накопленные знания в практической деятельности. Назначение компетентностно-ориентированных заданий – включить учащихся в решение «жизненной»  проблемной задачи.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 узнать КОЗ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Во-первых, это деятельностное задание; во-вторых, оно моделирует практическую, жизненную ситуацию; в-третьих, оно строится на актуальном для учащихся материале; в-четвёртых, его структура задаётся  особыми элементами.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труктура КОЗ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528d"/>
                </a:solidFill>
                <a:latin typeface="Verdana"/>
              </a:rPr>
              <a:t>стимул</a:t>
            </a:r>
            <a:endParaRPr b="1" lang="en-US" sz="3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528d"/>
                </a:solidFill>
                <a:latin typeface="Verdana"/>
              </a:rPr>
              <a:t>задачная формулировка</a:t>
            </a:r>
            <a:endParaRPr b="1" lang="en-US" sz="3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528d"/>
                </a:solidFill>
                <a:latin typeface="Verdana"/>
              </a:rPr>
              <a:t>источник информации</a:t>
            </a:r>
            <a:endParaRPr b="1" lang="en-US" sz="3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528d"/>
                </a:solidFill>
                <a:latin typeface="Verdana"/>
              </a:rPr>
              <a:t>бланк для выполнения задания (если оно подразумевает структурированный ответ)</a:t>
            </a:r>
            <a:endParaRPr b="1" lang="en-US" sz="3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528d"/>
                </a:solidFill>
                <a:latin typeface="Verdana"/>
              </a:rPr>
              <a:t>инструмент проверки</a:t>
            </a:r>
            <a:endParaRPr b="1" lang="en-US" sz="3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тиму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1125360"/>
            <a:ext cx="79930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ccff"/>
              </a:gs>
              <a:gs pos="100000">
                <a:srgbClr val="93daf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мотивирует ученика на выполнение задания,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включает описание ситуации или другие условия задачи,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которые играют роль источника информации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2492280"/>
            <a:ext cx="85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d528d"/>
                </a:solidFill>
                <a:latin typeface="Arial"/>
              </a:rPr>
              <a:t>Функции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мотивирует учащегося на выполнение задания;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моделирует практическую, жизненную ситуацию;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при необходимости может нести функцию источника информации.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436572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d528d"/>
                </a:solidFill>
                <a:latin typeface="Arial"/>
              </a:rPr>
              <a:t>Стимул должен:</a:t>
            </a: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быть кратким;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НЕ отвлекать учащегося от содержания задания.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дачная формулиров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1125360"/>
            <a:ext cx="79930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ccff"/>
              </a:gs>
              <a:gs pos="100000">
                <a:srgbClr val="93daf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Задачная формулировка понимается однозначно,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четко соотносится с модельным ответом \ шкалой,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соответствует возрасту учащегося, интересна учащемуся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249228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Мы не можем проверять то, что не требовали в задачной формулировке. Мы обязаны проверять то, что предписывали в задачной формулировке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точник информ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1125360"/>
            <a:ext cx="79930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ccff"/>
              </a:gs>
              <a:gs pos="100000">
                <a:srgbClr val="93daf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Источник информации  содержит информацию,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обходимую для успешной деятельности учащегос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по выполнению задания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" y="249228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Необходим и достаточен для выполнения заданной деятельности, интересен, соответствует возрасту учащихся</a:t>
            </a: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386064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На одном источнике (наборе источников) может строиться несколько заданий. Учащийся не должен быть знаком с источником до выполнения задания.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струмент провер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4360" y="1125360"/>
            <a:ext cx="79930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ccff"/>
              </a:gs>
              <a:gs pos="100000">
                <a:srgbClr val="93daf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определяет количество баллов за каждый этап деятельности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и общий итог в зависимости от сложности учебного материала,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дополнительных видов деятельности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2492280"/>
            <a:ext cx="85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d528d"/>
                </a:solidFill>
                <a:latin typeface="Arial"/>
              </a:rPr>
              <a:t>Инструментом проверки может быть: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· Ключ - используется для тестовых заданий закрытого типа.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· Модельный ответ – обычно используется для открытых тестовых заданий с кратким ответом.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· Аналитическая шкала - используется для открытых тестовых заданий с развёрнутым ответом.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· Бланк наблюдений за групповой работой – используется для оценки вклада каждого участника в групповой продукт и эффективности деятельности всей группы в целом.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68360" y="836640"/>
          <a:ext cx="8229600" cy="5632200"/>
        </p:xfrm>
        <a:graphic>
          <a:graphicData uri="http://schemas.openxmlformats.org/drawingml/2006/table">
            <a:tbl>
              <a:tblPr/>
              <a:tblGrid>
                <a:gridCol w="3790800"/>
                <a:gridCol w="1359000"/>
                <a:gridCol w="1494000"/>
                <a:gridCol w="15858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9a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9a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9a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9ad9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дание выполнено правильно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дание выполнено частично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дание выполнено неверно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с большим количеством ошибок)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Прогнозирование содержания текста по заголовку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Поиск ключевых слов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Основная мысль текста по ключевым словам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Работа с незнакомыми словами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Перевод предложений с незнакомыми словами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Ответы на вопросы по тексту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 КОЗ по биологи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076400"/>
            <a:ext cx="843588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Verdana"/>
              </a:rPr>
              <a:t>Вы, ученик 6 класса, помогаете своему младшему брату (сестре, другу, подруге) готовиться к викторине по природоведению. На вопрос: «Какой орган у картофеля мы употребляем в пищу?», получили ответ: «Плод». Этот ответ вас смутил, ведь вы знаете, что на самом деле плоды картофеля ядовиты и можно употреблять в пищу только клубни - видоизмененные побеги. </a:t>
            </a: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Verdana"/>
              </a:rPr>
              <a:t>На рисунке представлен клубень картофеля № 1, который является видоизмененным побегом, и побег дерева с почками № 2.</a:t>
            </a: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Verdana"/>
              </a:rPr>
              <a:t>Внимательно рассмотрите рисунки. Что объединяет и в чём отличие биологических объектов, изображённых на рисунке? Почему нельзя назвать клубень картофеля плодом?</a:t>
            </a: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Verdana"/>
              </a:rPr>
              <a:t>Представление результатов. Заполните таблицу:</a:t>
            </a: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71640" y="2637000"/>
          <a:ext cx="1993680" cy="145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637000"/>
                    <a:ext cx="1993680" cy="14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971640" y="5373720"/>
          <a:ext cx="7777080" cy="669960"/>
        </p:xfrm>
        <a:graphic>
          <a:graphicData uri="http://schemas.openxmlformats.org/drawingml/2006/table">
            <a:tbl>
              <a:tblPr/>
              <a:tblGrid>
                <a:gridCol w="3889440"/>
                <a:gridCol w="38876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Сходства объектов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Различия объектов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1700280"/>
            <a:ext cx="7416720" cy="1728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Arial"/>
              </a:rPr>
              <a:t>Планируемые результаты в рамках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Arial"/>
              </a:rPr>
              <a:t>компетентностного подхода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3933720"/>
            <a:ext cx="7416720" cy="179244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ccff"/>
              </a:gs>
              <a:gs pos="100000">
                <a:srgbClr val="93daf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Arial"/>
              </a:rPr>
              <a:t>Фундаментальные цели образования,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Arial"/>
              </a:rPr>
              <a:t>соответствующие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Arial"/>
              </a:rPr>
              <a:t>пониманию ключевых компетенций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68360" y="1125360"/>
            <a:ext cx="8280360" cy="4319640"/>
          </a:xfrm>
          <a:prstGeom prst="downArrowCallout">
            <a:avLst>
              <a:gd name="adj1" fmla="val -14348"/>
              <a:gd name="adj2" fmla="val 19036"/>
              <a:gd name="adj3" fmla="val 17514"/>
              <a:gd name="adj4" fmla="val 79056"/>
            </a:avLst>
          </a:prstGeom>
          <a:gradFill rotWithShape="0">
            <a:gsLst>
              <a:gs pos="0">
                <a:srgbClr val="1b9ad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8000" y="333000"/>
            <a:ext cx="8928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Verdana"/>
              </a:rPr>
              <a:t>В документах ЮНЕСКО цели сформулированы так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учить получать знания (учить учиться)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учить работать и зарабатывать (учение для труда)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учить жить (учение для бытия)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учить жить вместе (учение для совместной жизни)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5516640"/>
            <a:ext cx="8136000" cy="86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b9ad9"/>
              </a:gs>
            </a:gsLst>
            <a:lin ang="5400000"/>
          </a:gra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558972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ответствуют целям нашего школьного образования, сформулированным в ФГО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Компетентности в современном обществе»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Дж. Равен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способность работать самостоятельно без постоянного руководства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способность брать на себя ответственность по собственной инициативе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способность проявлять инициативу, не спрашивая других, следует ли это делать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готовность замечать проблемы и искать пути их решения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анализировать новые ситуации и применять уже имеющиеся знания для такого анализа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способность уживаться с другими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способность осваивать какие-либо знания по собственной инициативе (т.е. учитывая свой опыт и обратную связь с окружающими)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умение принимать решения на основе здравых суждений, т.е. не располагая всем необходимым материалом и не имея возможности обработать информацию математически.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ехуровневая иерархия компетентностей (А. В. Хуторской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d528d"/>
                </a:solidFill>
                <a:uFillTx/>
                <a:latin typeface="Verdana"/>
              </a:rPr>
              <a:t>ключевые компетенции</a:t>
            </a:r>
            <a:r>
              <a:rPr b="1" lang="ru-RU" sz="2400" spc="-1" strike="noStrike">
                <a:solidFill>
                  <a:srgbClr val="1d528d"/>
                </a:solidFill>
                <a:latin typeface="Verdana"/>
              </a:rPr>
              <a:t>, которые относятся к общему (метапредметному) содержанию образования;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d528d"/>
                </a:solidFill>
                <a:uFillTx/>
                <a:latin typeface="Verdana"/>
              </a:rPr>
              <a:t>общепредметные компетенции</a:t>
            </a:r>
            <a:r>
              <a:rPr b="1" lang="ru-RU" sz="2400" spc="-1" strike="noStrike">
                <a:solidFill>
                  <a:srgbClr val="1d528d"/>
                </a:solidFill>
                <a:latin typeface="Verdana"/>
              </a:rPr>
              <a:t>, которые относятся к определённому кругу учебных предметов и образовательных областей;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d528d"/>
                </a:solidFill>
                <a:uFillTx/>
                <a:latin typeface="Verdana"/>
              </a:rPr>
              <a:t>предметные компетенции</a:t>
            </a:r>
            <a:r>
              <a:rPr b="1" lang="ru-RU" sz="2400" spc="-1" strike="noStrike">
                <a:solidFill>
                  <a:srgbClr val="1d528d"/>
                </a:solidFill>
                <a:latin typeface="Verdana"/>
              </a:rPr>
              <a:t> – частные по отношению к двум предыдущим компетенциям, имеющие конкретное описание и возможность формирования в рамках учебных предметов.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Компетентностно – ориентированные задания являются способом оценки результатов в рамках компетентностного подхода.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700360" y="3213000"/>
            <a:ext cx="381636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стественнонаучная грамотность характеризуется тремя составляющим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d528d"/>
                </a:solidFill>
                <a:uFillTx/>
                <a:latin typeface="Verdana"/>
              </a:rPr>
              <a:t>знаниевый компонент</a:t>
            </a:r>
            <a:r>
              <a:rPr b="1" lang="ru-RU" sz="2400" spc="-1" strike="noStrike">
                <a:solidFill>
                  <a:srgbClr val="1d528d"/>
                </a:solidFill>
                <a:latin typeface="Verdana"/>
              </a:rPr>
              <a:t>, в который входят знания об окружающем мире и знания о естественных науках;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d528d"/>
                </a:solidFill>
                <a:uFillTx/>
                <a:latin typeface="Verdana"/>
              </a:rPr>
              <a:t>компетентностный компонент</a:t>
            </a:r>
            <a:r>
              <a:rPr b="1" lang="ru-RU" sz="2400" spc="-1" strike="noStrike">
                <a:solidFill>
                  <a:srgbClr val="1d528d"/>
                </a:solidFill>
                <a:latin typeface="Verdana"/>
              </a:rPr>
              <a:t>, под которым понимают умения применять имеющиеся научные знания к жизненным ситуациям;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d528d"/>
                </a:solidFill>
                <a:uFillTx/>
                <a:latin typeface="Verdana"/>
              </a:rPr>
              <a:t>аффективный компонент</a:t>
            </a:r>
            <a:r>
              <a:rPr b="1" lang="ru-RU" sz="2400" spc="-1" strike="noStrike">
                <a:solidFill>
                  <a:srgbClr val="1d528d"/>
                </a:solidFill>
                <a:latin typeface="Verdana"/>
              </a:rPr>
              <a:t>, который оценивает интерес и любознательность к естественным наукам.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мения, которые проверяют в КОЗ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распознавать вопросы, идеи или проблемы, которые могут быть исследованы научными методами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выделять информацию (объекты, факты, экспериментальные данные и др.), необходимую для нахождения доказательств или подтверждения выводов при проведении научного исследования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делать вывод (заключение) или оценивать уже сделанный вывод с учётом предложенной ситуации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демонстрировать коммуникативные умения: аргументировано, чётко и ясно формулировать выводы, доказательства и др.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демонстрировать знание и понимание естественнонаучных понятий.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Как составить компетентностно – ориентированные задания?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411280" y="2708280"/>
            <a:ext cx="396108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08:04:37Z</dcterms:created>
  <dc:creator>user</dc:creator>
  <dc:description/>
  <dc:language>en-US</dc:language>
  <cp:lastModifiedBy>user</cp:lastModifiedBy>
  <dcterms:modified xsi:type="dcterms:W3CDTF">2012-12-04T13:10:58Z</dcterms:modified>
  <cp:revision>13</cp:revision>
  <dc:subject/>
  <dc:title>PowerPoint Template</dc:title>
</cp:coreProperties>
</file>