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6FAD-59D3-49BB-9321-FCB6C5E2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B8DF-4A69-4B14-AFEE-6574A78D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760F-E4B7-4532-80A9-FA4726F9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C54F-D155-4B88-BF0E-CCC3B39A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B42E-A420-4DFF-8A1D-6B24275D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1129-AAB7-4CF2-92E3-78A51446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9D55-F922-4535-83AF-F7C726AA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EC41-C9A8-41E7-BFA3-916EDD0C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0491-A048-4BBE-8855-3E258A67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1181-D4C0-46F0-9188-4920D900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9061-243B-4E76-B4C3-C6FC32D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60B7-4C6C-4269-B43C-BB73D85A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895C-3086-402F-AA76-6E9724D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C176-1049-4B66-8C8F-8C1B6161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73C3-3949-4F6E-9055-609FEEF1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B360B-3EA8-4651-BAC3-63437ADB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2220-251D-46AA-A56A-760453F2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59DD-5983-40A1-BAA4-0CB47A87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5EAD-A30A-4E0F-90BB-9C3660A3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15C4-1704-4EDB-8146-83FE1860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284F-343D-46A9-9475-EEE4967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0669-21E6-4224-BE33-3D68DDF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E1DD-D564-41AB-AA36-9A4F25AF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D798-BF14-4ECD-A02A-01D587AA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E789-209E-47D6-B94C-523B1EC211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4592-6E65-4CEB-8400-AAB53678C2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13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хнология «Дебаты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8055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мение говорить – это наикратчайший путь к известности … И почти каждый человек может говорить так, что будет приятен и желанен в обществе, если он обладает верой в себя и людей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. Карне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развивают деба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огическое и критическое 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в организации своих мыс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уст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мпатию и терпимость к различным взгляд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ренность в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работать в коман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с концентрироваться на сути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обретается навык публичного вы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успешно вести переговоры и спо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Этапы действий  внутри груп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судить предложенную тему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списо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финиций,  аргументов (7-10) с выделением (1-2) первостепенных и выводом- 10 минут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бор  спикеров для участия в дебатах (2 человека), подготовка их выступления – 5 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91640" y="284040"/>
            <a:ext cx="7488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лгоритм выступления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ветствие слуша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ение команды и самого себ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упление (обоснование актуальности тем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нятий (дефиниций) т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ргумента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веты на вопро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лю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дарность за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проведения дебат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в группе – 1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1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руктивная реч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5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рестные вопросы из аудитории и ответы на них – 4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ительный спич – 1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2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действо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итогов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4.12.1927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81 год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В Ленинграде при Публичной библиотеке создается фонотека для хранения граммофонных пластинок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лжны ли сегодня храниться пластинки в библиоте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4832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12.1781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227 лет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В Сореле (Квебек) зажжена первая в Канаде рождественская елк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песня о ёлке луч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7158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ленькой елочк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6000" y="2715840"/>
            <a:ext cx="4038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 лесу родилась ёлочк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внес больший вклад в литературу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з поэтов, родившихся 24 декабр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ан Рамон ХИМЕНЕС (1881-29.5.1958)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127 лет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испанский поэт, Нобелевский лауреат 195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ник ИВАНОВ (187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130 ле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русский поэт, революционер, идеолог левых эсе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9:27:18Z</dcterms:created>
  <dc:creator>2</dc:creator>
  <dc:description/>
  <dc:language>en-US</dc:language>
  <cp:lastModifiedBy>Администратор</cp:lastModifiedBy>
  <dcterms:modified xsi:type="dcterms:W3CDTF">2008-12-24T04:50:49Z</dcterms:modified>
  <cp:revision>49</cp:revision>
  <dc:subject/>
  <dc:title>Формы организации методической работы в ИКТ-насыщенной школе.</dc:title>
</cp:coreProperties>
</file>