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C4F-A6AA-4638-B258-600B8340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E30-4A9D-4451-A687-6DFEC10A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D12-580F-48F9-8E96-7A1F252F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70A-BA3E-4503-BE66-C7866E1C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E904-D96A-4364-A270-00A5947A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6301-4833-44AF-8047-3B84D71E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788D-DC26-43FB-BDB5-337C6004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C580-7F86-46ED-91BF-A541B426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D6A6-915D-4078-98DB-BB7842B5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0472-3491-4520-9F97-293864A6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C028-5130-4DBF-9AD7-1F3A67A9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3C4-F08B-4275-8114-DBC00AAD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B152-CAA7-41DB-A622-126C0A7B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4931-85C2-4AFC-B87F-92F7B8F5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A2EE-B957-4797-9FB4-932A0BCF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C322-CC28-4C56-9842-8D8A1179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8E5B-EF63-4AEB-B63C-FFAA401A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3D3-F3C7-44C9-8FE6-384278F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96B-7D44-44CA-B1F8-E17351B4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3AB-152B-42F9-87A7-F7E7C691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39A-4DF5-4942-87BC-551CCC88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DE9-4948-4548-B8F0-10C944BD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5CF-C690-4F98-BC8C-46E3C90F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12B-BCC5-4B9C-9CD6-E2588F89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9DE1-B352-4BE6-A11B-4BE4E17CA6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C6A6-E29A-4370-9AB6-FC2EB8F220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учно-методическое обеспечение концептуальной модел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Школа методического мастерств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мова Лариса Владимировна, заведующая информационно-методическим отдел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ородского методического центра по Советскому район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Единая методическая тема района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 2010 – 2015 г.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инципы выбора единой методической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темы, значимость для системы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емственность (с предыдущей темой ОУ, с нынешней темой рай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спективность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агност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стем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сурсообеспеч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выбрать единую методическую тему ОУ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аботы ОУ по предыдущей теме, выявление проблем образования в 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условий (статус ОУ, цели, задачи ОУ, характеристика контингента учащихся, перспективное планирование т.д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есурсов (кадровые, материально-технические, информационные и другие ресур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1828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ормы организации методической работы над единой те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кетирование учителей для деятельного осмысления целей предстоящей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здание творческих и проблемных груп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методических недель по единой научно-методической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бота временных инициативных групп по подготовке к педагогическим и методическим советам, семинар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ытно-эксперимента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, анкетир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 уч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ПК учителей,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ие отчеты уч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Алгоритм деятельности педагогического коллектива по реализации методической тем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психолого-педагогической литературы по методической теме образовательного учр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я педагогического опыта коллектива по подготовке к реализации методической темы (диагностика, выявление проблемных з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ирование модели реализации методической темы (определение подтем каждого этапа, задач, программы реализации тем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ка содержания образовательной среды, создание банка валидных диагно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робация и корректировка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дрение в массовую практ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передового педагогического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ормативно-правовое обеспечение деятельности методической службы ОУ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кон РФ «Об образовани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иповое положение об общеобразовательном учреж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каз Министерства образования РФ №90-М от 16.08.94 (определяет содержательную сферу методической работы в различных областях 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став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грамма развития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тельная программа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довой план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окальные а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объедин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творческой группе уч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научно-практической конференции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16600" y="3808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Маркет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образовательных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7200" y="2895480"/>
            <a:ext cx="225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правленческ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ордина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43000"/>
            <a:ext cx="4876920" cy="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143000"/>
            <a:ext cx="0" cy="11430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9625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29718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49568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840" y="12193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нали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87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ормиру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6680" y="213372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нформ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1360" y="205740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ттест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8800" y="33526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Проектирово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констр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8680" y="4800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1120" y="54100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Нау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040" y="5105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Внедрен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920" y="3276720"/>
            <a:ext cx="18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ункциональн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ункции методической служб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беспечение педагогов профессиональной информаци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налит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диагностика и анализ учебно-воспитательного процесс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ующа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омощь, участие в разработке инновационных программ, методик, учебно-методических комплек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ттест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выявление, поддержка и распространение управленческого и педагогического опы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ектировочно-конструктив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проектирование индивидуальной траектории профессионального развития педагог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б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методическое сопровождение предметных обл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научно-исследовательской работы ОУ, поддержка экспериментальной работы педагог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едрен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бор, внедрение и тиражирование педагогических материалов; организация и проведение семинаров, конференций, практикум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я социально-педагогической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индивидуального консультирования и профессиональной поддержки педагогов; повышения квалификации педагогических кадров; помощь в проведении профессиональных конкур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владения педагогическими знани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педагогами современных педагогических технологий, методик, приемов и способов успешного обучения и воспит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итие у учителей интереса, потребности к формированию и совершенствованию умения заниматься творческой педагогической деятель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педагогического мастерства, в том числе педагогической 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ние условий и выработка у педагогов потребности в самообразова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ирование и развитие устойчивых профессиональных взглядов и цен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на практике современных способов диагностирования ученической успешности, методик воспитания, саморазвития, самосовершенствования, самореализ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держка и сопровождение педагогов, разрабатывающих и реализующих авторские программы, курсы, методики, пособ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онное обеспечение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ение в практику работы с учащимися и педагогами научной организации труда (НО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и поддержка созидательной, конструктивной педагогическо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 и поддержка экспериментальной и инновационной деятельност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разнообразных стимулов, способов и организационных решений для повышения квалификаци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ловий для зарождения, развития, объективной оценки и широкого использования ценностного педагогическ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, стимулирование, содействие общественно-педагогической деятельности педаг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2600" y="38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2200" y="266688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ло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пеш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ущест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тод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22096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1911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27432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64832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914400"/>
            <a:ext cx="181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иагностиче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4240" y="838080"/>
            <a:ext cx="15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рганизаци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спех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0280" y="2157480"/>
            <a:ext cx="193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че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8120" y="2081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Встреч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Стимулирование в процесс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работы и по результатам 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724280"/>
            <a:ext cx="189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спольз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еиму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икрогруппов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7680" y="5257800"/>
            <a:ext cx="184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сурс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еспеч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разователь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це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7040" y="512928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1440" y="3300480"/>
            <a:ext cx="160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инци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о-методическое обеспечение мо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агностический, _____/___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447920"/>
            <a:ext cx="274320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лиз затруднений учителе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тояния УВ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тивореч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ждающихся в ликвид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1523880"/>
            <a:ext cx="28195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блем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основание ее актуа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грамма реализации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905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581280"/>
            <a:ext cx="2819520" cy="2590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учение коллективом те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ы на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совет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етод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минар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их оператив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индивидуальной и групп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е с учи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работе по само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оретическое исследование проблемы, ____/____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962520"/>
            <a:ext cx="2743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копление теорет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 по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ктическое исследование проблемы, _____/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447920"/>
            <a:ext cx="320040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целью практ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авленности этой раб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я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атические пед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минары-практику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ые уроки, внекласс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роприятия,взаимопосе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523880"/>
            <a:ext cx="281952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енствование учеб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ного процесс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ирование ППО в рам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ы по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95680"/>
            <a:ext cx="327672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ферен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тупления с самообобщ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а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орческие отч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ические выста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63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едение итогов работы по проблеме, пропаганда ППО, ____/_____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495680"/>
            <a:ext cx="274320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стематизация накоплен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ние педагог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льманаха по пробле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0-10-26T20:58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